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6AB-6F0A-4ACA-8460-3391A56C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BD7-61C0-433F-9BEC-4B26619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6DD-D5E9-4ECC-939E-9891E7E4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F2C-8EF5-4401-85A9-CDD1C9FB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2AFB-41BF-4BF1-A647-20131D37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B4CB-26BF-4EC1-B647-8F2A6517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1D35-2995-4B3A-B978-6A63092A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EB30-808B-4C5F-936B-3DE0C99D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3DF1-4166-45E7-9C0D-E679161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90A4-F9F3-45F5-BB63-D62E24A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77B2-1B21-4127-8FD0-9A45DD3E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447-FEA4-4BD4-9C59-7F53F603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C215-2753-44D2-AB1F-03C14812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CCB3-362C-4F9A-BCBD-90979AD8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F553-972D-4BB6-8F16-AE3DDC81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0CC0-204F-4F39-8E73-0742D184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1F60-E5C4-445F-9F87-C7F593E9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407-B2CE-4736-A4B7-7EC425A1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526-9791-4AC7-910E-EDB51523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E8A-8F4B-44DF-B002-B5BB5E64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01D-1620-4E71-A82B-B99239C7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687-5137-4940-A377-291BEC2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AAD-8DB9-477E-979A-0F21EFAD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1EF-4E46-4E19-999E-CAC842DD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3C36-63FA-4DA6-8DA2-6E129396B9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08DC-4C09-41E5-BF93-9DB0214F64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12: Integer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Inte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6134040" y="1795320"/>
            <a:ext cx="2376720" cy="285840"/>
          </a:xfrm>
          <a:custGeom>
            <a:avLst/>
            <a:gdLst/>
            <a:ahLst/>
            <a:rect l="l" t="t" r="r" b="b"/>
            <a:pathLst>
              <a:path w="6599" h="794">
                <a:moveTo>
                  <a:pt x="17090" y="5606"/>
                </a:moveTo>
                <a:cubicBezTo>
                  <a:pt x="17129" y="5704"/>
                  <a:pt x="17146" y="5717"/>
                  <a:pt x="17140" y="5779"/>
                </a:cubicBezTo>
              </a:path>
              <a:path w="6599" h="794">
                <a:moveTo>
                  <a:pt x="17041" y="5308"/>
                </a:moveTo>
                <a:cubicBezTo>
                  <a:pt x="17049" y="5300"/>
                  <a:pt x="17058" y="5291"/>
                  <a:pt x="17066" y="5283"/>
                </a:cubicBezTo>
              </a:path>
              <a:path w="6599" h="794">
                <a:moveTo>
                  <a:pt x="17066" y="5283"/>
                </a:moveTo>
                <a:lnTo>
                  <a:pt x="17066" y="5283"/>
                </a:lnTo>
              </a:path>
              <a:path w="6599" h="794">
                <a:moveTo>
                  <a:pt x="17462" y="5135"/>
                </a:moveTo>
                <a:cubicBezTo>
                  <a:pt x="17571" y="5309"/>
                  <a:pt x="17686" y="5490"/>
                  <a:pt x="17686" y="5705"/>
                </a:cubicBezTo>
                <a:cubicBezTo>
                  <a:pt x="17666" y="5746"/>
                  <a:pt x="17668" y="5762"/>
                  <a:pt x="17636" y="5755"/>
                </a:cubicBezTo>
              </a:path>
              <a:path w="6599" h="794">
                <a:moveTo>
                  <a:pt x="17314" y="5482"/>
                </a:moveTo>
                <a:cubicBezTo>
                  <a:pt x="17489" y="5455"/>
                  <a:pt x="17791" y="5364"/>
                  <a:pt x="17934" y="5531"/>
                </a:cubicBezTo>
                <a:cubicBezTo>
                  <a:pt x="17975" y="5579"/>
                  <a:pt x="17977" y="5717"/>
                  <a:pt x="17983" y="5779"/>
                </a:cubicBezTo>
              </a:path>
              <a:path w="6599" h="794">
                <a:moveTo>
                  <a:pt x="17909" y="5209"/>
                </a:moveTo>
                <a:lnTo>
                  <a:pt x="17909" y="5209"/>
                </a:lnTo>
                <a:lnTo>
                  <a:pt x="17909" y="5209"/>
                </a:lnTo>
              </a:path>
              <a:path w="6599" h="794">
                <a:moveTo>
                  <a:pt x="17909" y="5209"/>
                </a:moveTo>
                <a:lnTo>
                  <a:pt x="17909" y="5209"/>
                </a:lnTo>
              </a:path>
              <a:path w="6599" h="794">
                <a:moveTo>
                  <a:pt x="22746" y="4986"/>
                </a:moveTo>
                <a:cubicBezTo>
                  <a:pt x="22783" y="5210"/>
                  <a:pt x="22832" y="5428"/>
                  <a:pt x="22845" y="5655"/>
                </a:cubicBezTo>
              </a:path>
              <a:path w="6599" h="794">
                <a:moveTo>
                  <a:pt x="23044" y="5110"/>
                </a:moveTo>
                <a:lnTo>
                  <a:pt x="23044" y="5110"/>
                </a:lnTo>
                <a:lnTo>
                  <a:pt x="23044" y="5110"/>
                </a:lnTo>
              </a:path>
              <a:path w="6599" h="794">
                <a:moveTo>
                  <a:pt x="23044" y="5110"/>
                </a:moveTo>
                <a:lnTo>
                  <a:pt x="23044" y="5110"/>
                </a:lnTo>
              </a:path>
              <a:path w="6599" h="794">
                <a:moveTo>
                  <a:pt x="23316" y="5333"/>
                </a:moveTo>
                <a:cubicBezTo>
                  <a:pt x="23384" y="5446"/>
                  <a:pt x="23431" y="5533"/>
                  <a:pt x="23515" y="5631"/>
                </a:cubicBezTo>
                <a:cubicBezTo>
                  <a:pt x="23558" y="5524"/>
                  <a:pt x="23600" y="5417"/>
                  <a:pt x="23639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49880" y="1893960"/>
            <a:ext cx="858960" cy="401400"/>
          </a:xfrm>
          <a:custGeom>
            <a:avLst/>
            <a:gdLst/>
            <a:ahLst/>
            <a:rect l="l" t="t" r="r" b="b"/>
            <a:pathLst>
              <a:path w="2382" h="1117">
                <a:moveTo>
                  <a:pt x="14585" y="5779"/>
                </a:moveTo>
                <a:cubicBezTo>
                  <a:pt x="14751" y="5779"/>
                  <a:pt x="14915" y="5760"/>
                  <a:pt x="15081" y="5755"/>
                </a:cubicBezTo>
                <a:cubicBezTo>
                  <a:pt x="15089" y="5755"/>
                  <a:pt x="15098" y="5755"/>
                  <a:pt x="15106" y="5755"/>
                </a:cubicBezTo>
              </a:path>
              <a:path w="2382" h="1117">
                <a:moveTo>
                  <a:pt x="15453" y="5507"/>
                </a:moveTo>
                <a:cubicBezTo>
                  <a:pt x="15512" y="5774"/>
                  <a:pt x="15547" y="6027"/>
                  <a:pt x="15553" y="6300"/>
                </a:cubicBezTo>
                <a:cubicBezTo>
                  <a:pt x="15553" y="6376"/>
                  <a:pt x="15553" y="6400"/>
                  <a:pt x="15528" y="6300"/>
                </a:cubicBezTo>
              </a:path>
              <a:path w="2382" h="1117">
                <a:moveTo>
                  <a:pt x="15280" y="5407"/>
                </a:moveTo>
                <a:cubicBezTo>
                  <a:pt x="15476" y="5298"/>
                  <a:pt x="15905" y="5107"/>
                  <a:pt x="15949" y="5507"/>
                </a:cubicBezTo>
                <a:cubicBezTo>
                  <a:pt x="15967" y="5676"/>
                  <a:pt x="15645" y="6177"/>
                  <a:pt x="15453" y="5904"/>
                </a:cubicBezTo>
                <a:cubicBezTo>
                  <a:pt x="15461" y="5871"/>
                  <a:pt x="15470" y="5837"/>
                  <a:pt x="15478" y="5804"/>
                </a:cubicBezTo>
              </a:path>
              <a:path w="2382" h="1117">
                <a:moveTo>
                  <a:pt x="16371" y="5308"/>
                </a:moveTo>
                <a:cubicBezTo>
                  <a:pt x="16205" y="5359"/>
                  <a:pt x="16049" y="5547"/>
                  <a:pt x="16123" y="5755"/>
                </a:cubicBezTo>
                <a:cubicBezTo>
                  <a:pt x="16156" y="5788"/>
                  <a:pt x="16189" y="5821"/>
                  <a:pt x="16222" y="5854"/>
                </a:cubicBezTo>
                <a:cubicBezTo>
                  <a:pt x="16330" y="5800"/>
                  <a:pt x="16763" y="5541"/>
                  <a:pt x="16421" y="5432"/>
                </a:cubicBezTo>
                <a:cubicBezTo>
                  <a:pt x="16325" y="5401"/>
                  <a:pt x="16243" y="5385"/>
                  <a:pt x="16173" y="5457"/>
                </a:cubicBezTo>
              </a:path>
              <a:path w="2382" h="1117">
                <a:moveTo>
                  <a:pt x="16718" y="5358"/>
                </a:moveTo>
                <a:cubicBezTo>
                  <a:pt x="16669" y="5407"/>
                  <a:pt x="16652" y="5424"/>
                  <a:pt x="16619" y="5457"/>
                </a:cubicBezTo>
                <a:cubicBezTo>
                  <a:pt x="16763" y="5493"/>
                  <a:pt x="16938" y="5532"/>
                  <a:pt x="16966" y="5705"/>
                </a:cubicBezTo>
                <a:cubicBezTo>
                  <a:pt x="17004" y="5936"/>
                  <a:pt x="16750" y="5909"/>
                  <a:pt x="16619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27880" y="1911240"/>
            <a:ext cx="285840" cy="169920"/>
          </a:xfrm>
          <a:custGeom>
            <a:avLst/>
            <a:gdLst/>
            <a:ahLst/>
            <a:rect l="l" t="t" r="r" b="b"/>
            <a:pathLst>
              <a:path w="795" h="472">
                <a:moveTo>
                  <a:pt x="18132" y="5333"/>
                </a:moveTo>
                <a:cubicBezTo>
                  <a:pt x="18230" y="5442"/>
                  <a:pt x="18301" y="5533"/>
                  <a:pt x="18380" y="5655"/>
                </a:cubicBezTo>
                <a:cubicBezTo>
                  <a:pt x="18434" y="5524"/>
                  <a:pt x="18454" y="5433"/>
                  <a:pt x="18554" y="5333"/>
                </a:cubicBezTo>
              </a:path>
              <a:path w="795" h="472">
                <a:moveTo>
                  <a:pt x="18728" y="5383"/>
                </a:moveTo>
                <a:cubicBezTo>
                  <a:pt x="18816" y="5400"/>
                  <a:pt x="18859" y="5400"/>
                  <a:pt x="18926" y="5333"/>
                </a:cubicBezTo>
                <a:cubicBezTo>
                  <a:pt x="18743" y="5302"/>
                  <a:pt x="18525" y="5386"/>
                  <a:pt x="18529" y="5631"/>
                </a:cubicBezTo>
                <a:cubicBezTo>
                  <a:pt x="18609" y="5789"/>
                  <a:pt x="18645" y="5838"/>
                  <a:pt x="18802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4920" y="1901880"/>
            <a:ext cx="152280" cy="117360"/>
          </a:xfrm>
          <a:custGeom>
            <a:avLst/>
            <a:gdLst/>
            <a:ahLst/>
            <a:rect l="l" t="t" r="r" b="b"/>
            <a:pathLst>
              <a:path w="422" h="324">
                <a:moveTo>
                  <a:pt x="19819" y="5283"/>
                </a:moveTo>
                <a:cubicBezTo>
                  <a:pt x="19841" y="5366"/>
                  <a:pt x="19944" y="5625"/>
                  <a:pt x="19819" y="5581"/>
                </a:cubicBezTo>
                <a:cubicBezTo>
                  <a:pt x="19724" y="5533"/>
                  <a:pt x="19695" y="5516"/>
                  <a:pt x="19621" y="5531"/>
                </a:cubicBezTo>
                <a:cubicBezTo>
                  <a:pt x="19593" y="5531"/>
                  <a:pt x="19587" y="5533"/>
                  <a:pt x="19621" y="5556"/>
                </a:cubicBezTo>
                <a:cubicBezTo>
                  <a:pt x="19755" y="5548"/>
                  <a:pt x="19884" y="5528"/>
                  <a:pt x="20017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39040" y="1911240"/>
            <a:ext cx="884160" cy="384120"/>
          </a:xfrm>
          <a:custGeom>
            <a:avLst/>
            <a:gdLst/>
            <a:ahLst/>
            <a:rect l="l" t="t" r="r" b="b"/>
            <a:pathLst>
              <a:path w="2457" h="1068">
                <a:moveTo>
                  <a:pt x="20662" y="5383"/>
                </a:moveTo>
                <a:cubicBezTo>
                  <a:pt x="20662" y="5510"/>
                  <a:pt x="20677" y="5630"/>
                  <a:pt x="20687" y="5755"/>
                </a:cubicBezTo>
                <a:cubicBezTo>
                  <a:pt x="20627" y="5595"/>
                  <a:pt x="20685" y="5478"/>
                  <a:pt x="20762" y="5333"/>
                </a:cubicBezTo>
                <a:cubicBezTo>
                  <a:pt x="20998" y="5370"/>
                  <a:pt x="21055" y="5471"/>
                  <a:pt x="21034" y="5730"/>
                </a:cubicBezTo>
                <a:cubicBezTo>
                  <a:pt x="21026" y="5746"/>
                  <a:pt x="21018" y="5763"/>
                  <a:pt x="21010" y="5779"/>
                </a:cubicBezTo>
              </a:path>
              <a:path w="2457" h="1068">
                <a:moveTo>
                  <a:pt x="21158" y="5482"/>
                </a:moveTo>
                <a:cubicBezTo>
                  <a:pt x="21240" y="5461"/>
                  <a:pt x="21414" y="5516"/>
                  <a:pt x="21406" y="5432"/>
                </a:cubicBezTo>
                <a:cubicBezTo>
                  <a:pt x="21398" y="5416"/>
                  <a:pt x="21390" y="5399"/>
                  <a:pt x="21382" y="5383"/>
                </a:cubicBezTo>
                <a:cubicBezTo>
                  <a:pt x="21297" y="5317"/>
                  <a:pt x="21128" y="5243"/>
                  <a:pt x="21109" y="5432"/>
                </a:cubicBezTo>
                <a:cubicBezTo>
                  <a:pt x="21079" y="5729"/>
                  <a:pt x="21221" y="5695"/>
                  <a:pt x="21431" y="5730"/>
                </a:cubicBezTo>
              </a:path>
              <a:path w="2457" h="1068">
                <a:moveTo>
                  <a:pt x="22002" y="5407"/>
                </a:moveTo>
                <a:cubicBezTo>
                  <a:pt x="21832" y="5337"/>
                  <a:pt x="21693" y="5497"/>
                  <a:pt x="21679" y="5680"/>
                </a:cubicBezTo>
                <a:cubicBezTo>
                  <a:pt x="21652" y="6043"/>
                  <a:pt x="21954" y="5587"/>
                  <a:pt x="21977" y="5531"/>
                </a:cubicBezTo>
                <a:cubicBezTo>
                  <a:pt x="21977" y="5523"/>
                  <a:pt x="21977" y="5515"/>
                  <a:pt x="21977" y="5507"/>
                </a:cubicBezTo>
                <a:cubicBezTo>
                  <a:pt x="22005" y="5700"/>
                  <a:pt x="22130" y="6010"/>
                  <a:pt x="22027" y="6201"/>
                </a:cubicBezTo>
                <a:cubicBezTo>
                  <a:pt x="21848" y="6531"/>
                  <a:pt x="21567" y="6334"/>
                  <a:pt x="21456" y="6152"/>
                </a:cubicBezTo>
              </a:path>
              <a:path w="2457" h="1068">
                <a:moveTo>
                  <a:pt x="22523" y="5507"/>
                </a:moveTo>
                <a:cubicBezTo>
                  <a:pt x="22476" y="5402"/>
                  <a:pt x="22436" y="5400"/>
                  <a:pt x="22324" y="5358"/>
                </a:cubicBezTo>
                <a:cubicBezTo>
                  <a:pt x="22254" y="5418"/>
                  <a:pt x="22025" y="5810"/>
                  <a:pt x="22324" y="5730"/>
                </a:cubicBezTo>
                <a:cubicBezTo>
                  <a:pt x="22461" y="5694"/>
                  <a:pt x="22474" y="5566"/>
                  <a:pt x="22498" y="5457"/>
                </a:cubicBezTo>
                <a:cubicBezTo>
                  <a:pt x="22532" y="5592"/>
                  <a:pt x="22583" y="5607"/>
                  <a:pt x="22696" y="5680"/>
                </a:cubicBezTo>
              </a:path>
              <a:path w="2457" h="1068">
                <a:moveTo>
                  <a:pt x="22523" y="5333"/>
                </a:moveTo>
                <a:cubicBezTo>
                  <a:pt x="22694" y="5317"/>
                  <a:pt x="22850" y="5286"/>
                  <a:pt x="23019" y="5333"/>
                </a:cubicBezTo>
                <a:cubicBezTo>
                  <a:pt x="23136" y="5366"/>
                  <a:pt x="23095" y="5587"/>
                  <a:pt x="23118" y="5680"/>
                </a:cubicBezTo>
                <a:cubicBezTo>
                  <a:pt x="23118" y="5664"/>
                  <a:pt x="23118" y="5647"/>
                  <a:pt x="23118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28040" y="1874880"/>
            <a:ext cx="125280" cy="162000"/>
          </a:xfrm>
          <a:custGeom>
            <a:avLst/>
            <a:gdLst/>
            <a:ahLst/>
            <a:rect l="l" t="t" r="r" b="b"/>
            <a:pathLst>
              <a:path w="349" h="447">
                <a:moveTo>
                  <a:pt x="23788" y="5407"/>
                </a:moveTo>
                <a:cubicBezTo>
                  <a:pt x="23875" y="5342"/>
                  <a:pt x="23966" y="5312"/>
                  <a:pt x="23937" y="5209"/>
                </a:cubicBezTo>
                <a:cubicBezTo>
                  <a:pt x="23826" y="5243"/>
                  <a:pt x="23604" y="5385"/>
                  <a:pt x="23688" y="5556"/>
                </a:cubicBezTo>
                <a:cubicBezTo>
                  <a:pt x="23761" y="5706"/>
                  <a:pt x="23933" y="5635"/>
                  <a:pt x="24036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16840" y="2224080"/>
            <a:ext cx="857160" cy="7920"/>
          </a:xfrm>
          <a:custGeom>
            <a:avLst/>
            <a:gdLst/>
            <a:ahLst/>
            <a:rect l="l" t="t" r="r" b="b"/>
            <a:pathLst>
              <a:path w="2383" h="26">
                <a:moveTo>
                  <a:pt x="19769" y="6201"/>
                </a:moveTo>
                <a:cubicBezTo>
                  <a:pt x="19777" y="6201"/>
                  <a:pt x="19786" y="6201"/>
                  <a:pt x="19794" y="6201"/>
                </a:cubicBezTo>
              </a:path>
              <a:path w="2383" h="26">
                <a:moveTo>
                  <a:pt x="19794" y="6201"/>
                </a:moveTo>
                <a:lnTo>
                  <a:pt x="19794" y="6201"/>
                </a:lnTo>
              </a:path>
              <a:path w="2383" h="26">
                <a:moveTo>
                  <a:pt x="22151" y="6176"/>
                </a:moveTo>
                <a:cubicBezTo>
                  <a:pt x="22151" y="6184"/>
                  <a:pt x="22151" y="6193"/>
                  <a:pt x="22151" y="6201"/>
                </a:cubicBezTo>
              </a:path>
              <a:path w="2383" h="26">
                <a:moveTo>
                  <a:pt x="22151" y="6201"/>
                </a:moveTo>
                <a:lnTo>
                  <a:pt x="22151" y="62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49920" y="2197080"/>
            <a:ext cx="1117440" cy="204840"/>
          </a:xfrm>
          <a:custGeom>
            <a:avLst/>
            <a:gdLst/>
            <a:ahLst/>
            <a:rect l="l" t="t" r="r" b="b"/>
            <a:pathLst>
              <a:path w="3102" h="571">
                <a:moveTo>
                  <a:pt x="15974" y="6350"/>
                </a:moveTo>
                <a:cubicBezTo>
                  <a:pt x="15974" y="6442"/>
                  <a:pt x="15995" y="6531"/>
                  <a:pt x="15999" y="6623"/>
                </a:cubicBezTo>
                <a:cubicBezTo>
                  <a:pt x="15999" y="6639"/>
                  <a:pt x="15999" y="6656"/>
                  <a:pt x="15999" y="6672"/>
                </a:cubicBezTo>
                <a:cubicBezTo>
                  <a:pt x="15999" y="6525"/>
                  <a:pt x="16002" y="6423"/>
                  <a:pt x="16073" y="6300"/>
                </a:cubicBezTo>
                <a:cubicBezTo>
                  <a:pt x="16232" y="6391"/>
                  <a:pt x="16308" y="6470"/>
                  <a:pt x="16346" y="6648"/>
                </a:cubicBezTo>
              </a:path>
              <a:path w="3102" h="571">
                <a:moveTo>
                  <a:pt x="16470" y="6276"/>
                </a:moveTo>
                <a:cubicBezTo>
                  <a:pt x="16496" y="6394"/>
                  <a:pt x="16520" y="6492"/>
                  <a:pt x="16570" y="6598"/>
                </a:cubicBezTo>
                <a:cubicBezTo>
                  <a:pt x="16745" y="6616"/>
                  <a:pt x="16740" y="6507"/>
                  <a:pt x="16793" y="6350"/>
                </a:cubicBezTo>
                <a:cubicBezTo>
                  <a:pt x="16793" y="6426"/>
                  <a:pt x="16786" y="6602"/>
                  <a:pt x="16892" y="6598"/>
                </a:cubicBezTo>
                <a:cubicBezTo>
                  <a:pt x="17007" y="6540"/>
                  <a:pt x="17049" y="6507"/>
                  <a:pt x="17066" y="6400"/>
                </a:cubicBezTo>
              </a:path>
              <a:path w="3102" h="571">
                <a:moveTo>
                  <a:pt x="17090" y="6276"/>
                </a:moveTo>
                <a:cubicBezTo>
                  <a:pt x="17095" y="6397"/>
                  <a:pt x="17104" y="6504"/>
                  <a:pt x="17115" y="6623"/>
                </a:cubicBezTo>
                <a:cubicBezTo>
                  <a:pt x="17098" y="6519"/>
                  <a:pt x="17053" y="6355"/>
                  <a:pt x="17190" y="6300"/>
                </a:cubicBezTo>
                <a:cubicBezTo>
                  <a:pt x="17307" y="6253"/>
                  <a:pt x="17355" y="6502"/>
                  <a:pt x="17363" y="6573"/>
                </a:cubicBezTo>
                <a:cubicBezTo>
                  <a:pt x="17363" y="6521"/>
                  <a:pt x="17340" y="6275"/>
                  <a:pt x="17438" y="6300"/>
                </a:cubicBezTo>
                <a:cubicBezTo>
                  <a:pt x="17559" y="6331"/>
                  <a:pt x="17540" y="6501"/>
                  <a:pt x="17562" y="6598"/>
                </a:cubicBezTo>
              </a:path>
              <a:path w="3102" h="571">
                <a:moveTo>
                  <a:pt x="17562" y="6102"/>
                </a:moveTo>
                <a:cubicBezTo>
                  <a:pt x="17618" y="6260"/>
                  <a:pt x="17671" y="6419"/>
                  <a:pt x="17735" y="6573"/>
                </a:cubicBezTo>
                <a:cubicBezTo>
                  <a:pt x="17735" y="6471"/>
                  <a:pt x="17769" y="6300"/>
                  <a:pt x="17909" y="6300"/>
                </a:cubicBezTo>
                <a:cubicBezTo>
                  <a:pt x="18121" y="6300"/>
                  <a:pt x="18055" y="6524"/>
                  <a:pt x="18033" y="6623"/>
                </a:cubicBezTo>
                <a:cubicBezTo>
                  <a:pt x="17857" y="6644"/>
                  <a:pt x="17863" y="6642"/>
                  <a:pt x="17735" y="6524"/>
                </a:cubicBezTo>
              </a:path>
              <a:path w="3102" h="571">
                <a:moveTo>
                  <a:pt x="18058" y="6474"/>
                </a:moveTo>
                <a:cubicBezTo>
                  <a:pt x="18128" y="6469"/>
                  <a:pt x="18302" y="6468"/>
                  <a:pt x="18355" y="6424"/>
                </a:cubicBezTo>
                <a:cubicBezTo>
                  <a:pt x="18355" y="6390"/>
                  <a:pt x="18346" y="6377"/>
                  <a:pt x="18306" y="6375"/>
                </a:cubicBezTo>
                <a:cubicBezTo>
                  <a:pt x="18157" y="6462"/>
                  <a:pt x="18122" y="6518"/>
                  <a:pt x="18207" y="6672"/>
                </a:cubicBezTo>
                <a:cubicBezTo>
                  <a:pt x="18320" y="6631"/>
                  <a:pt x="18441" y="6410"/>
                  <a:pt x="18479" y="6524"/>
                </a:cubicBezTo>
                <a:cubicBezTo>
                  <a:pt x="18479" y="6565"/>
                  <a:pt x="18479" y="6590"/>
                  <a:pt x="18479" y="6623"/>
                </a:cubicBezTo>
                <a:cubicBezTo>
                  <a:pt x="18501" y="6503"/>
                  <a:pt x="18524" y="6340"/>
                  <a:pt x="18653" y="6300"/>
                </a:cubicBezTo>
                <a:cubicBezTo>
                  <a:pt x="18725" y="6278"/>
                  <a:pt x="18826" y="6300"/>
                  <a:pt x="18901" y="6300"/>
                </a:cubicBezTo>
                <a:cubicBezTo>
                  <a:pt x="18825" y="6376"/>
                  <a:pt x="18791" y="6386"/>
                  <a:pt x="18926" y="6424"/>
                </a:cubicBezTo>
                <a:cubicBezTo>
                  <a:pt x="19034" y="6446"/>
                  <a:pt x="19071" y="6439"/>
                  <a:pt x="19075" y="6524"/>
                </a:cubicBezTo>
                <a:cubicBezTo>
                  <a:pt x="18952" y="6612"/>
                  <a:pt x="18905" y="6610"/>
                  <a:pt x="18752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43840" y="2178000"/>
            <a:ext cx="1116000" cy="339840"/>
          </a:xfrm>
          <a:custGeom>
            <a:avLst/>
            <a:gdLst/>
            <a:ahLst/>
            <a:rect l="l" t="t" r="r" b="b"/>
            <a:pathLst>
              <a:path w="3101" h="944">
                <a:moveTo>
                  <a:pt x="19844" y="6350"/>
                </a:moveTo>
                <a:cubicBezTo>
                  <a:pt x="19855" y="6460"/>
                  <a:pt x="19948" y="6779"/>
                  <a:pt x="19918" y="6672"/>
                </a:cubicBezTo>
                <a:cubicBezTo>
                  <a:pt x="19910" y="6639"/>
                  <a:pt x="19901" y="6606"/>
                  <a:pt x="19893" y="6573"/>
                </a:cubicBezTo>
              </a:path>
              <a:path w="3101" h="944">
                <a:moveTo>
                  <a:pt x="20067" y="6524"/>
                </a:moveTo>
                <a:cubicBezTo>
                  <a:pt x="20092" y="6573"/>
                  <a:pt x="20101" y="6590"/>
                  <a:pt x="20117" y="6623"/>
                </a:cubicBezTo>
                <a:cubicBezTo>
                  <a:pt x="20117" y="6521"/>
                  <a:pt x="20089" y="6410"/>
                  <a:pt x="20166" y="6325"/>
                </a:cubicBezTo>
                <a:cubicBezTo>
                  <a:pt x="20313" y="6165"/>
                  <a:pt x="20398" y="6511"/>
                  <a:pt x="20389" y="6598"/>
                </a:cubicBezTo>
                <a:cubicBezTo>
                  <a:pt x="20381" y="6615"/>
                  <a:pt x="20373" y="6631"/>
                  <a:pt x="20365" y="6648"/>
                </a:cubicBezTo>
              </a:path>
              <a:path w="3101" h="944">
                <a:moveTo>
                  <a:pt x="20588" y="6350"/>
                </a:moveTo>
                <a:cubicBezTo>
                  <a:pt x="20464" y="6423"/>
                  <a:pt x="20515" y="6512"/>
                  <a:pt x="20563" y="6623"/>
                </a:cubicBezTo>
                <a:cubicBezTo>
                  <a:pt x="20616" y="6580"/>
                  <a:pt x="20664" y="6498"/>
                  <a:pt x="20712" y="6474"/>
                </a:cubicBezTo>
              </a:path>
              <a:path w="3101" h="944">
                <a:moveTo>
                  <a:pt x="20737" y="6276"/>
                </a:moveTo>
                <a:cubicBezTo>
                  <a:pt x="20712" y="6349"/>
                  <a:pt x="20717" y="6233"/>
                  <a:pt x="20662" y="6226"/>
                </a:cubicBezTo>
                <a:cubicBezTo>
                  <a:pt x="20646" y="6234"/>
                  <a:pt x="20629" y="6243"/>
                  <a:pt x="20613" y="6251"/>
                </a:cubicBezTo>
              </a:path>
              <a:path w="3101" h="944">
                <a:moveTo>
                  <a:pt x="21010" y="6052"/>
                </a:moveTo>
                <a:cubicBezTo>
                  <a:pt x="21029" y="6209"/>
                  <a:pt x="21053" y="6365"/>
                  <a:pt x="21059" y="6524"/>
                </a:cubicBezTo>
                <a:cubicBezTo>
                  <a:pt x="21059" y="6532"/>
                  <a:pt x="21059" y="6540"/>
                  <a:pt x="21059" y="6548"/>
                </a:cubicBezTo>
              </a:path>
              <a:path w="3101" h="944">
                <a:moveTo>
                  <a:pt x="21183" y="6276"/>
                </a:moveTo>
                <a:cubicBezTo>
                  <a:pt x="21203" y="6373"/>
                  <a:pt x="21231" y="6475"/>
                  <a:pt x="21258" y="6573"/>
                </a:cubicBezTo>
                <a:cubicBezTo>
                  <a:pt x="21405" y="6548"/>
                  <a:pt x="21392" y="6468"/>
                  <a:pt x="21431" y="6350"/>
                </a:cubicBezTo>
                <a:cubicBezTo>
                  <a:pt x="21431" y="6358"/>
                  <a:pt x="21431" y="6367"/>
                  <a:pt x="21431" y="6375"/>
                </a:cubicBezTo>
                <a:cubicBezTo>
                  <a:pt x="21503" y="6566"/>
                  <a:pt x="21418" y="6550"/>
                  <a:pt x="21654" y="6573"/>
                </a:cubicBezTo>
              </a:path>
              <a:path w="3101" h="944">
                <a:moveTo>
                  <a:pt x="21903" y="6350"/>
                </a:moveTo>
                <a:cubicBezTo>
                  <a:pt x="21752" y="6333"/>
                  <a:pt x="21706" y="6468"/>
                  <a:pt x="21630" y="6598"/>
                </a:cubicBezTo>
                <a:cubicBezTo>
                  <a:pt x="21801" y="6684"/>
                  <a:pt x="21955" y="6633"/>
                  <a:pt x="21977" y="6400"/>
                </a:cubicBezTo>
                <a:cubicBezTo>
                  <a:pt x="21987" y="6300"/>
                  <a:pt x="21940" y="6202"/>
                  <a:pt x="21878" y="6152"/>
                </a:cubicBezTo>
                <a:cubicBezTo>
                  <a:pt x="21954" y="6283"/>
                  <a:pt x="21979" y="6451"/>
                  <a:pt x="22027" y="6598"/>
                </a:cubicBezTo>
                <a:cubicBezTo>
                  <a:pt x="22070" y="6728"/>
                  <a:pt x="22123" y="6470"/>
                  <a:pt x="22151" y="6400"/>
                </a:cubicBezTo>
                <a:cubicBezTo>
                  <a:pt x="22151" y="6445"/>
                  <a:pt x="22171" y="6622"/>
                  <a:pt x="22175" y="6623"/>
                </a:cubicBezTo>
                <a:cubicBezTo>
                  <a:pt x="22183" y="6606"/>
                  <a:pt x="22192" y="6590"/>
                  <a:pt x="22200" y="6573"/>
                </a:cubicBezTo>
              </a:path>
              <a:path w="3101" h="944">
                <a:moveTo>
                  <a:pt x="22399" y="6524"/>
                </a:moveTo>
                <a:cubicBezTo>
                  <a:pt x="22407" y="6540"/>
                  <a:pt x="22415" y="6557"/>
                  <a:pt x="22423" y="6573"/>
                </a:cubicBezTo>
                <a:cubicBezTo>
                  <a:pt x="22423" y="6447"/>
                  <a:pt x="22432" y="6378"/>
                  <a:pt x="22498" y="6276"/>
                </a:cubicBezTo>
                <a:cubicBezTo>
                  <a:pt x="22697" y="6315"/>
                  <a:pt x="22662" y="6396"/>
                  <a:pt x="22647" y="6573"/>
                </a:cubicBezTo>
                <a:cubicBezTo>
                  <a:pt x="22647" y="6581"/>
                  <a:pt x="22647" y="6590"/>
                  <a:pt x="22647" y="6598"/>
                </a:cubicBezTo>
              </a:path>
              <a:path w="3101" h="944">
                <a:moveTo>
                  <a:pt x="22796" y="6251"/>
                </a:moveTo>
                <a:cubicBezTo>
                  <a:pt x="22670" y="6377"/>
                  <a:pt x="22769" y="6645"/>
                  <a:pt x="22845" y="6499"/>
                </a:cubicBezTo>
                <a:cubicBezTo>
                  <a:pt x="22868" y="6409"/>
                  <a:pt x="22876" y="6385"/>
                  <a:pt x="22870" y="6325"/>
                </a:cubicBezTo>
                <a:cubicBezTo>
                  <a:pt x="22892" y="6476"/>
                  <a:pt x="22968" y="6626"/>
                  <a:pt x="22944" y="6796"/>
                </a:cubicBezTo>
                <a:cubicBezTo>
                  <a:pt x="22901" y="7096"/>
                  <a:pt x="22632" y="6982"/>
                  <a:pt x="22473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20040" y="2241720"/>
            <a:ext cx="509760" cy="160200"/>
          </a:xfrm>
          <a:custGeom>
            <a:avLst/>
            <a:gdLst/>
            <a:ahLst/>
            <a:rect l="l" t="t" r="r" b="b"/>
            <a:pathLst>
              <a:path w="1415" h="447">
                <a:moveTo>
                  <a:pt x="23490" y="6325"/>
                </a:moveTo>
                <a:cubicBezTo>
                  <a:pt x="23414" y="6325"/>
                  <a:pt x="23696" y="6277"/>
                  <a:pt x="23713" y="6276"/>
                </a:cubicBezTo>
                <a:cubicBezTo>
                  <a:pt x="23730" y="6276"/>
                  <a:pt x="23746" y="6276"/>
                  <a:pt x="23763" y="6276"/>
                </a:cubicBezTo>
                <a:cubicBezTo>
                  <a:pt x="23697" y="6462"/>
                  <a:pt x="23567" y="6530"/>
                  <a:pt x="23391" y="6648"/>
                </a:cubicBezTo>
                <a:cubicBezTo>
                  <a:pt x="23509" y="6663"/>
                  <a:pt x="23671" y="6668"/>
                  <a:pt x="23788" y="6623"/>
                </a:cubicBezTo>
                <a:cubicBezTo>
                  <a:pt x="23796" y="6615"/>
                  <a:pt x="23804" y="6606"/>
                  <a:pt x="23812" y="6598"/>
                </a:cubicBezTo>
              </a:path>
              <a:path w="1415" h="447">
                <a:moveTo>
                  <a:pt x="23887" y="6499"/>
                </a:moveTo>
                <a:cubicBezTo>
                  <a:pt x="23954" y="6459"/>
                  <a:pt x="24014" y="6431"/>
                  <a:pt x="24085" y="6400"/>
                </a:cubicBezTo>
                <a:cubicBezTo>
                  <a:pt x="24037" y="6331"/>
                  <a:pt x="23934" y="6265"/>
                  <a:pt x="23862" y="6375"/>
                </a:cubicBezTo>
                <a:cubicBezTo>
                  <a:pt x="23768" y="6519"/>
                  <a:pt x="23889" y="6651"/>
                  <a:pt x="24036" y="6623"/>
                </a:cubicBezTo>
                <a:cubicBezTo>
                  <a:pt x="24077" y="6606"/>
                  <a:pt x="24119" y="6590"/>
                  <a:pt x="24160" y="6573"/>
                </a:cubicBezTo>
              </a:path>
              <a:path w="1415" h="447">
                <a:moveTo>
                  <a:pt x="24135" y="6400"/>
                </a:moveTo>
                <a:cubicBezTo>
                  <a:pt x="24118" y="6466"/>
                  <a:pt x="24110" y="6504"/>
                  <a:pt x="24110" y="6573"/>
                </a:cubicBezTo>
                <a:cubicBezTo>
                  <a:pt x="24054" y="6499"/>
                  <a:pt x="24104" y="6369"/>
                  <a:pt x="24160" y="6300"/>
                </a:cubicBezTo>
                <a:cubicBezTo>
                  <a:pt x="24229" y="6216"/>
                  <a:pt x="24341" y="6231"/>
                  <a:pt x="24433" y="6226"/>
                </a:cubicBezTo>
              </a:path>
              <a:path w="1415" h="447">
                <a:moveTo>
                  <a:pt x="24656" y="6226"/>
                </a:moveTo>
                <a:cubicBezTo>
                  <a:pt x="24539" y="6334"/>
                  <a:pt x="24441" y="6411"/>
                  <a:pt x="24482" y="6573"/>
                </a:cubicBezTo>
                <a:cubicBezTo>
                  <a:pt x="24592" y="6560"/>
                  <a:pt x="24861" y="6515"/>
                  <a:pt x="24805" y="6325"/>
                </a:cubicBezTo>
                <a:cubicBezTo>
                  <a:pt x="24767" y="6197"/>
                  <a:pt x="24615" y="6239"/>
                  <a:pt x="24532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60640" y="399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225" y="11088"/>
                </a:moveTo>
                <a:lnTo>
                  <a:pt x="3225" y="110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: To add intege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le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ame Signs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the nu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the 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fferent Signs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tract the nu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the sign of the number with the larger absolute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983120" y="142920"/>
            <a:ext cx="830160" cy="223920"/>
          </a:xfrm>
          <a:custGeom>
            <a:avLst/>
            <a:gdLst/>
            <a:ahLst/>
            <a:rect l="l" t="t" r="r" b="b"/>
            <a:pathLst>
              <a:path w="2308" h="621">
                <a:moveTo>
                  <a:pt x="14560" y="397"/>
                </a:moveTo>
                <a:cubicBezTo>
                  <a:pt x="14461" y="397"/>
                  <a:pt x="14049" y="349"/>
                  <a:pt x="14015" y="422"/>
                </a:cubicBezTo>
                <a:cubicBezTo>
                  <a:pt x="13978" y="502"/>
                  <a:pt x="13965" y="557"/>
                  <a:pt x="13965" y="645"/>
                </a:cubicBezTo>
                <a:cubicBezTo>
                  <a:pt x="13965" y="653"/>
                  <a:pt x="13965" y="662"/>
                  <a:pt x="13965" y="670"/>
                </a:cubicBezTo>
                <a:cubicBezTo>
                  <a:pt x="14059" y="639"/>
                  <a:pt x="14176" y="556"/>
                  <a:pt x="14288" y="571"/>
                </a:cubicBezTo>
                <a:cubicBezTo>
                  <a:pt x="14462" y="595"/>
                  <a:pt x="14522" y="788"/>
                  <a:pt x="14412" y="918"/>
                </a:cubicBezTo>
                <a:cubicBezTo>
                  <a:pt x="14280" y="1075"/>
                  <a:pt x="14053" y="1022"/>
                  <a:pt x="13891" y="967"/>
                </a:cubicBezTo>
                <a:cubicBezTo>
                  <a:pt x="13841" y="943"/>
                  <a:pt x="13824" y="935"/>
                  <a:pt x="13891" y="918"/>
                </a:cubicBezTo>
              </a:path>
              <a:path w="2308" h="621">
                <a:moveTo>
                  <a:pt x="15032" y="471"/>
                </a:moveTo>
                <a:cubicBezTo>
                  <a:pt x="15032" y="398"/>
                  <a:pt x="15054" y="714"/>
                  <a:pt x="15056" y="744"/>
                </a:cubicBezTo>
                <a:cubicBezTo>
                  <a:pt x="15060" y="795"/>
                  <a:pt x="15077" y="902"/>
                  <a:pt x="15032" y="918"/>
                </a:cubicBezTo>
              </a:path>
              <a:path w="2308" h="621">
                <a:moveTo>
                  <a:pt x="14883" y="595"/>
                </a:moveTo>
                <a:cubicBezTo>
                  <a:pt x="15012" y="617"/>
                  <a:pt x="15146" y="635"/>
                  <a:pt x="15280" y="620"/>
                </a:cubicBezTo>
                <a:cubicBezTo>
                  <a:pt x="15354" y="601"/>
                  <a:pt x="15361" y="593"/>
                  <a:pt x="15404" y="595"/>
                </a:cubicBezTo>
              </a:path>
              <a:path w="2308" h="621">
                <a:moveTo>
                  <a:pt x="15528" y="446"/>
                </a:moveTo>
                <a:cubicBezTo>
                  <a:pt x="15628" y="427"/>
                  <a:pt x="15717" y="422"/>
                  <a:pt x="15825" y="422"/>
                </a:cubicBezTo>
                <a:cubicBezTo>
                  <a:pt x="15901" y="422"/>
                  <a:pt x="16112" y="452"/>
                  <a:pt x="16148" y="397"/>
                </a:cubicBezTo>
                <a:cubicBezTo>
                  <a:pt x="16131" y="497"/>
                  <a:pt x="16093" y="655"/>
                  <a:pt x="16049" y="744"/>
                </a:cubicBezTo>
                <a:cubicBezTo>
                  <a:pt x="15995" y="852"/>
                  <a:pt x="15998" y="769"/>
                  <a:pt x="16024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7840" y="115920"/>
            <a:ext cx="571320" cy="196920"/>
          </a:xfrm>
          <a:custGeom>
            <a:avLst/>
            <a:gdLst/>
            <a:ahLst/>
            <a:rect l="l" t="t" r="r" b="b"/>
            <a:pathLst>
              <a:path w="1589" h="547">
                <a:moveTo>
                  <a:pt x="16743" y="595"/>
                </a:moveTo>
                <a:cubicBezTo>
                  <a:pt x="16810" y="573"/>
                  <a:pt x="16871" y="546"/>
                  <a:pt x="16942" y="546"/>
                </a:cubicBezTo>
              </a:path>
              <a:path w="1589" h="547">
                <a:moveTo>
                  <a:pt x="17438" y="471"/>
                </a:moveTo>
                <a:cubicBezTo>
                  <a:pt x="17468" y="550"/>
                  <a:pt x="17421" y="690"/>
                  <a:pt x="17438" y="794"/>
                </a:cubicBezTo>
                <a:cubicBezTo>
                  <a:pt x="17444" y="828"/>
                  <a:pt x="17462" y="878"/>
                  <a:pt x="17462" y="843"/>
                </a:cubicBezTo>
              </a:path>
              <a:path w="1589" h="547">
                <a:moveTo>
                  <a:pt x="17760" y="446"/>
                </a:moveTo>
                <a:cubicBezTo>
                  <a:pt x="17861" y="385"/>
                  <a:pt x="17940" y="339"/>
                  <a:pt x="18058" y="322"/>
                </a:cubicBezTo>
                <a:cubicBezTo>
                  <a:pt x="18034" y="530"/>
                  <a:pt x="17952" y="638"/>
                  <a:pt x="17810" y="794"/>
                </a:cubicBezTo>
                <a:cubicBezTo>
                  <a:pt x="17788" y="816"/>
                  <a:pt x="17779" y="821"/>
                  <a:pt x="17785" y="843"/>
                </a:cubicBezTo>
                <a:cubicBezTo>
                  <a:pt x="17907" y="783"/>
                  <a:pt x="17996" y="727"/>
                  <a:pt x="18132" y="719"/>
                </a:cubicBezTo>
                <a:cubicBezTo>
                  <a:pt x="18198" y="715"/>
                  <a:pt x="18265" y="719"/>
                  <a:pt x="18331" y="7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67200" y="581040"/>
            <a:ext cx="357120" cy="241200"/>
          </a:xfrm>
          <a:custGeom>
            <a:avLst/>
            <a:gdLst/>
            <a:ahLst/>
            <a:rect l="l" t="t" r="r" b="b"/>
            <a:pathLst>
              <a:path w="993" h="671">
                <a:moveTo>
                  <a:pt x="13543" y="2034"/>
                </a:moveTo>
                <a:cubicBezTo>
                  <a:pt x="13543" y="2059"/>
                  <a:pt x="13543" y="2067"/>
                  <a:pt x="13519" y="2059"/>
                </a:cubicBezTo>
                <a:cubicBezTo>
                  <a:pt x="13580" y="2043"/>
                  <a:pt x="13647" y="2019"/>
                  <a:pt x="13717" y="2009"/>
                </a:cubicBezTo>
                <a:cubicBezTo>
                  <a:pt x="13765" y="2002"/>
                  <a:pt x="13818" y="2009"/>
                  <a:pt x="13866" y="2009"/>
                </a:cubicBezTo>
              </a:path>
              <a:path w="993" h="671">
                <a:moveTo>
                  <a:pt x="14163" y="1811"/>
                </a:moveTo>
                <a:cubicBezTo>
                  <a:pt x="14163" y="1753"/>
                  <a:pt x="14178" y="1879"/>
                  <a:pt x="14163" y="1935"/>
                </a:cubicBezTo>
                <a:cubicBezTo>
                  <a:pt x="14155" y="1943"/>
                  <a:pt x="14147" y="1952"/>
                  <a:pt x="14139" y="1960"/>
                </a:cubicBezTo>
                <a:cubicBezTo>
                  <a:pt x="14228" y="2003"/>
                  <a:pt x="14275" y="1964"/>
                  <a:pt x="14362" y="1935"/>
                </a:cubicBezTo>
                <a:cubicBezTo>
                  <a:pt x="14387" y="1935"/>
                  <a:pt x="14395" y="1935"/>
                  <a:pt x="14412" y="1935"/>
                </a:cubicBezTo>
              </a:path>
              <a:path w="993" h="671">
                <a:moveTo>
                  <a:pt x="14436" y="1612"/>
                </a:moveTo>
                <a:cubicBezTo>
                  <a:pt x="14395" y="1626"/>
                  <a:pt x="14431" y="1891"/>
                  <a:pt x="14436" y="1935"/>
                </a:cubicBezTo>
                <a:cubicBezTo>
                  <a:pt x="14447" y="2038"/>
                  <a:pt x="14459" y="2197"/>
                  <a:pt x="14511" y="22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5160" y="696960"/>
            <a:ext cx="1429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5156" y="1935"/>
                </a:moveTo>
                <a:cubicBezTo>
                  <a:pt x="15142" y="2045"/>
                  <a:pt x="15131" y="2145"/>
                  <a:pt x="15131" y="2257"/>
                </a:cubicBezTo>
                <a:cubicBezTo>
                  <a:pt x="15131" y="2274"/>
                  <a:pt x="15131" y="2290"/>
                  <a:pt x="15131" y="2307"/>
                </a:cubicBezTo>
              </a:path>
              <a:path w="398" h="373">
                <a:moveTo>
                  <a:pt x="14932" y="2208"/>
                </a:moveTo>
                <a:cubicBezTo>
                  <a:pt x="15030" y="2194"/>
                  <a:pt x="15110" y="2146"/>
                  <a:pt x="15205" y="2133"/>
                </a:cubicBezTo>
                <a:cubicBezTo>
                  <a:pt x="15258" y="2133"/>
                  <a:pt x="15292" y="2120"/>
                  <a:pt x="15329" y="20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61000" y="581040"/>
            <a:ext cx="357120" cy="249120"/>
          </a:xfrm>
          <a:custGeom>
            <a:avLst/>
            <a:gdLst/>
            <a:ahLst/>
            <a:rect l="l" t="t" r="r" b="b"/>
            <a:pathLst>
              <a:path w="993" h="696">
                <a:moveTo>
                  <a:pt x="15726" y="1910"/>
                </a:moveTo>
                <a:cubicBezTo>
                  <a:pt x="15817" y="1910"/>
                  <a:pt x="15870" y="1860"/>
                  <a:pt x="15949" y="1836"/>
                </a:cubicBezTo>
                <a:cubicBezTo>
                  <a:pt x="15973" y="1829"/>
                  <a:pt x="16022" y="1836"/>
                  <a:pt x="16049" y="1836"/>
                </a:cubicBezTo>
              </a:path>
              <a:path w="993" h="696">
                <a:moveTo>
                  <a:pt x="16545" y="1811"/>
                </a:moveTo>
                <a:cubicBezTo>
                  <a:pt x="16577" y="1758"/>
                  <a:pt x="16575" y="1688"/>
                  <a:pt x="16520" y="1637"/>
                </a:cubicBezTo>
                <a:cubicBezTo>
                  <a:pt x="16446" y="1569"/>
                  <a:pt x="16309" y="1635"/>
                  <a:pt x="16272" y="1712"/>
                </a:cubicBezTo>
                <a:cubicBezTo>
                  <a:pt x="16227" y="1806"/>
                  <a:pt x="16245" y="1896"/>
                  <a:pt x="16272" y="1984"/>
                </a:cubicBezTo>
                <a:cubicBezTo>
                  <a:pt x="16432" y="2009"/>
                  <a:pt x="16509" y="1962"/>
                  <a:pt x="16594" y="1811"/>
                </a:cubicBezTo>
                <a:cubicBezTo>
                  <a:pt x="16613" y="1753"/>
                  <a:pt x="16622" y="1747"/>
                  <a:pt x="16619" y="1712"/>
                </a:cubicBezTo>
                <a:cubicBezTo>
                  <a:pt x="16643" y="1876"/>
                  <a:pt x="16680" y="2042"/>
                  <a:pt x="16694" y="2208"/>
                </a:cubicBezTo>
                <a:cubicBezTo>
                  <a:pt x="16697" y="2246"/>
                  <a:pt x="16693" y="2362"/>
                  <a:pt x="16718" y="22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2040" y="554040"/>
            <a:ext cx="581040" cy="295200"/>
          </a:xfrm>
          <a:custGeom>
            <a:avLst/>
            <a:gdLst/>
            <a:ahLst/>
            <a:rect l="l" t="t" r="r" b="b"/>
            <a:pathLst>
              <a:path w="1614" h="819">
                <a:moveTo>
                  <a:pt x="17338" y="2084"/>
                </a:moveTo>
                <a:cubicBezTo>
                  <a:pt x="17417" y="2018"/>
                  <a:pt x="17513" y="1969"/>
                  <a:pt x="17611" y="1935"/>
                </a:cubicBezTo>
                <a:cubicBezTo>
                  <a:pt x="17679" y="1912"/>
                  <a:pt x="17585" y="2031"/>
                  <a:pt x="17537" y="2084"/>
                </a:cubicBezTo>
              </a:path>
              <a:path w="1614" h="819">
                <a:moveTo>
                  <a:pt x="17388" y="2208"/>
                </a:moveTo>
                <a:cubicBezTo>
                  <a:pt x="17480" y="2190"/>
                  <a:pt x="17580" y="2154"/>
                  <a:pt x="17661" y="2108"/>
                </a:cubicBezTo>
              </a:path>
              <a:path w="1614" h="819">
                <a:moveTo>
                  <a:pt x="18306" y="1786"/>
                </a:moveTo>
                <a:cubicBezTo>
                  <a:pt x="18351" y="1741"/>
                  <a:pt x="18354" y="2068"/>
                  <a:pt x="18355" y="2133"/>
                </a:cubicBezTo>
                <a:cubicBezTo>
                  <a:pt x="18356" y="2199"/>
                  <a:pt x="18355" y="2266"/>
                  <a:pt x="18355" y="2332"/>
                </a:cubicBezTo>
              </a:path>
              <a:path w="1614" h="819">
                <a:moveTo>
                  <a:pt x="18628" y="1811"/>
                </a:moveTo>
                <a:cubicBezTo>
                  <a:pt x="18660" y="1747"/>
                  <a:pt x="18739" y="1679"/>
                  <a:pt x="18827" y="1687"/>
                </a:cubicBezTo>
                <a:cubicBezTo>
                  <a:pt x="19003" y="1703"/>
                  <a:pt x="18893" y="1901"/>
                  <a:pt x="18827" y="1960"/>
                </a:cubicBezTo>
                <a:cubicBezTo>
                  <a:pt x="18783" y="1981"/>
                  <a:pt x="18771" y="1984"/>
                  <a:pt x="18752" y="2009"/>
                </a:cubicBezTo>
                <a:cubicBezTo>
                  <a:pt x="18761" y="1973"/>
                  <a:pt x="18826" y="1896"/>
                  <a:pt x="18876" y="1935"/>
                </a:cubicBezTo>
                <a:cubicBezTo>
                  <a:pt x="19012" y="2040"/>
                  <a:pt x="18944" y="2247"/>
                  <a:pt x="18827" y="2332"/>
                </a:cubicBezTo>
                <a:cubicBezTo>
                  <a:pt x="18784" y="2363"/>
                  <a:pt x="18727" y="2356"/>
                  <a:pt x="18678" y="2356"/>
                </a:cubicBezTo>
              </a:path>
              <a:path w="1614" h="819">
                <a:moveTo>
                  <a:pt x="17636" y="1662"/>
                </a:moveTo>
                <a:cubicBezTo>
                  <a:pt x="17721" y="1594"/>
                  <a:pt x="17802" y="1612"/>
                  <a:pt x="17909" y="1612"/>
                </a:cubicBezTo>
                <a:cubicBezTo>
                  <a:pt x="17926" y="1612"/>
                  <a:pt x="17942" y="1612"/>
                  <a:pt x="17959" y="1612"/>
                </a:cubicBezTo>
                <a:cubicBezTo>
                  <a:pt x="18034" y="1612"/>
                  <a:pt x="17859" y="1629"/>
                  <a:pt x="17785" y="1637"/>
                </a:cubicBezTo>
                <a:cubicBezTo>
                  <a:pt x="17699" y="1647"/>
                  <a:pt x="17703" y="1632"/>
                  <a:pt x="17785" y="1612"/>
                </a:cubicBezTo>
                <a:cubicBezTo>
                  <a:pt x="17833" y="1600"/>
                  <a:pt x="18007" y="1563"/>
                  <a:pt x="18008" y="15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27840" y="241200"/>
            <a:ext cx="63360" cy="17640"/>
          </a:xfrm>
          <a:custGeom>
            <a:avLst/>
            <a:gdLst/>
            <a:ahLst/>
            <a:rect l="l" t="t" r="r" b="b"/>
            <a:pathLst>
              <a:path w="175" h="50">
                <a:moveTo>
                  <a:pt x="16743" y="719"/>
                </a:moveTo>
                <a:cubicBezTo>
                  <a:pt x="16804" y="709"/>
                  <a:pt x="16859" y="682"/>
                  <a:pt x="16917" y="6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3973680"/>
            <a:ext cx="214200" cy="25848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15478" y="11038"/>
                </a:moveTo>
                <a:cubicBezTo>
                  <a:pt x="15390" y="11038"/>
                  <a:pt x="14987" y="11005"/>
                  <a:pt x="14982" y="11063"/>
                </a:cubicBezTo>
                <a:cubicBezTo>
                  <a:pt x="14972" y="11177"/>
                  <a:pt x="14982" y="11296"/>
                  <a:pt x="14982" y="11410"/>
                </a:cubicBezTo>
                <a:cubicBezTo>
                  <a:pt x="15083" y="11369"/>
                  <a:pt x="15255" y="11223"/>
                  <a:pt x="15379" y="11286"/>
                </a:cubicBezTo>
                <a:cubicBezTo>
                  <a:pt x="15561" y="11379"/>
                  <a:pt x="15476" y="11627"/>
                  <a:pt x="15329" y="11708"/>
                </a:cubicBezTo>
                <a:cubicBezTo>
                  <a:pt x="15202" y="11778"/>
                  <a:pt x="14979" y="11784"/>
                  <a:pt x="14883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76920" y="4027320"/>
            <a:ext cx="169920" cy="13356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6321" y="11212"/>
                </a:moveTo>
                <a:cubicBezTo>
                  <a:pt x="16321" y="11168"/>
                  <a:pt x="16321" y="11440"/>
                  <a:pt x="16321" y="11485"/>
                </a:cubicBezTo>
                <a:cubicBezTo>
                  <a:pt x="16321" y="11510"/>
                  <a:pt x="16321" y="11534"/>
                  <a:pt x="16321" y="11559"/>
                </a:cubicBezTo>
              </a:path>
              <a:path w="472" h="373">
                <a:moveTo>
                  <a:pt x="16049" y="11385"/>
                </a:moveTo>
                <a:cubicBezTo>
                  <a:pt x="16148" y="11410"/>
                  <a:pt x="16208" y="11393"/>
                  <a:pt x="16321" y="11385"/>
                </a:cubicBezTo>
                <a:cubicBezTo>
                  <a:pt x="16369" y="11382"/>
                  <a:pt x="16507" y="11348"/>
                  <a:pt x="16520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32680" y="3929040"/>
            <a:ext cx="393480" cy="28584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17338" y="11237"/>
                </a:moveTo>
                <a:cubicBezTo>
                  <a:pt x="17312" y="11209"/>
                  <a:pt x="17530" y="11193"/>
                  <a:pt x="17587" y="11187"/>
                </a:cubicBezTo>
                <a:cubicBezTo>
                  <a:pt x="17603" y="11187"/>
                  <a:pt x="17620" y="11187"/>
                  <a:pt x="17636" y="11187"/>
                </a:cubicBezTo>
              </a:path>
              <a:path w="1092" h="795">
                <a:moveTo>
                  <a:pt x="17983" y="11013"/>
                </a:moveTo>
                <a:cubicBezTo>
                  <a:pt x="18075" y="11013"/>
                  <a:pt x="18117" y="10935"/>
                  <a:pt x="18207" y="10914"/>
                </a:cubicBezTo>
                <a:cubicBezTo>
                  <a:pt x="18240" y="10914"/>
                  <a:pt x="18273" y="10914"/>
                  <a:pt x="18306" y="10914"/>
                </a:cubicBezTo>
                <a:cubicBezTo>
                  <a:pt x="18338" y="11056"/>
                  <a:pt x="18270" y="11143"/>
                  <a:pt x="18157" y="11237"/>
                </a:cubicBezTo>
                <a:cubicBezTo>
                  <a:pt x="18101" y="11274"/>
                  <a:pt x="18097" y="11291"/>
                  <a:pt x="18058" y="11286"/>
                </a:cubicBezTo>
                <a:cubicBezTo>
                  <a:pt x="18138" y="11255"/>
                  <a:pt x="18254" y="11155"/>
                  <a:pt x="18355" y="11237"/>
                </a:cubicBezTo>
                <a:cubicBezTo>
                  <a:pt x="18483" y="11341"/>
                  <a:pt x="18401" y="11609"/>
                  <a:pt x="18281" y="11683"/>
                </a:cubicBezTo>
                <a:cubicBezTo>
                  <a:pt x="18196" y="11735"/>
                  <a:pt x="18128" y="11698"/>
                  <a:pt x="18058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85000" y="4017960"/>
            <a:ext cx="115920" cy="117360"/>
          </a:xfrm>
          <a:custGeom>
            <a:avLst/>
            <a:gdLst/>
            <a:ahLst/>
            <a:rect l="l" t="t" r="r" b="b"/>
            <a:pathLst>
              <a:path w="324" h="324">
                <a:moveTo>
                  <a:pt x="19149" y="11212"/>
                </a:moveTo>
                <a:cubicBezTo>
                  <a:pt x="19200" y="11186"/>
                  <a:pt x="19332" y="11140"/>
                  <a:pt x="19397" y="11162"/>
                </a:cubicBezTo>
                <a:cubicBezTo>
                  <a:pt x="19397" y="11170"/>
                  <a:pt x="19397" y="11179"/>
                  <a:pt x="19397" y="11187"/>
                </a:cubicBezTo>
              </a:path>
              <a:path w="324" h="324">
                <a:moveTo>
                  <a:pt x="19124" y="11485"/>
                </a:moveTo>
                <a:cubicBezTo>
                  <a:pt x="19214" y="11478"/>
                  <a:pt x="19297" y="11465"/>
                  <a:pt x="19372" y="11435"/>
                </a:cubicBezTo>
                <a:cubicBezTo>
                  <a:pt x="19397" y="11427"/>
                  <a:pt x="19422" y="11418"/>
                  <a:pt x="19447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97840" y="3929040"/>
            <a:ext cx="214200" cy="330120"/>
          </a:xfrm>
          <a:custGeom>
            <a:avLst/>
            <a:gdLst/>
            <a:ahLst/>
            <a:rect l="l" t="t" r="r" b="b"/>
            <a:pathLst>
              <a:path w="596" h="919">
                <a:moveTo>
                  <a:pt x="20092" y="11112"/>
                </a:moveTo>
                <a:cubicBezTo>
                  <a:pt x="20030" y="11072"/>
                  <a:pt x="20131" y="10970"/>
                  <a:pt x="20191" y="10939"/>
                </a:cubicBezTo>
                <a:cubicBezTo>
                  <a:pt x="20254" y="10906"/>
                  <a:pt x="20322" y="10914"/>
                  <a:pt x="20389" y="10914"/>
                </a:cubicBezTo>
                <a:cubicBezTo>
                  <a:pt x="20429" y="11087"/>
                  <a:pt x="20386" y="11159"/>
                  <a:pt x="20290" y="11311"/>
                </a:cubicBezTo>
                <a:cubicBezTo>
                  <a:pt x="20193" y="11465"/>
                  <a:pt x="20076" y="11588"/>
                  <a:pt x="20017" y="11757"/>
                </a:cubicBezTo>
                <a:cubicBezTo>
                  <a:pt x="19998" y="11815"/>
                  <a:pt x="19990" y="11858"/>
                  <a:pt x="19993" y="11807"/>
                </a:cubicBezTo>
                <a:cubicBezTo>
                  <a:pt x="20073" y="11733"/>
                  <a:pt x="20164" y="11628"/>
                  <a:pt x="20290" y="11658"/>
                </a:cubicBezTo>
                <a:cubicBezTo>
                  <a:pt x="20396" y="11683"/>
                  <a:pt x="20424" y="11768"/>
                  <a:pt x="20563" y="11733"/>
                </a:cubicBezTo>
                <a:cubicBezTo>
                  <a:pt x="20571" y="11725"/>
                  <a:pt x="20580" y="11716"/>
                  <a:pt x="20588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70720" y="4545000"/>
            <a:ext cx="847440" cy="36360"/>
          </a:xfrm>
          <a:custGeom>
            <a:avLst/>
            <a:gdLst/>
            <a:ahLst/>
            <a:rect l="l" t="t" r="r" b="b"/>
            <a:pathLst>
              <a:path w="2357" h="100">
                <a:moveTo>
                  <a:pt x="15751" y="12725"/>
                </a:moveTo>
                <a:cubicBezTo>
                  <a:pt x="15873" y="12700"/>
                  <a:pt x="16000" y="12653"/>
                  <a:pt x="16123" y="12626"/>
                </a:cubicBezTo>
                <a:cubicBezTo>
                  <a:pt x="16140" y="12626"/>
                  <a:pt x="16156" y="12626"/>
                  <a:pt x="16173" y="12626"/>
                </a:cubicBezTo>
              </a:path>
              <a:path w="2357" h="100">
                <a:moveTo>
                  <a:pt x="17735" y="12725"/>
                </a:moveTo>
                <a:cubicBezTo>
                  <a:pt x="17857" y="12714"/>
                  <a:pt x="17967" y="12679"/>
                  <a:pt x="18083" y="12650"/>
                </a:cubicBezTo>
                <a:cubicBezTo>
                  <a:pt x="18091" y="12650"/>
                  <a:pt x="18099" y="12650"/>
                  <a:pt x="1810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37120" y="4473720"/>
            <a:ext cx="8892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14039" y="12452"/>
                </a:moveTo>
                <a:cubicBezTo>
                  <a:pt x="14011" y="12452"/>
                  <a:pt x="14001" y="12455"/>
                  <a:pt x="13990" y="12477"/>
                </a:cubicBezTo>
                <a:cubicBezTo>
                  <a:pt x="14075" y="12468"/>
                  <a:pt x="14155" y="12441"/>
                  <a:pt x="14238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76880" y="4411800"/>
            <a:ext cx="233280" cy="23148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14660" y="12402"/>
                </a:moveTo>
                <a:cubicBezTo>
                  <a:pt x="14689" y="12523"/>
                  <a:pt x="14684" y="12664"/>
                  <a:pt x="14684" y="12799"/>
                </a:cubicBezTo>
                <a:cubicBezTo>
                  <a:pt x="14684" y="12873"/>
                  <a:pt x="14684" y="12931"/>
                  <a:pt x="14684" y="12874"/>
                </a:cubicBezTo>
              </a:path>
              <a:path w="645" h="645">
                <a:moveTo>
                  <a:pt x="14957" y="12402"/>
                </a:moveTo>
                <a:cubicBezTo>
                  <a:pt x="14978" y="12319"/>
                  <a:pt x="15107" y="12290"/>
                  <a:pt x="15180" y="12254"/>
                </a:cubicBezTo>
                <a:cubicBezTo>
                  <a:pt x="15249" y="12344"/>
                  <a:pt x="15203" y="12446"/>
                  <a:pt x="15131" y="12526"/>
                </a:cubicBezTo>
                <a:cubicBezTo>
                  <a:pt x="15081" y="12582"/>
                  <a:pt x="15062" y="12576"/>
                  <a:pt x="15007" y="12576"/>
                </a:cubicBezTo>
                <a:cubicBezTo>
                  <a:pt x="15074" y="12497"/>
                  <a:pt x="15161" y="12461"/>
                  <a:pt x="15255" y="12551"/>
                </a:cubicBezTo>
                <a:cubicBezTo>
                  <a:pt x="15324" y="12617"/>
                  <a:pt x="15342" y="12832"/>
                  <a:pt x="15230" y="12874"/>
                </a:cubicBezTo>
                <a:cubicBezTo>
                  <a:pt x="15184" y="12891"/>
                  <a:pt x="15021" y="12892"/>
                  <a:pt x="15007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49920" y="4483080"/>
            <a:ext cx="28440" cy="115920"/>
          </a:xfrm>
          <a:custGeom>
            <a:avLst/>
            <a:gdLst/>
            <a:ahLst/>
            <a:rect l="l" t="t" r="r" b="b"/>
            <a:pathLst>
              <a:path w="76" h="323">
                <a:moveTo>
                  <a:pt x="16049" y="12477"/>
                </a:moveTo>
                <a:cubicBezTo>
                  <a:pt x="16009" y="12464"/>
                  <a:pt x="16039" y="12465"/>
                  <a:pt x="15999" y="12452"/>
                </a:cubicBezTo>
                <a:cubicBezTo>
                  <a:pt x="15986" y="12555"/>
                  <a:pt x="15974" y="12645"/>
                  <a:pt x="15974" y="12750"/>
                </a:cubicBezTo>
                <a:cubicBezTo>
                  <a:pt x="15974" y="12758"/>
                  <a:pt x="15974" y="12766"/>
                  <a:pt x="15974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45120" y="4384800"/>
            <a:ext cx="125640" cy="250560"/>
          </a:xfrm>
          <a:custGeom>
            <a:avLst/>
            <a:gdLst/>
            <a:ahLst/>
            <a:rect l="l" t="t" r="r" b="b"/>
            <a:pathLst>
              <a:path w="348" h="696">
                <a:moveTo>
                  <a:pt x="16867" y="12303"/>
                </a:moveTo>
                <a:cubicBezTo>
                  <a:pt x="16867" y="12234"/>
                  <a:pt x="16830" y="12481"/>
                  <a:pt x="16818" y="12502"/>
                </a:cubicBezTo>
                <a:cubicBezTo>
                  <a:pt x="16810" y="12502"/>
                  <a:pt x="16801" y="12502"/>
                  <a:pt x="16793" y="12502"/>
                </a:cubicBezTo>
                <a:cubicBezTo>
                  <a:pt x="16920" y="12528"/>
                  <a:pt x="17010" y="12518"/>
                  <a:pt x="17140" y="12502"/>
                </a:cubicBezTo>
              </a:path>
              <a:path w="348" h="696">
                <a:moveTo>
                  <a:pt x="17140" y="12179"/>
                </a:moveTo>
                <a:cubicBezTo>
                  <a:pt x="17140" y="12313"/>
                  <a:pt x="17128" y="12469"/>
                  <a:pt x="17115" y="12601"/>
                </a:cubicBezTo>
                <a:cubicBezTo>
                  <a:pt x="17106" y="12694"/>
                  <a:pt x="17079" y="12783"/>
                  <a:pt x="17066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67320" y="4500720"/>
            <a:ext cx="88920" cy="9360"/>
          </a:xfrm>
          <a:custGeom>
            <a:avLst/>
            <a:gdLst/>
            <a:ahLst/>
            <a:rect l="l" t="t" r="r" b="b"/>
            <a:pathLst>
              <a:path w="249" h="25">
                <a:moveTo>
                  <a:pt x="17686" y="12526"/>
                </a:moveTo>
                <a:cubicBezTo>
                  <a:pt x="17771" y="12512"/>
                  <a:pt x="17846" y="12502"/>
                  <a:pt x="17934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88080" y="4394160"/>
            <a:ext cx="401760" cy="249120"/>
          </a:xfrm>
          <a:custGeom>
            <a:avLst/>
            <a:gdLst/>
            <a:ahLst/>
            <a:rect l="l" t="t" r="r" b="b"/>
            <a:pathLst>
              <a:path w="1117" h="695">
                <a:moveTo>
                  <a:pt x="19695" y="12427"/>
                </a:moveTo>
                <a:cubicBezTo>
                  <a:pt x="19601" y="12390"/>
                  <a:pt x="19547" y="12275"/>
                  <a:pt x="19447" y="12229"/>
                </a:cubicBezTo>
                <a:cubicBezTo>
                  <a:pt x="19274" y="12150"/>
                  <a:pt x="19149" y="12348"/>
                  <a:pt x="19124" y="12502"/>
                </a:cubicBezTo>
                <a:cubicBezTo>
                  <a:pt x="19132" y="12535"/>
                  <a:pt x="19141" y="12568"/>
                  <a:pt x="19149" y="12601"/>
                </a:cubicBezTo>
                <a:cubicBezTo>
                  <a:pt x="19300" y="12590"/>
                  <a:pt x="19454" y="12563"/>
                  <a:pt x="19571" y="12452"/>
                </a:cubicBezTo>
                <a:cubicBezTo>
                  <a:pt x="19579" y="12435"/>
                  <a:pt x="19588" y="12419"/>
                  <a:pt x="19596" y="12402"/>
                </a:cubicBezTo>
                <a:cubicBezTo>
                  <a:pt x="19596" y="12567"/>
                  <a:pt x="19573" y="12713"/>
                  <a:pt x="19546" y="12874"/>
                </a:cubicBezTo>
                <a:cubicBezTo>
                  <a:pt x="19546" y="12882"/>
                  <a:pt x="19546" y="12890"/>
                  <a:pt x="19546" y="12898"/>
                </a:cubicBezTo>
              </a:path>
              <a:path w="1117" h="695">
                <a:moveTo>
                  <a:pt x="18579" y="12353"/>
                </a:moveTo>
                <a:cubicBezTo>
                  <a:pt x="18667" y="12353"/>
                  <a:pt x="18777" y="12363"/>
                  <a:pt x="18852" y="12303"/>
                </a:cubicBezTo>
                <a:cubicBezTo>
                  <a:pt x="18906" y="12260"/>
                  <a:pt x="18720" y="12337"/>
                  <a:pt x="18653" y="12353"/>
                </a:cubicBezTo>
                <a:cubicBezTo>
                  <a:pt x="18516" y="12353"/>
                  <a:pt x="18855" y="12329"/>
                  <a:pt x="18876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0800" y="4875120"/>
            <a:ext cx="1728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15280" y="13568"/>
                </a:moveTo>
                <a:cubicBezTo>
                  <a:pt x="15304" y="13568"/>
                  <a:pt x="15312" y="13568"/>
                  <a:pt x="15304" y="13543"/>
                </a:cubicBezTo>
              </a:path>
              <a:path w="50" h="26">
                <a:moveTo>
                  <a:pt x="15304" y="13543"/>
                </a:moveTo>
                <a:lnTo>
                  <a:pt x="15304" y="13543"/>
                </a:lnTo>
              </a:path>
              <a:path w="50" h="26">
                <a:moveTo>
                  <a:pt x="15329" y="13543"/>
                </a:moveTo>
                <a:lnTo>
                  <a:pt x="15329" y="135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91080" y="4848120"/>
            <a:ext cx="20628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5329" y="13519"/>
                </a:moveTo>
                <a:cubicBezTo>
                  <a:pt x="15329" y="13494"/>
                  <a:pt x="15329" y="13486"/>
                  <a:pt x="15329" y="13469"/>
                </a:cubicBezTo>
                <a:cubicBezTo>
                  <a:pt x="15319" y="13549"/>
                  <a:pt x="15298" y="13638"/>
                  <a:pt x="15280" y="13717"/>
                </a:cubicBezTo>
                <a:cubicBezTo>
                  <a:pt x="15266" y="13781"/>
                  <a:pt x="15255" y="13805"/>
                  <a:pt x="15255" y="13866"/>
                </a:cubicBezTo>
                <a:cubicBezTo>
                  <a:pt x="15255" y="13889"/>
                  <a:pt x="15281" y="13915"/>
                  <a:pt x="15304" y="13940"/>
                </a:cubicBezTo>
                <a:cubicBezTo>
                  <a:pt x="15361" y="14002"/>
                  <a:pt x="15440" y="14043"/>
                  <a:pt x="15528" y="14015"/>
                </a:cubicBezTo>
                <a:cubicBezTo>
                  <a:pt x="15577" y="14000"/>
                  <a:pt x="15652" y="13974"/>
                  <a:pt x="15701" y="13940"/>
                </a:cubicBezTo>
                <a:cubicBezTo>
                  <a:pt x="15726" y="13923"/>
                  <a:pt x="15791" y="13901"/>
                  <a:pt x="15801" y="13866"/>
                </a:cubicBezTo>
                <a:cubicBezTo>
                  <a:pt x="15815" y="13816"/>
                  <a:pt x="15836" y="13782"/>
                  <a:pt x="15801" y="13742"/>
                </a:cubicBezTo>
                <a:cubicBezTo>
                  <a:pt x="15770" y="13707"/>
                  <a:pt x="15697" y="13705"/>
                  <a:pt x="15652" y="13717"/>
                </a:cubicBezTo>
                <a:cubicBezTo>
                  <a:pt x="15600" y="13732"/>
                  <a:pt x="15548" y="13814"/>
                  <a:pt x="15528" y="13866"/>
                </a:cubicBezTo>
                <a:cubicBezTo>
                  <a:pt x="15511" y="13910"/>
                  <a:pt x="15543" y="13934"/>
                  <a:pt x="15553" y="13965"/>
                </a:cubicBezTo>
                <a:cubicBezTo>
                  <a:pt x="15553" y="13973"/>
                  <a:pt x="15553" y="13982"/>
                  <a:pt x="15553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92840" y="4848120"/>
            <a:ext cx="144360" cy="1447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6520" y="13494"/>
                </a:moveTo>
                <a:cubicBezTo>
                  <a:pt x="16520" y="13486"/>
                  <a:pt x="16520" y="13477"/>
                  <a:pt x="16520" y="13469"/>
                </a:cubicBezTo>
                <a:cubicBezTo>
                  <a:pt x="16609" y="13535"/>
                  <a:pt x="16612" y="13699"/>
                  <a:pt x="16619" y="13816"/>
                </a:cubicBezTo>
                <a:cubicBezTo>
                  <a:pt x="16619" y="13858"/>
                  <a:pt x="16627" y="13874"/>
                  <a:pt x="16594" y="13866"/>
                </a:cubicBezTo>
              </a:path>
              <a:path w="398" h="398">
                <a:moveTo>
                  <a:pt x="16371" y="13767"/>
                </a:moveTo>
                <a:cubicBezTo>
                  <a:pt x="16503" y="13767"/>
                  <a:pt x="16636" y="13767"/>
                  <a:pt x="16768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2040" y="4741920"/>
            <a:ext cx="357120" cy="268200"/>
          </a:xfrm>
          <a:custGeom>
            <a:avLst/>
            <a:gdLst/>
            <a:ahLst/>
            <a:rect l="l" t="t" r="r" b="b"/>
            <a:pathLst>
              <a:path w="994" h="745">
                <a:moveTo>
                  <a:pt x="17338" y="13692"/>
                </a:moveTo>
                <a:cubicBezTo>
                  <a:pt x="17361" y="13622"/>
                  <a:pt x="17496" y="13658"/>
                  <a:pt x="17562" y="13643"/>
                </a:cubicBezTo>
                <a:cubicBezTo>
                  <a:pt x="17602" y="13623"/>
                  <a:pt x="17608" y="13614"/>
                  <a:pt x="17636" y="13618"/>
                </a:cubicBezTo>
              </a:path>
              <a:path w="994" h="745">
                <a:moveTo>
                  <a:pt x="18256" y="13519"/>
                </a:moveTo>
                <a:cubicBezTo>
                  <a:pt x="18268" y="13483"/>
                  <a:pt x="18311" y="13466"/>
                  <a:pt x="18306" y="13395"/>
                </a:cubicBezTo>
                <a:cubicBezTo>
                  <a:pt x="18299" y="13297"/>
                  <a:pt x="18201" y="13080"/>
                  <a:pt x="18058" y="13171"/>
                </a:cubicBezTo>
                <a:cubicBezTo>
                  <a:pt x="17929" y="13253"/>
                  <a:pt x="17952" y="13401"/>
                  <a:pt x="17959" y="13519"/>
                </a:cubicBezTo>
                <a:cubicBezTo>
                  <a:pt x="18094" y="13535"/>
                  <a:pt x="18235" y="13544"/>
                  <a:pt x="18306" y="13395"/>
                </a:cubicBezTo>
                <a:cubicBezTo>
                  <a:pt x="18306" y="13378"/>
                  <a:pt x="18306" y="13362"/>
                  <a:pt x="18306" y="13345"/>
                </a:cubicBezTo>
                <a:cubicBezTo>
                  <a:pt x="18370" y="13388"/>
                  <a:pt x="18331" y="13652"/>
                  <a:pt x="18331" y="13742"/>
                </a:cubicBezTo>
                <a:cubicBezTo>
                  <a:pt x="18331" y="13800"/>
                  <a:pt x="18331" y="13857"/>
                  <a:pt x="18331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8640" y="4795920"/>
            <a:ext cx="474480" cy="241200"/>
          </a:xfrm>
          <a:custGeom>
            <a:avLst/>
            <a:gdLst/>
            <a:ahLst/>
            <a:rect l="l" t="t" r="r" b="b"/>
            <a:pathLst>
              <a:path w="1316" h="671">
                <a:moveTo>
                  <a:pt x="19025" y="13568"/>
                </a:moveTo>
                <a:cubicBezTo>
                  <a:pt x="19125" y="13568"/>
                  <a:pt x="19223" y="13549"/>
                  <a:pt x="19323" y="13543"/>
                </a:cubicBezTo>
              </a:path>
              <a:path w="1316" h="671">
                <a:moveTo>
                  <a:pt x="19075" y="13742"/>
                </a:moveTo>
                <a:cubicBezTo>
                  <a:pt x="19161" y="13734"/>
                  <a:pt x="19296" y="13662"/>
                  <a:pt x="19372" y="13667"/>
                </a:cubicBezTo>
                <a:cubicBezTo>
                  <a:pt x="19380" y="13675"/>
                  <a:pt x="19389" y="13684"/>
                  <a:pt x="19397" y="13692"/>
                </a:cubicBezTo>
              </a:path>
              <a:path w="1316" h="671">
                <a:moveTo>
                  <a:pt x="20042" y="13370"/>
                </a:moveTo>
                <a:cubicBezTo>
                  <a:pt x="19931" y="13407"/>
                  <a:pt x="20175" y="13320"/>
                  <a:pt x="20191" y="13320"/>
                </a:cubicBezTo>
                <a:cubicBezTo>
                  <a:pt x="20216" y="13328"/>
                  <a:pt x="20240" y="13337"/>
                  <a:pt x="20265" y="13345"/>
                </a:cubicBezTo>
                <a:cubicBezTo>
                  <a:pt x="20265" y="13514"/>
                  <a:pt x="20270" y="13591"/>
                  <a:pt x="20092" y="13667"/>
                </a:cubicBezTo>
                <a:cubicBezTo>
                  <a:pt x="20164" y="13637"/>
                  <a:pt x="20354" y="13623"/>
                  <a:pt x="20340" y="13767"/>
                </a:cubicBezTo>
                <a:cubicBezTo>
                  <a:pt x="20322" y="13953"/>
                  <a:pt x="20093" y="13971"/>
                  <a:pt x="19968" y="13965"/>
                </a:cubicBezTo>
                <a:cubicBezTo>
                  <a:pt x="19960" y="13965"/>
                  <a:pt x="19951" y="13965"/>
                  <a:pt x="19943" y="13965"/>
                </a:cubicBezTo>
              </a:path>
              <a:path w="1316" h="671">
                <a:moveTo>
                  <a:pt x="19472" y="13444"/>
                </a:moveTo>
                <a:cubicBezTo>
                  <a:pt x="19546" y="13444"/>
                  <a:pt x="19602" y="13440"/>
                  <a:pt x="19670" y="13419"/>
                </a:cubicBezTo>
                <a:cubicBezTo>
                  <a:pt x="19622" y="13431"/>
                  <a:pt x="19540" y="13447"/>
                  <a:pt x="19496" y="13469"/>
                </a:cubicBezTo>
                <a:cubicBezTo>
                  <a:pt x="19538" y="13469"/>
                  <a:pt x="19563" y="13469"/>
                  <a:pt x="19596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8200" y="5153040"/>
            <a:ext cx="8035920" cy="1374840"/>
          </a:xfrm>
          <a:custGeom>
            <a:avLst/>
            <a:gdLst/>
            <a:ahLst/>
            <a:rect l="l" t="t" r="r" b="b"/>
            <a:pathLst>
              <a:path w="22325" h="3821">
                <a:moveTo>
                  <a:pt x="19521" y="15379"/>
                </a:moveTo>
                <a:cubicBezTo>
                  <a:pt x="19529" y="15379"/>
                  <a:pt x="19538" y="15379"/>
                  <a:pt x="19546" y="15379"/>
                </a:cubicBezTo>
              </a:path>
              <a:path w="22325" h="3821">
                <a:moveTo>
                  <a:pt x="22870" y="15503"/>
                </a:moveTo>
                <a:cubicBezTo>
                  <a:pt x="22802" y="15385"/>
                  <a:pt x="22715" y="15438"/>
                  <a:pt x="22622" y="15528"/>
                </a:cubicBezTo>
                <a:cubicBezTo>
                  <a:pt x="22556" y="15615"/>
                  <a:pt x="22526" y="15633"/>
                  <a:pt x="22572" y="15701"/>
                </a:cubicBezTo>
                <a:cubicBezTo>
                  <a:pt x="22757" y="15680"/>
                  <a:pt x="22752" y="15671"/>
                  <a:pt x="22870" y="15528"/>
                </a:cubicBezTo>
              </a:path>
              <a:path w="22325" h="3821">
                <a:moveTo>
                  <a:pt x="22796" y="15205"/>
                </a:moveTo>
                <a:cubicBezTo>
                  <a:pt x="22915" y="15266"/>
                  <a:pt x="22877" y="15460"/>
                  <a:pt x="22895" y="15577"/>
                </a:cubicBezTo>
                <a:cubicBezTo>
                  <a:pt x="22903" y="15610"/>
                  <a:pt x="22912" y="15644"/>
                  <a:pt x="22920" y="15677"/>
                </a:cubicBezTo>
              </a:path>
              <a:path w="22325" h="3821">
                <a:moveTo>
                  <a:pt x="23044" y="15255"/>
                </a:moveTo>
                <a:cubicBezTo>
                  <a:pt x="23052" y="15255"/>
                  <a:pt x="23060" y="15255"/>
                  <a:pt x="23068" y="15255"/>
                </a:cubicBezTo>
              </a:path>
              <a:path w="22325" h="3821">
                <a:moveTo>
                  <a:pt x="23068" y="15255"/>
                </a:moveTo>
                <a:lnTo>
                  <a:pt x="23068" y="15255"/>
                </a:lnTo>
              </a:path>
              <a:path w="22325" h="3821">
                <a:moveTo>
                  <a:pt x="7541" y="16867"/>
                </a:moveTo>
                <a:cubicBezTo>
                  <a:pt x="7564" y="16795"/>
                  <a:pt x="7588" y="16909"/>
                  <a:pt x="7590" y="16942"/>
                </a:cubicBezTo>
                <a:cubicBezTo>
                  <a:pt x="7600" y="17103"/>
                  <a:pt x="7565" y="17254"/>
                  <a:pt x="7565" y="17413"/>
                </a:cubicBezTo>
                <a:cubicBezTo>
                  <a:pt x="7565" y="17421"/>
                  <a:pt x="7565" y="17430"/>
                  <a:pt x="7565" y="17438"/>
                </a:cubicBezTo>
              </a:path>
              <a:path w="22325" h="3821">
                <a:moveTo>
                  <a:pt x="1960" y="16942"/>
                </a:moveTo>
                <a:cubicBezTo>
                  <a:pt x="1937" y="16919"/>
                  <a:pt x="1929" y="16915"/>
                  <a:pt x="1935" y="16892"/>
                </a:cubicBezTo>
                <a:cubicBezTo>
                  <a:pt x="1838" y="16967"/>
                  <a:pt x="1771" y="17071"/>
                  <a:pt x="1662" y="17140"/>
                </a:cubicBezTo>
                <a:cubicBezTo>
                  <a:pt x="1622" y="17160"/>
                  <a:pt x="1615" y="17169"/>
                  <a:pt x="1588" y="17165"/>
                </a:cubicBezTo>
                <a:cubicBezTo>
                  <a:pt x="1631" y="17273"/>
                  <a:pt x="1746" y="17297"/>
                  <a:pt x="1836" y="17363"/>
                </a:cubicBezTo>
                <a:cubicBezTo>
                  <a:pt x="1874" y="17402"/>
                  <a:pt x="1876" y="17419"/>
                  <a:pt x="1910" y="17413"/>
                </a:cubicBezTo>
              </a:path>
              <a:path w="22325" h="3821">
                <a:moveTo>
                  <a:pt x="3225" y="17066"/>
                </a:moveTo>
                <a:cubicBezTo>
                  <a:pt x="3198" y="17030"/>
                  <a:pt x="3181" y="17001"/>
                  <a:pt x="3200" y="17066"/>
                </a:cubicBezTo>
                <a:cubicBezTo>
                  <a:pt x="3213" y="17110"/>
                  <a:pt x="3331" y="17466"/>
                  <a:pt x="3274" y="17363"/>
                </a:cubicBezTo>
                <a:cubicBezTo>
                  <a:pt x="3223" y="17270"/>
                  <a:pt x="3201" y="17195"/>
                  <a:pt x="3175" y="17090"/>
                </a:cubicBezTo>
                <a:cubicBezTo>
                  <a:pt x="3156" y="16978"/>
                  <a:pt x="3179" y="17080"/>
                  <a:pt x="3200" y="17140"/>
                </a:cubicBezTo>
                <a:cubicBezTo>
                  <a:pt x="3242" y="17260"/>
                  <a:pt x="3249" y="17319"/>
                  <a:pt x="3249" y="17438"/>
                </a:cubicBezTo>
                <a:cubicBezTo>
                  <a:pt x="3249" y="17336"/>
                  <a:pt x="3212" y="17241"/>
                  <a:pt x="3200" y="17140"/>
                </a:cubicBezTo>
                <a:cubicBezTo>
                  <a:pt x="3176" y="16929"/>
                  <a:pt x="3200" y="17322"/>
                  <a:pt x="3200" y="17363"/>
                </a:cubicBezTo>
                <a:cubicBezTo>
                  <a:pt x="3200" y="17430"/>
                  <a:pt x="3192" y="17279"/>
                  <a:pt x="3175" y="17214"/>
                </a:cubicBezTo>
                <a:cubicBezTo>
                  <a:pt x="3164" y="17173"/>
                  <a:pt x="3150" y="17097"/>
                  <a:pt x="3150" y="17140"/>
                </a:cubicBezTo>
              </a:path>
              <a:path w="22325" h="3821">
                <a:moveTo>
                  <a:pt x="2679" y="17884"/>
                </a:moveTo>
                <a:cubicBezTo>
                  <a:pt x="2671" y="17892"/>
                  <a:pt x="2662" y="17901"/>
                  <a:pt x="2654" y="17909"/>
                </a:cubicBezTo>
                <a:cubicBezTo>
                  <a:pt x="2728" y="17909"/>
                  <a:pt x="2803" y="17909"/>
                  <a:pt x="2877" y="17909"/>
                </a:cubicBezTo>
              </a:path>
              <a:path w="22325" h="3821">
                <a:moveTo>
                  <a:pt x="3101" y="17686"/>
                </a:moveTo>
                <a:cubicBezTo>
                  <a:pt x="3052" y="17747"/>
                  <a:pt x="3051" y="17781"/>
                  <a:pt x="3051" y="17859"/>
                </a:cubicBezTo>
                <a:cubicBezTo>
                  <a:pt x="3051" y="17940"/>
                  <a:pt x="3086" y="18050"/>
                  <a:pt x="3150" y="18107"/>
                </a:cubicBezTo>
                <a:cubicBezTo>
                  <a:pt x="3176" y="18130"/>
                  <a:pt x="3281" y="18115"/>
                  <a:pt x="3299" y="18107"/>
                </a:cubicBezTo>
                <a:cubicBezTo>
                  <a:pt x="3359" y="18080"/>
                  <a:pt x="3402" y="18054"/>
                  <a:pt x="3448" y="18008"/>
                </a:cubicBezTo>
                <a:cubicBezTo>
                  <a:pt x="3494" y="17962"/>
                  <a:pt x="3510" y="17944"/>
                  <a:pt x="3522" y="17884"/>
                </a:cubicBezTo>
                <a:cubicBezTo>
                  <a:pt x="3478" y="17851"/>
                  <a:pt x="3442" y="17854"/>
                  <a:pt x="3423" y="17859"/>
                </a:cubicBezTo>
                <a:cubicBezTo>
                  <a:pt x="3369" y="17874"/>
                  <a:pt x="3353" y="17930"/>
                  <a:pt x="3349" y="17983"/>
                </a:cubicBezTo>
                <a:cubicBezTo>
                  <a:pt x="3345" y="18036"/>
                  <a:pt x="3379" y="18185"/>
                  <a:pt x="3373" y="18132"/>
                </a:cubicBezTo>
                <a:cubicBezTo>
                  <a:pt x="3365" y="18099"/>
                  <a:pt x="3357" y="18066"/>
                  <a:pt x="3349" y="18033"/>
                </a:cubicBezTo>
              </a:path>
              <a:path w="22325" h="3821">
                <a:moveTo>
                  <a:pt x="5283" y="17090"/>
                </a:moveTo>
                <a:cubicBezTo>
                  <a:pt x="5283" y="17161"/>
                  <a:pt x="5304" y="17220"/>
                  <a:pt x="5308" y="17289"/>
                </a:cubicBezTo>
                <a:cubicBezTo>
                  <a:pt x="5308" y="17305"/>
                  <a:pt x="5308" y="17322"/>
                  <a:pt x="5308" y="17338"/>
                </a:cubicBezTo>
                <a:cubicBezTo>
                  <a:pt x="5296" y="17269"/>
                  <a:pt x="5300" y="17182"/>
                  <a:pt x="5283" y="17115"/>
                </a:cubicBezTo>
                <a:cubicBezTo>
                  <a:pt x="5270" y="17063"/>
                  <a:pt x="5259" y="17045"/>
                  <a:pt x="5259" y="16991"/>
                </a:cubicBezTo>
                <a:cubicBezTo>
                  <a:pt x="5259" y="16924"/>
                  <a:pt x="5259" y="17008"/>
                  <a:pt x="5259" y="17016"/>
                </a:cubicBezTo>
              </a:path>
              <a:path w="22325" h="3821">
                <a:moveTo>
                  <a:pt x="4986" y="17859"/>
                </a:moveTo>
                <a:cubicBezTo>
                  <a:pt x="4978" y="17867"/>
                  <a:pt x="4969" y="17876"/>
                  <a:pt x="4961" y="17884"/>
                </a:cubicBezTo>
                <a:cubicBezTo>
                  <a:pt x="5008" y="17884"/>
                  <a:pt x="5040" y="17864"/>
                  <a:pt x="5085" y="17859"/>
                </a:cubicBezTo>
                <a:cubicBezTo>
                  <a:pt x="5093" y="17859"/>
                  <a:pt x="5102" y="17859"/>
                  <a:pt x="5110" y="17859"/>
                </a:cubicBezTo>
              </a:path>
              <a:path w="22325" h="3821">
                <a:moveTo>
                  <a:pt x="5283" y="17686"/>
                </a:moveTo>
                <a:cubicBezTo>
                  <a:pt x="5241" y="17628"/>
                  <a:pt x="5273" y="17583"/>
                  <a:pt x="5333" y="17537"/>
                </a:cubicBezTo>
                <a:cubicBezTo>
                  <a:pt x="5350" y="17529"/>
                  <a:pt x="5366" y="17520"/>
                  <a:pt x="5383" y="17512"/>
                </a:cubicBezTo>
                <a:cubicBezTo>
                  <a:pt x="5395" y="17602"/>
                  <a:pt x="5421" y="17657"/>
                  <a:pt x="5383" y="17735"/>
                </a:cubicBezTo>
                <a:cubicBezTo>
                  <a:pt x="5480" y="17735"/>
                  <a:pt x="5534" y="17767"/>
                  <a:pt x="5531" y="17884"/>
                </a:cubicBezTo>
                <a:cubicBezTo>
                  <a:pt x="5528" y="18002"/>
                  <a:pt x="5453" y="18065"/>
                  <a:pt x="5358" y="18033"/>
                </a:cubicBezTo>
              </a:path>
              <a:path w="22325" h="3821">
                <a:moveTo>
                  <a:pt x="9203" y="16297"/>
                </a:moveTo>
                <a:cubicBezTo>
                  <a:pt x="9184" y="16351"/>
                  <a:pt x="9177" y="16340"/>
                  <a:pt x="9153" y="16446"/>
                </a:cubicBezTo>
                <a:cubicBezTo>
                  <a:pt x="9177" y="16515"/>
                  <a:pt x="9199" y="16406"/>
                  <a:pt x="9203" y="16371"/>
                </a:cubicBezTo>
                <a:cubicBezTo>
                  <a:pt x="9222" y="16213"/>
                  <a:pt x="9139" y="16339"/>
                  <a:pt x="9128" y="16396"/>
                </a:cubicBezTo>
                <a:cubicBezTo>
                  <a:pt x="9108" y="16493"/>
                  <a:pt x="9190" y="16436"/>
                  <a:pt x="9203" y="16346"/>
                </a:cubicBezTo>
                <a:cubicBezTo>
                  <a:pt x="9229" y="16173"/>
                  <a:pt x="9116" y="16341"/>
                  <a:pt x="9103" y="16396"/>
                </a:cubicBezTo>
                <a:cubicBezTo>
                  <a:pt x="9072" y="16526"/>
                  <a:pt x="9206" y="16437"/>
                  <a:pt x="9227" y="16371"/>
                </a:cubicBezTo>
                <a:cubicBezTo>
                  <a:pt x="9267" y="16246"/>
                  <a:pt x="9126" y="16288"/>
                  <a:pt x="9103" y="16371"/>
                </a:cubicBezTo>
                <a:cubicBezTo>
                  <a:pt x="9063" y="16515"/>
                  <a:pt x="9153" y="16517"/>
                  <a:pt x="9227" y="16470"/>
                </a:cubicBezTo>
                <a:cubicBezTo>
                  <a:pt x="9229" y="16445"/>
                  <a:pt x="9205" y="16106"/>
                  <a:pt x="9128" y="16247"/>
                </a:cubicBezTo>
                <a:cubicBezTo>
                  <a:pt x="9111" y="16278"/>
                  <a:pt x="9084" y="16541"/>
                  <a:pt x="9203" y="16421"/>
                </a:cubicBezTo>
                <a:cubicBezTo>
                  <a:pt x="9219" y="16388"/>
                  <a:pt x="9236" y="16354"/>
                  <a:pt x="9252" y="16321"/>
                </a:cubicBezTo>
                <a:cubicBezTo>
                  <a:pt x="9238" y="16178"/>
                  <a:pt x="9125" y="16226"/>
                  <a:pt x="9079" y="16346"/>
                </a:cubicBezTo>
                <a:cubicBezTo>
                  <a:pt x="9022" y="16495"/>
                  <a:pt x="9137" y="16446"/>
                  <a:pt x="9203" y="16421"/>
                </a:cubicBezTo>
              </a:path>
              <a:path w="22325" h="3821">
                <a:moveTo>
                  <a:pt x="9327" y="16321"/>
                </a:moveTo>
                <a:cubicBezTo>
                  <a:pt x="9295" y="16332"/>
                  <a:pt x="9250" y="16328"/>
                  <a:pt x="9203" y="16346"/>
                </a:cubicBezTo>
                <a:cubicBezTo>
                  <a:pt x="9140" y="16370"/>
                  <a:pt x="9109" y="16449"/>
                  <a:pt x="9128" y="16520"/>
                </a:cubicBezTo>
                <a:cubicBezTo>
                  <a:pt x="9136" y="16528"/>
                  <a:pt x="9145" y="16537"/>
                  <a:pt x="9153" y="16545"/>
                </a:cubicBezTo>
                <a:cubicBezTo>
                  <a:pt x="9189" y="16438"/>
                  <a:pt x="9219" y="16394"/>
                  <a:pt x="9153" y="16297"/>
                </a:cubicBezTo>
                <a:cubicBezTo>
                  <a:pt x="9092" y="16342"/>
                  <a:pt x="8980" y="16433"/>
                  <a:pt x="9054" y="16520"/>
                </a:cubicBezTo>
                <a:cubicBezTo>
                  <a:pt x="9163" y="16649"/>
                  <a:pt x="9217" y="16398"/>
                  <a:pt x="9227" y="16346"/>
                </a:cubicBezTo>
                <a:cubicBezTo>
                  <a:pt x="9252" y="16219"/>
                  <a:pt x="9090" y="16393"/>
                  <a:pt x="9079" y="16421"/>
                </a:cubicBezTo>
                <a:cubicBezTo>
                  <a:pt x="9079" y="16472"/>
                  <a:pt x="9081" y="16489"/>
                  <a:pt x="9128" y="16495"/>
                </a:cubicBezTo>
                <a:cubicBezTo>
                  <a:pt x="9137" y="16488"/>
                  <a:pt x="9266" y="16308"/>
                  <a:pt x="9178" y="16321"/>
                </a:cubicBezTo>
                <a:cubicBezTo>
                  <a:pt x="9148" y="16351"/>
                  <a:pt x="9137" y="16365"/>
                  <a:pt x="9128" y="16396"/>
                </a:cubicBezTo>
              </a:path>
              <a:path w="22325" h="3821">
                <a:moveTo>
                  <a:pt x="5507" y="16222"/>
                </a:moveTo>
                <a:cubicBezTo>
                  <a:pt x="5484" y="16154"/>
                  <a:pt x="5474" y="16238"/>
                  <a:pt x="5482" y="16272"/>
                </a:cubicBezTo>
                <a:cubicBezTo>
                  <a:pt x="5486" y="16290"/>
                  <a:pt x="5588" y="16463"/>
                  <a:pt x="5581" y="16321"/>
                </a:cubicBezTo>
                <a:cubicBezTo>
                  <a:pt x="5577" y="16234"/>
                  <a:pt x="5457" y="16153"/>
                  <a:pt x="5457" y="16297"/>
                </a:cubicBezTo>
                <a:cubicBezTo>
                  <a:pt x="5457" y="16397"/>
                  <a:pt x="5536" y="16474"/>
                  <a:pt x="5556" y="16321"/>
                </a:cubicBezTo>
                <a:cubicBezTo>
                  <a:pt x="5556" y="16288"/>
                  <a:pt x="5556" y="16255"/>
                  <a:pt x="5556" y="16222"/>
                </a:cubicBezTo>
                <a:cubicBezTo>
                  <a:pt x="5467" y="16200"/>
                  <a:pt x="5467" y="16248"/>
                  <a:pt x="5482" y="16371"/>
                </a:cubicBezTo>
                <a:cubicBezTo>
                  <a:pt x="5504" y="16545"/>
                  <a:pt x="5606" y="16383"/>
                  <a:pt x="5606" y="16297"/>
                </a:cubicBezTo>
                <a:cubicBezTo>
                  <a:pt x="5606" y="16090"/>
                  <a:pt x="5457" y="16240"/>
                  <a:pt x="5457" y="16346"/>
                </a:cubicBezTo>
                <a:cubicBezTo>
                  <a:pt x="5457" y="16387"/>
                  <a:pt x="5565" y="16673"/>
                  <a:pt x="5606" y="16495"/>
                </a:cubicBezTo>
                <a:cubicBezTo>
                  <a:pt x="5620" y="16432"/>
                  <a:pt x="5570" y="16153"/>
                  <a:pt x="5457" y="16272"/>
                </a:cubicBezTo>
                <a:cubicBezTo>
                  <a:pt x="5393" y="16340"/>
                  <a:pt x="5441" y="16550"/>
                  <a:pt x="5531" y="16495"/>
                </a:cubicBezTo>
                <a:cubicBezTo>
                  <a:pt x="5611" y="16446"/>
                  <a:pt x="5662" y="16178"/>
                  <a:pt x="5507" y="16197"/>
                </a:cubicBezTo>
                <a:cubicBezTo>
                  <a:pt x="5313" y="16221"/>
                  <a:pt x="5438" y="16476"/>
                  <a:pt x="5482" y="16545"/>
                </a:cubicBezTo>
                <a:cubicBezTo>
                  <a:pt x="5604" y="16508"/>
                  <a:pt x="5573" y="16495"/>
                  <a:pt x="5606" y="16346"/>
                </a:cubicBezTo>
                <a:cubicBezTo>
                  <a:pt x="5561" y="16227"/>
                  <a:pt x="5409" y="16084"/>
                  <a:pt x="5383" y="16346"/>
                </a:cubicBezTo>
                <a:cubicBezTo>
                  <a:pt x="5369" y="16484"/>
                  <a:pt x="5541" y="16647"/>
                  <a:pt x="5581" y="16446"/>
                </a:cubicBezTo>
                <a:cubicBezTo>
                  <a:pt x="5601" y="16346"/>
                  <a:pt x="5515" y="16105"/>
                  <a:pt x="5482" y="16346"/>
                </a:cubicBezTo>
                <a:cubicBezTo>
                  <a:pt x="5482" y="16452"/>
                  <a:pt x="5469" y="16480"/>
                  <a:pt x="5531" y="16520"/>
                </a:cubicBezTo>
              </a:path>
              <a:path w="22325" h="3821">
                <a:moveTo>
                  <a:pt x="4341" y="15577"/>
                </a:moveTo>
                <a:cubicBezTo>
                  <a:pt x="4389" y="15565"/>
                  <a:pt x="4437" y="15537"/>
                  <a:pt x="4490" y="15528"/>
                </a:cubicBezTo>
                <a:cubicBezTo>
                  <a:pt x="4531" y="15528"/>
                  <a:pt x="4539" y="15528"/>
                  <a:pt x="4564" y="15528"/>
                </a:cubicBezTo>
              </a:path>
              <a:path w="22325" h="3821">
                <a:moveTo>
                  <a:pt x="4688" y="15280"/>
                </a:moveTo>
                <a:cubicBezTo>
                  <a:pt x="4715" y="15226"/>
                  <a:pt x="4727" y="15206"/>
                  <a:pt x="4762" y="15180"/>
                </a:cubicBezTo>
                <a:cubicBezTo>
                  <a:pt x="4820" y="15285"/>
                  <a:pt x="4808" y="15332"/>
                  <a:pt x="4787" y="15453"/>
                </a:cubicBezTo>
                <a:cubicBezTo>
                  <a:pt x="4928" y="15454"/>
                  <a:pt x="4970" y="15534"/>
                  <a:pt x="4862" y="15677"/>
                </a:cubicBezTo>
                <a:cubicBezTo>
                  <a:pt x="4804" y="15754"/>
                  <a:pt x="4763" y="15776"/>
                  <a:pt x="4713" y="15726"/>
                </a:cubicBezTo>
              </a:path>
              <a:path w="22325" h="3821">
                <a:moveTo>
                  <a:pt x="4986" y="14957"/>
                </a:moveTo>
                <a:cubicBezTo>
                  <a:pt x="5056" y="15157"/>
                  <a:pt x="5126" y="15358"/>
                  <a:pt x="5209" y="15553"/>
                </a:cubicBezTo>
                <a:cubicBezTo>
                  <a:pt x="5217" y="15569"/>
                  <a:pt x="5226" y="15586"/>
                  <a:pt x="5234" y="15602"/>
                </a:cubicBezTo>
              </a:path>
              <a:path w="22325" h="3821">
                <a:moveTo>
                  <a:pt x="4093" y="15429"/>
                </a:moveTo>
                <a:cubicBezTo>
                  <a:pt x="4117" y="15640"/>
                  <a:pt x="4143" y="15845"/>
                  <a:pt x="4192" y="16049"/>
                </a:cubicBezTo>
                <a:cubicBezTo>
                  <a:pt x="4202" y="16090"/>
                  <a:pt x="4220" y="16057"/>
                  <a:pt x="4266" y="16049"/>
                </a:cubicBezTo>
              </a:path>
              <a:path w="22325" h="3821">
                <a:moveTo>
                  <a:pt x="4043" y="15404"/>
                </a:moveTo>
                <a:cubicBezTo>
                  <a:pt x="4036" y="15348"/>
                  <a:pt x="4016" y="15247"/>
                  <a:pt x="3969" y="15205"/>
                </a:cubicBezTo>
                <a:cubicBezTo>
                  <a:pt x="3944" y="15205"/>
                  <a:pt x="3936" y="15205"/>
                  <a:pt x="3944" y="15180"/>
                </a:cubicBezTo>
                <a:cubicBezTo>
                  <a:pt x="3996" y="15387"/>
                  <a:pt x="4098" y="15596"/>
                  <a:pt x="4167" y="15801"/>
                </a:cubicBezTo>
                <a:cubicBezTo>
                  <a:pt x="4206" y="15915"/>
                  <a:pt x="4222" y="15929"/>
                  <a:pt x="4217" y="15999"/>
                </a:cubicBezTo>
              </a:path>
              <a:path w="22325" h="3821">
                <a:moveTo>
                  <a:pt x="4936" y="14957"/>
                </a:moveTo>
                <a:cubicBezTo>
                  <a:pt x="5052" y="15150"/>
                  <a:pt x="5149" y="15382"/>
                  <a:pt x="5209" y="15602"/>
                </a:cubicBezTo>
                <a:cubicBezTo>
                  <a:pt x="5230" y="15680"/>
                  <a:pt x="5213" y="15770"/>
                  <a:pt x="5259" y="15801"/>
                </a:cubicBezTo>
              </a:path>
              <a:path w="22325" h="3821">
                <a:moveTo>
                  <a:pt x="5556" y="15404"/>
                </a:moveTo>
                <a:cubicBezTo>
                  <a:pt x="5610" y="15422"/>
                  <a:pt x="5741" y="15368"/>
                  <a:pt x="5779" y="15379"/>
                </a:cubicBezTo>
                <a:cubicBezTo>
                  <a:pt x="5779" y="15387"/>
                  <a:pt x="5779" y="15396"/>
                  <a:pt x="5779" y="15404"/>
                </a:cubicBezTo>
              </a:path>
              <a:path w="22325" h="3821">
                <a:moveTo>
                  <a:pt x="5655" y="15652"/>
                </a:moveTo>
                <a:cubicBezTo>
                  <a:pt x="5738" y="15577"/>
                  <a:pt x="5750" y="15553"/>
                  <a:pt x="5854" y="15553"/>
                </a:cubicBezTo>
                <a:cubicBezTo>
                  <a:pt x="5901" y="15553"/>
                  <a:pt x="5921" y="15535"/>
                  <a:pt x="5928" y="15478"/>
                </a:cubicBezTo>
              </a:path>
              <a:path w="22325" h="3821">
                <a:moveTo>
                  <a:pt x="6176" y="15156"/>
                </a:moveTo>
                <a:cubicBezTo>
                  <a:pt x="6195" y="15063"/>
                  <a:pt x="6230" y="15070"/>
                  <a:pt x="6325" y="15056"/>
                </a:cubicBezTo>
                <a:cubicBezTo>
                  <a:pt x="6339" y="15178"/>
                  <a:pt x="6367" y="15285"/>
                  <a:pt x="6251" y="15354"/>
                </a:cubicBezTo>
                <a:cubicBezTo>
                  <a:pt x="6278" y="15285"/>
                  <a:pt x="6381" y="15223"/>
                  <a:pt x="6449" y="15304"/>
                </a:cubicBezTo>
                <a:cubicBezTo>
                  <a:pt x="6537" y="15409"/>
                  <a:pt x="6384" y="15572"/>
                  <a:pt x="6300" y="15627"/>
                </a:cubicBezTo>
                <a:cubicBezTo>
                  <a:pt x="6276" y="15627"/>
                  <a:pt x="6268" y="15627"/>
                  <a:pt x="6276" y="15602"/>
                </a:cubicBezTo>
              </a:path>
              <a:path w="22325" h="3821">
                <a:moveTo>
                  <a:pt x="6697" y="17041"/>
                </a:moveTo>
                <a:cubicBezTo>
                  <a:pt x="6697" y="17016"/>
                  <a:pt x="6697" y="17008"/>
                  <a:pt x="6697" y="16991"/>
                </a:cubicBezTo>
                <a:cubicBezTo>
                  <a:pt x="6769" y="17063"/>
                  <a:pt x="6789" y="17174"/>
                  <a:pt x="6796" y="17289"/>
                </a:cubicBezTo>
                <a:cubicBezTo>
                  <a:pt x="6796" y="17314"/>
                  <a:pt x="6796" y="17322"/>
                  <a:pt x="6772" y="17314"/>
                </a:cubicBezTo>
              </a:path>
              <a:path w="22325" h="3821">
                <a:moveTo>
                  <a:pt x="6077" y="17090"/>
                </a:moveTo>
                <a:cubicBezTo>
                  <a:pt x="6050" y="17055"/>
                  <a:pt x="6060" y="17052"/>
                  <a:pt x="6028" y="17041"/>
                </a:cubicBezTo>
                <a:cubicBezTo>
                  <a:pt x="6028" y="17160"/>
                  <a:pt x="6035" y="17272"/>
                  <a:pt x="6052" y="17388"/>
                </a:cubicBezTo>
                <a:cubicBezTo>
                  <a:pt x="6052" y="17413"/>
                  <a:pt x="6052" y="17421"/>
                  <a:pt x="6052" y="17388"/>
                </a:cubicBezTo>
              </a:path>
              <a:path w="22325" h="3821">
                <a:moveTo>
                  <a:pt x="8012" y="17066"/>
                </a:moveTo>
                <a:cubicBezTo>
                  <a:pt x="8028" y="17175"/>
                  <a:pt x="8056" y="17277"/>
                  <a:pt x="8062" y="17388"/>
                </a:cubicBezTo>
                <a:cubicBezTo>
                  <a:pt x="8062" y="17423"/>
                  <a:pt x="8071" y="17427"/>
                  <a:pt x="8111" y="17388"/>
                </a:cubicBezTo>
              </a:path>
              <a:path w="22325" h="3821">
                <a:moveTo>
                  <a:pt x="8632" y="16991"/>
                </a:moveTo>
                <a:cubicBezTo>
                  <a:pt x="8566" y="17056"/>
                  <a:pt x="8584" y="17210"/>
                  <a:pt x="8607" y="17314"/>
                </a:cubicBezTo>
                <a:cubicBezTo>
                  <a:pt x="8615" y="17330"/>
                  <a:pt x="8624" y="17347"/>
                  <a:pt x="8632" y="17363"/>
                </a:cubicBezTo>
              </a:path>
              <a:path w="22325" h="3821">
                <a:moveTo>
                  <a:pt x="8657" y="15280"/>
                </a:moveTo>
                <a:cubicBezTo>
                  <a:pt x="8684" y="15471"/>
                  <a:pt x="8739" y="15660"/>
                  <a:pt x="8781" y="15850"/>
                </a:cubicBezTo>
              </a:path>
              <a:path w="22325" h="3821">
                <a:moveTo>
                  <a:pt x="8905" y="15304"/>
                </a:moveTo>
                <a:cubicBezTo>
                  <a:pt x="8937" y="15229"/>
                  <a:pt x="8963" y="15230"/>
                  <a:pt x="9054" y="15230"/>
                </a:cubicBezTo>
                <a:cubicBezTo>
                  <a:pt x="9047" y="15349"/>
                  <a:pt x="9041" y="15406"/>
                  <a:pt x="8979" y="15503"/>
                </a:cubicBezTo>
                <a:cubicBezTo>
                  <a:pt x="9135" y="15477"/>
                  <a:pt x="9191" y="15559"/>
                  <a:pt x="9103" y="15726"/>
                </a:cubicBezTo>
                <a:cubicBezTo>
                  <a:pt x="9027" y="15870"/>
                  <a:pt x="8977" y="15798"/>
                  <a:pt x="8930" y="15726"/>
                </a:cubicBezTo>
              </a:path>
              <a:path w="22325" h="3821">
                <a:moveTo>
                  <a:pt x="9203" y="15032"/>
                </a:moveTo>
                <a:cubicBezTo>
                  <a:pt x="9324" y="15275"/>
                  <a:pt x="9367" y="15514"/>
                  <a:pt x="9426" y="15776"/>
                </a:cubicBezTo>
                <a:cubicBezTo>
                  <a:pt x="9445" y="15833"/>
                  <a:pt x="9436" y="15858"/>
                  <a:pt x="9475" y="15850"/>
                </a:cubicBezTo>
              </a:path>
              <a:path w="22325" h="3821">
                <a:moveTo>
                  <a:pt x="9649" y="15379"/>
                </a:moveTo>
                <a:cubicBezTo>
                  <a:pt x="9653" y="15378"/>
                  <a:pt x="9823" y="15297"/>
                  <a:pt x="9823" y="15304"/>
                </a:cubicBezTo>
                <a:cubicBezTo>
                  <a:pt x="9815" y="15312"/>
                  <a:pt x="9806" y="15321"/>
                  <a:pt x="9798" y="15329"/>
                </a:cubicBezTo>
              </a:path>
              <a:path w="22325" h="3821">
                <a:moveTo>
                  <a:pt x="9723" y="15602"/>
                </a:moveTo>
                <a:cubicBezTo>
                  <a:pt x="9824" y="15502"/>
                  <a:pt x="9858" y="15469"/>
                  <a:pt x="9947" y="15429"/>
                </a:cubicBezTo>
              </a:path>
              <a:path w="22325" h="3821">
                <a:moveTo>
                  <a:pt x="12402" y="15974"/>
                </a:moveTo>
                <a:cubicBezTo>
                  <a:pt x="12468" y="15936"/>
                  <a:pt x="12501" y="15913"/>
                  <a:pt x="12576" y="15900"/>
                </a:cubicBezTo>
              </a:path>
              <a:path w="22325" h="3821">
                <a:moveTo>
                  <a:pt x="1910" y="15801"/>
                </a:moveTo>
                <a:cubicBezTo>
                  <a:pt x="1870" y="15788"/>
                  <a:pt x="1900" y="15789"/>
                  <a:pt x="1860" y="15776"/>
                </a:cubicBezTo>
                <a:cubicBezTo>
                  <a:pt x="1804" y="15893"/>
                  <a:pt x="1961" y="16076"/>
                  <a:pt x="2034" y="16197"/>
                </a:cubicBezTo>
                <a:cubicBezTo>
                  <a:pt x="2042" y="16214"/>
                  <a:pt x="2051" y="16230"/>
                  <a:pt x="2059" y="16247"/>
                </a:cubicBezTo>
              </a:path>
              <a:path w="22325" h="3821">
                <a:moveTo>
                  <a:pt x="2084" y="16073"/>
                </a:moveTo>
                <a:cubicBezTo>
                  <a:pt x="2141" y="16052"/>
                  <a:pt x="2172" y="16036"/>
                  <a:pt x="2208" y="16024"/>
                </a:cubicBezTo>
              </a:path>
              <a:path w="22325" h="3821">
                <a:moveTo>
                  <a:pt x="2282" y="15850"/>
                </a:moveTo>
                <a:cubicBezTo>
                  <a:pt x="2339" y="15935"/>
                  <a:pt x="2405" y="16007"/>
                  <a:pt x="2456" y="16098"/>
                </a:cubicBezTo>
                <a:cubicBezTo>
                  <a:pt x="2492" y="16091"/>
                  <a:pt x="2571" y="16087"/>
                  <a:pt x="2604" y="16073"/>
                </a:cubicBezTo>
                <a:cubicBezTo>
                  <a:pt x="2640" y="16059"/>
                  <a:pt x="2666" y="16025"/>
                  <a:pt x="2679" y="15999"/>
                </a:cubicBezTo>
                <a:cubicBezTo>
                  <a:pt x="2654" y="16012"/>
                  <a:pt x="2595" y="16075"/>
                  <a:pt x="2629" y="16123"/>
                </a:cubicBezTo>
                <a:cubicBezTo>
                  <a:pt x="2646" y="16147"/>
                  <a:pt x="2697" y="16080"/>
                  <a:pt x="2704" y="16073"/>
                </a:cubicBezTo>
              </a:path>
              <a:path w="22325" h="3821">
                <a:moveTo>
                  <a:pt x="2604" y="15652"/>
                </a:moveTo>
                <a:cubicBezTo>
                  <a:pt x="2611" y="15672"/>
                  <a:pt x="2614" y="15703"/>
                  <a:pt x="2629" y="15726"/>
                </a:cubicBezTo>
                <a:cubicBezTo>
                  <a:pt x="2697" y="15834"/>
                  <a:pt x="2830" y="16099"/>
                  <a:pt x="2952" y="16148"/>
                </a:cubicBezTo>
                <a:cubicBezTo>
                  <a:pt x="2975" y="16125"/>
                  <a:pt x="2983" y="16121"/>
                  <a:pt x="2977" y="16098"/>
                </a:cubicBezTo>
              </a:path>
              <a:path w="22325" h="3821">
                <a:moveTo>
                  <a:pt x="2902" y="15875"/>
                </a:moveTo>
                <a:cubicBezTo>
                  <a:pt x="2866" y="15875"/>
                  <a:pt x="2891" y="15883"/>
                  <a:pt x="2902" y="15850"/>
                </a:cubicBezTo>
              </a:path>
              <a:path w="22325" h="3821">
                <a:moveTo>
                  <a:pt x="2927" y="15999"/>
                </a:moveTo>
                <a:cubicBezTo>
                  <a:pt x="2955" y="15999"/>
                  <a:pt x="2966" y="15997"/>
                  <a:pt x="2977" y="15974"/>
                </a:cubicBezTo>
              </a:path>
              <a:path w="22325" h="3821">
                <a:moveTo>
                  <a:pt x="3051" y="15677"/>
                </a:moveTo>
                <a:cubicBezTo>
                  <a:pt x="3074" y="15732"/>
                  <a:pt x="3133" y="15823"/>
                  <a:pt x="3175" y="15875"/>
                </a:cubicBezTo>
                <a:cubicBezTo>
                  <a:pt x="3227" y="15939"/>
                  <a:pt x="3243" y="15992"/>
                  <a:pt x="3324" y="15999"/>
                </a:cubicBezTo>
                <a:cubicBezTo>
                  <a:pt x="3411" y="16006"/>
                  <a:pt x="3462" y="15885"/>
                  <a:pt x="3497" y="15825"/>
                </a:cubicBezTo>
                <a:cubicBezTo>
                  <a:pt x="3537" y="15756"/>
                  <a:pt x="3521" y="15757"/>
                  <a:pt x="3497" y="15677"/>
                </a:cubicBezTo>
                <a:cubicBezTo>
                  <a:pt x="3421" y="15677"/>
                  <a:pt x="3382" y="15716"/>
                  <a:pt x="3398" y="15801"/>
                </a:cubicBezTo>
                <a:cubicBezTo>
                  <a:pt x="3403" y="15827"/>
                  <a:pt x="3454" y="15877"/>
                  <a:pt x="3473" y="15900"/>
                </a:cubicBezTo>
              </a:path>
              <a:path w="22325" h="3821">
                <a:moveTo>
                  <a:pt x="992" y="14312"/>
                </a:moveTo>
                <a:cubicBezTo>
                  <a:pt x="941" y="14329"/>
                  <a:pt x="1034" y="14558"/>
                  <a:pt x="1042" y="14585"/>
                </a:cubicBezTo>
                <a:cubicBezTo>
                  <a:pt x="1088" y="14739"/>
                  <a:pt x="1185" y="14901"/>
                  <a:pt x="1215" y="15056"/>
                </a:cubicBezTo>
              </a:path>
              <a:path w="22325" h="3821">
                <a:moveTo>
                  <a:pt x="769" y="15131"/>
                </a:moveTo>
                <a:cubicBezTo>
                  <a:pt x="973" y="14917"/>
                  <a:pt x="1141" y="14653"/>
                  <a:pt x="1364" y="14461"/>
                </a:cubicBezTo>
                <a:cubicBezTo>
                  <a:pt x="1364" y="14513"/>
                  <a:pt x="1345" y="14540"/>
                  <a:pt x="1290" y="14560"/>
                </a:cubicBezTo>
              </a:path>
              <a:path w="22325" h="3821">
                <a:moveTo>
                  <a:pt x="1116" y="14312"/>
                </a:moveTo>
                <a:cubicBezTo>
                  <a:pt x="1088" y="14627"/>
                  <a:pt x="1027" y="14940"/>
                  <a:pt x="992" y="15255"/>
                </a:cubicBezTo>
                <a:cubicBezTo>
                  <a:pt x="986" y="15304"/>
                  <a:pt x="992" y="15206"/>
                  <a:pt x="992" y="15156"/>
                </a:cubicBezTo>
              </a:path>
              <a:path w="22325" h="3821">
                <a:moveTo>
                  <a:pt x="744" y="14709"/>
                </a:moveTo>
                <a:cubicBezTo>
                  <a:pt x="944" y="14709"/>
                  <a:pt x="1139" y="14729"/>
                  <a:pt x="1339" y="14734"/>
                </a:cubicBezTo>
                <a:cubicBezTo>
                  <a:pt x="1364" y="14734"/>
                  <a:pt x="1389" y="14734"/>
                  <a:pt x="1414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14840" y="5438880"/>
            <a:ext cx="1455480" cy="830160"/>
          </a:xfrm>
          <a:custGeom>
            <a:avLst/>
            <a:gdLst/>
            <a:ahLst/>
            <a:rect l="l" t="t" r="r" b="b"/>
            <a:pathLst>
              <a:path w="4044" h="2308">
                <a:moveTo>
                  <a:pt x="13742" y="16818"/>
                </a:moveTo>
                <a:cubicBezTo>
                  <a:pt x="13936" y="16934"/>
                  <a:pt x="14098" y="16960"/>
                  <a:pt x="14312" y="17016"/>
                </a:cubicBezTo>
                <a:cubicBezTo>
                  <a:pt x="14329" y="17024"/>
                  <a:pt x="14345" y="17033"/>
                  <a:pt x="14362" y="17041"/>
                </a:cubicBezTo>
                <a:cubicBezTo>
                  <a:pt x="14231" y="17116"/>
                  <a:pt x="14054" y="17249"/>
                  <a:pt x="13940" y="17363"/>
                </a:cubicBezTo>
                <a:cubicBezTo>
                  <a:pt x="13932" y="17380"/>
                  <a:pt x="13923" y="17396"/>
                  <a:pt x="13915" y="17413"/>
                </a:cubicBezTo>
              </a:path>
              <a:path w="4044" h="2308">
                <a:moveTo>
                  <a:pt x="10368" y="15156"/>
                </a:moveTo>
                <a:cubicBezTo>
                  <a:pt x="10315" y="15128"/>
                  <a:pt x="10449" y="15078"/>
                  <a:pt x="10468" y="15131"/>
                </a:cubicBezTo>
                <a:cubicBezTo>
                  <a:pt x="10468" y="15217"/>
                  <a:pt x="10462" y="15253"/>
                  <a:pt x="10418" y="15304"/>
                </a:cubicBezTo>
                <a:cubicBezTo>
                  <a:pt x="10410" y="15321"/>
                  <a:pt x="10401" y="15337"/>
                  <a:pt x="10393" y="15354"/>
                </a:cubicBezTo>
                <a:cubicBezTo>
                  <a:pt x="10474" y="15297"/>
                  <a:pt x="10678" y="15225"/>
                  <a:pt x="10616" y="15429"/>
                </a:cubicBezTo>
                <a:cubicBezTo>
                  <a:pt x="10559" y="15616"/>
                  <a:pt x="10466" y="15585"/>
                  <a:pt x="10319" y="15577"/>
                </a:cubicBezTo>
              </a:path>
              <a:path w="4044" h="2308">
                <a:moveTo>
                  <a:pt x="11286" y="15825"/>
                </a:moveTo>
                <a:cubicBezTo>
                  <a:pt x="11302" y="15985"/>
                  <a:pt x="11359" y="16137"/>
                  <a:pt x="11385" y="16297"/>
                </a:cubicBezTo>
                <a:cubicBezTo>
                  <a:pt x="11385" y="16329"/>
                  <a:pt x="11385" y="16329"/>
                  <a:pt x="11385" y="16272"/>
                </a:cubicBezTo>
              </a:path>
              <a:path w="4044" h="2308">
                <a:moveTo>
                  <a:pt x="11485" y="15850"/>
                </a:moveTo>
                <a:cubicBezTo>
                  <a:pt x="11504" y="15968"/>
                  <a:pt x="11555" y="16068"/>
                  <a:pt x="11609" y="16173"/>
                </a:cubicBezTo>
                <a:cubicBezTo>
                  <a:pt x="11676" y="16302"/>
                  <a:pt x="11798" y="16119"/>
                  <a:pt x="11832" y="16049"/>
                </a:cubicBezTo>
                <a:cubicBezTo>
                  <a:pt x="11854" y="15984"/>
                  <a:pt x="11862" y="15969"/>
                  <a:pt x="11857" y="15925"/>
                </a:cubicBezTo>
                <a:cubicBezTo>
                  <a:pt x="11775" y="15925"/>
                  <a:pt x="11738" y="15960"/>
                  <a:pt x="11708" y="16049"/>
                </a:cubicBezTo>
                <a:cubicBezTo>
                  <a:pt x="11682" y="16126"/>
                  <a:pt x="11734" y="16134"/>
                  <a:pt x="11782" y="16148"/>
                </a:cubicBezTo>
              </a:path>
              <a:path w="4044" h="2308">
                <a:moveTo>
                  <a:pt x="11956" y="15478"/>
                </a:moveTo>
                <a:cubicBezTo>
                  <a:pt x="11983" y="15664"/>
                  <a:pt x="12065" y="15838"/>
                  <a:pt x="12105" y="16024"/>
                </a:cubicBezTo>
                <a:cubicBezTo>
                  <a:pt x="12118" y="16087"/>
                  <a:pt x="12154" y="16340"/>
                  <a:pt x="12154" y="16123"/>
                </a:cubicBezTo>
              </a:path>
              <a:path w="4044" h="2308">
                <a:moveTo>
                  <a:pt x="12378" y="15801"/>
                </a:moveTo>
                <a:cubicBezTo>
                  <a:pt x="12424" y="15739"/>
                  <a:pt x="12475" y="15697"/>
                  <a:pt x="12502" y="15751"/>
                </a:cubicBezTo>
              </a:path>
              <a:path w="4044" h="2308">
                <a:moveTo>
                  <a:pt x="12799" y="15429"/>
                </a:moveTo>
                <a:cubicBezTo>
                  <a:pt x="12872" y="15477"/>
                  <a:pt x="12870" y="15676"/>
                  <a:pt x="12874" y="15776"/>
                </a:cubicBezTo>
                <a:cubicBezTo>
                  <a:pt x="12878" y="15878"/>
                  <a:pt x="12866" y="16098"/>
                  <a:pt x="13047" y="15999"/>
                </a:cubicBezTo>
                <a:cubicBezTo>
                  <a:pt x="13103" y="15968"/>
                  <a:pt x="13290" y="15753"/>
                  <a:pt x="13221" y="15677"/>
                </a:cubicBezTo>
                <a:cubicBezTo>
                  <a:pt x="13204" y="15677"/>
                  <a:pt x="13188" y="15677"/>
                  <a:pt x="13171" y="15677"/>
                </a:cubicBezTo>
                <a:cubicBezTo>
                  <a:pt x="13096" y="15817"/>
                  <a:pt x="13072" y="15914"/>
                  <a:pt x="13072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76960" y="5375160"/>
            <a:ext cx="2706840" cy="608040"/>
          </a:xfrm>
          <a:custGeom>
            <a:avLst/>
            <a:gdLst/>
            <a:ahLst/>
            <a:rect l="l" t="t" r="r" b="b"/>
            <a:pathLst>
              <a:path w="7517" h="1688">
                <a:moveTo>
                  <a:pt x="17760" y="15255"/>
                </a:moveTo>
                <a:cubicBezTo>
                  <a:pt x="17866" y="15268"/>
                  <a:pt x="17950" y="15246"/>
                  <a:pt x="18058" y="15255"/>
                </a:cubicBezTo>
                <a:cubicBezTo>
                  <a:pt x="18194" y="15267"/>
                  <a:pt x="18316" y="15272"/>
                  <a:pt x="18455" y="15255"/>
                </a:cubicBezTo>
                <a:cubicBezTo>
                  <a:pt x="18637" y="15233"/>
                  <a:pt x="18818" y="15194"/>
                  <a:pt x="19000" y="15180"/>
                </a:cubicBezTo>
                <a:cubicBezTo>
                  <a:pt x="19125" y="15171"/>
                  <a:pt x="19247" y="15140"/>
                  <a:pt x="19372" y="15131"/>
                </a:cubicBezTo>
                <a:cubicBezTo>
                  <a:pt x="19502" y="15121"/>
                  <a:pt x="19642" y="15114"/>
                  <a:pt x="19769" y="15106"/>
                </a:cubicBezTo>
                <a:cubicBezTo>
                  <a:pt x="19912" y="15097"/>
                  <a:pt x="20047" y="15081"/>
                  <a:pt x="20191" y="15081"/>
                </a:cubicBezTo>
                <a:cubicBezTo>
                  <a:pt x="20334" y="15081"/>
                  <a:pt x="20470" y="15043"/>
                  <a:pt x="20613" y="15056"/>
                </a:cubicBezTo>
                <a:cubicBezTo>
                  <a:pt x="20755" y="15068"/>
                  <a:pt x="20889" y="15081"/>
                  <a:pt x="21034" y="15081"/>
                </a:cubicBezTo>
                <a:cubicBezTo>
                  <a:pt x="21219" y="15081"/>
                  <a:pt x="21399" y="15093"/>
                  <a:pt x="21580" y="15106"/>
                </a:cubicBezTo>
                <a:cubicBezTo>
                  <a:pt x="21729" y="15116"/>
                  <a:pt x="21879" y="15127"/>
                  <a:pt x="22027" y="15131"/>
                </a:cubicBezTo>
                <a:cubicBezTo>
                  <a:pt x="22127" y="15133"/>
                  <a:pt x="22226" y="15120"/>
                  <a:pt x="22324" y="15106"/>
                </a:cubicBezTo>
                <a:cubicBezTo>
                  <a:pt x="22452" y="15087"/>
                  <a:pt x="22567" y="15081"/>
                  <a:pt x="22696" y="15081"/>
                </a:cubicBezTo>
                <a:cubicBezTo>
                  <a:pt x="22746" y="15081"/>
                  <a:pt x="22763" y="15081"/>
                  <a:pt x="22796" y="15081"/>
                </a:cubicBezTo>
              </a:path>
              <a:path w="7517" h="1688">
                <a:moveTo>
                  <a:pt x="19670" y="15528"/>
                </a:moveTo>
                <a:cubicBezTo>
                  <a:pt x="19640" y="15634"/>
                  <a:pt x="19633" y="15954"/>
                  <a:pt x="19596" y="15850"/>
                </a:cubicBezTo>
                <a:cubicBezTo>
                  <a:pt x="19596" y="15834"/>
                  <a:pt x="19596" y="15817"/>
                  <a:pt x="19596" y="15801"/>
                </a:cubicBezTo>
              </a:path>
              <a:path w="7517" h="1688">
                <a:moveTo>
                  <a:pt x="20042" y="15528"/>
                </a:moveTo>
                <a:cubicBezTo>
                  <a:pt x="19979" y="15542"/>
                  <a:pt x="19946" y="15558"/>
                  <a:pt x="19893" y="15602"/>
                </a:cubicBezTo>
                <a:cubicBezTo>
                  <a:pt x="19992" y="15622"/>
                  <a:pt x="20081" y="15652"/>
                  <a:pt x="20166" y="15701"/>
                </a:cubicBezTo>
                <a:cubicBezTo>
                  <a:pt x="20059" y="15809"/>
                  <a:pt x="19959" y="15897"/>
                  <a:pt x="19893" y="15751"/>
                </a:cubicBezTo>
              </a:path>
              <a:path w="7517" h="1688">
                <a:moveTo>
                  <a:pt x="20960" y="15404"/>
                </a:moveTo>
                <a:cubicBezTo>
                  <a:pt x="20966" y="15529"/>
                  <a:pt x="20985" y="15651"/>
                  <a:pt x="20985" y="15776"/>
                </a:cubicBezTo>
              </a:path>
              <a:path w="7517" h="1688">
                <a:moveTo>
                  <a:pt x="20687" y="15577"/>
                </a:moveTo>
                <a:cubicBezTo>
                  <a:pt x="20820" y="15593"/>
                  <a:pt x="21152" y="15683"/>
                  <a:pt x="21183" y="15478"/>
                </a:cubicBezTo>
                <a:cubicBezTo>
                  <a:pt x="21191" y="15428"/>
                  <a:pt x="21158" y="15378"/>
                  <a:pt x="21158" y="15429"/>
                </a:cubicBezTo>
                <a:cubicBezTo>
                  <a:pt x="21225" y="15583"/>
                  <a:pt x="21246" y="15620"/>
                  <a:pt x="21258" y="15726"/>
                </a:cubicBezTo>
                <a:cubicBezTo>
                  <a:pt x="21258" y="15646"/>
                  <a:pt x="21247" y="15556"/>
                  <a:pt x="21357" y="15553"/>
                </a:cubicBezTo>
                <a:cubicBezTo>
                  <a:pt x="21499" y="15549"/>
                  <a:pt x="21532" y="15630"/>
                  <a:pt x="21605" y="15726"/>
                </a:cubicBezTo>
              </a:path>
              <a:path w="7517" h="1688">
                <a:moveTo>
                  <a:pt x="21704" y="15602"/>
                </a:moveTo>
                <a:cubicBezTo>
                  <a:pt x="21730" y="15576"/>
                  <a:pt x="21829" y="15516"/>
                  <a:pt x="21878" y="15478"/>
                </a:cubicBezTo>
                <a:cubicBezTo>
                  <a:pt x="21774" y="15468"/>
                  <a:pt x="21609" y="15519"/>
                  <a:pt x="21654" y="15677"/>
                </a:cubicBezTo>
                <a:cubicBezTo>
                  <a:pt x="21723" y="15745"/>
                  <a:pt x="21767" y="15757"/>
                  <a:pt x="21853" y="15701"/>
                </a:cubicBezTo>
              </a:path>
              <a:path w="7517" h="1688">
                <a:moveTo>
                  <a:pt x="23093" y="15429"/>
                </a:moveTo>
                <a:cubicBezTo>
                  <a:pt x="23093" y="15441"/>
                  <a:pt x="23086" y="15724"/>
                  <a:pt x="23118" y="15627"/>
                </a:cubicBezTo>
                <a:cubicBezTo>
                  <a:pt x="23118" y="15528"/>
                  <a:pt x="23118" y="15462"/>
                  <a:pt x="23118" y="15379"/>
                </a:cubicBezTo>
              </a:path>
              <a:path w="7517" h="1688">
                <a:moveTo>
                  <a:pt x="23292" y="15304"/>
                </a:moveTo>
                <a:cubicBezTo>
                  <a:pt x="23213" y="15463"/>
                  <a:pt x="23397" y="15382"/>
                  <a:pt x="23490" y="15503"/>
                </a:cubicBezTo>
                <a:cubicBezTo>
                  <a:pt x="23577" y="15616"/>
                  <a:pt x="23301" y="15567"/>
                  <a:pt x="23242" y="15503"/>
                </a:cubicBezTo>
              </a:path>
              <a:path w="7517" h="1688">
                <a:moveTo>
                  <a:pt x="23614" y="14982"/>
                </a:moveTo>
                <a:cubicBezTo>
                  <a:pt x="23637" y="15135"/>
                  <a:pt x="23601" y="15363"/>
                  <a:pt x="23664" y="15503"/>
                </a:cubicBezTo>
                <a:cubicBezTo>
                  <a:pt x="23672" y="15503"/>
                  <a:pt x="23680" y="15503"/>
                  <a:pt x="23688" y="15503"/>
                </a:cubicBezTo>
              </a:path>
              <a:path w="7517" h="1688">
                <a:moveTo>
                  <a:pt x="23391" y="15304"/>
                </a:moveTo>
                <a:cubicBezTo>
                  <a:pt x="23538" y="15299"/>
                  <a:pt x="23670" y="15289"/>
                  <a:pt x="23812" y="15304"/>
                </a:cubicBezTo>
              </a:path>
              <a:path w="7517" h="1688">
                <a:moveTo>
                  <a:pt x="24085" y="15379"/>
                </a:moveTo>
                <a:cubicBezTo>
                  <a:pt x="24052" y="15241"/>
                  <a:pt x="23899" y="15327"/>
                  <a:pt x="23837" y="15404"/>
                </a:cubicBezTo>
                <a:cubicBezTo>
                  <a:pt x="23796" y="15508"/>
                  <a:pt x="23764" y="15534"/>
                  <a:pt x="23837" y="15577"/>
                </a:cubicBezTo>
                <a:cubicBezTo>
                  <a:pt x="23973" y="15536"/>
                  <a:pt x="23978" y="15511"/>
                  <a:pt x="24036" y="15379"/>
                </a:cubicBezTo>
                <a:cubicBezTo>
                  <a:pt x="24061" y="15469"/>
                  <a:pt x="24087" y="15551"/>
                  <a:pt x="24160" y="15478"/>
                </a:cubicBezTo>
              </a:path>
              <a:path w="7517" h="1688">
                <a:moveTo>
                  <a:pt x="24085" y="15404"/>
                </a:moveTo>
                <a:cubicBezTo>
                  <a:pt x="24077" y="15437"/>
                  <a:pt x="24069" y="15470"/>
                  <a:pt x="24061" y="15503"/>
                </a:cubicBezTo>
                <a:cubicBezTo>
                  <a:pt x="24066" y="15438"/>
                  <a:pt x="24046" y="15238"/>
                  <a:pt x="24160" y="15255"/>
                </a:cubicBezTo>
                <a:cubicBezTo>
                  <a:pt x="24290" y="15275"/>
                  <a:pt x="24294" y="15427"/>
                  <a:pt x="24333" y="15528"/>
                </a:cubicBezTo>
              </a:path>
              <a:path w="7517" h="1688">
                <a:moveTo>
                  <a:pt x="24532" y="15255"/>
                </a:moveTo>
                <a:cubicBezTo>
                  <a:pt x="24557" y="15255"/>
                  <a:pt x="24565" y="15255"/>
                  <a:pt x="24581" y="15255"/>
                </a:cubicBezTo>
                <a:cubicBezTo>
                  <a:pt x="24512" y="15198"/>
                  <a:pt x="24394" y="15351"/>
                  <a:pt x="24433" y="15453"/>
                </a:cubicBezTo>
                <a:cubicBezTo>
                  <a:pt x="24473" y="15557"/>
                  <a:pt x="24669" y="15488"/>
                  <a:pt x="24730" y="15478"/>
                </a:cubicBezTo>
              </a:path>
              <a:path w="7517" h="1688">
                <a:moveTo>
                  <a:pt x="24805" y="15354"/>
                </a:moveTo>
                <a:cubicBezTo>
                  <a:pt x="24853" y="15319"/>
                  <a:pt x="24905" y="15274"/>
                  <a:pt x="24954" y="15255"/>
                </a:cubicBezTo>
                <a:cubicBezTo>
                  <a:pt x="24836" y="15255"/>
                  <a:pt x="24773" y="15247"/>
                  <a:pt x="24730" y="15379"/>
                </a:cubicBezTo>
                <a:cubicBezTo>
                  <a:pt x="24673" y="15557"/>
                  <a:pt x="24859" y="15525"/>
                  <a:pt x="24954" y="15503"/>
                </a:cubicBezTo>
              </a:path>
              <a:path w="7517" h="1688">
                <a:moveTo>
                  <a:pt x="19496" y="16148"/>
                </a:moveTo>
                <a:cubicBezTo>
                  <a:pt x="19496" y="16156"/>
                  <a:pt x="19496" y="16165"/>
                  <a:pt x="19496" y="16173"/>
                </a:cubicBezTo>
                <a:cubicBezTo>
                  <a:pt x="19538" y="16159"/>
                  <a:pt x="19535" y="16076"/>
                  <a:pt x="19521" y="16024"/>
                </a:cubicBezTo>
                <a:cubicBezTo>
                  <a:pt x="19513" y="16007"/>
                  <a:pt x="19504" y="15991"/>
                  <a:pt x="19496" y="15974"/>
                </a:cubicBezTo>
                <a:cubicBezTo>
                  <a:pt x="19341" y="15994"/>
                  <a:pt x="19326" y="16121"/>
                  <a:pt x="19348" y="16272"/>
                </a:cubicBezTo>
                <a:cubicBezTo>
                  <a:pt x="19363" y="16374"/>
                  <a:pt x="19457" y="16508"/>
                  <a:pt x="19422" y="16594"/>
                </a:cubicBezTo>
              </a:path>
              <a:path w="7517" h="1688">
                <a:moveTo>
                  <a:pt x="19248" y="16371"/>
                </a:moveTo>
                <a:cubicBezTo>
                  <a:pt x="19397" y="16361"/>
                  <a:pt x="19571" y="16313"/>
                  <a:pt x="19720" y="16346"/>
                </a:cubicBezTo>
                <a:cubicBezTo>
                  <a:pt x="19766" y="16356"/>
                  <a:pt x="19772" y="16457"/>
                  <a:pt x="19794" y="16495"/>
                </a:cubicBezTo>
                <a:cubicBezTo>
                  <a:pt x="19813" y="16374"/>
                  <a:pt x="19835" y="16260"/>
                  <a:pt x="19968" y="16222"/>
                </a:cubicBezTo>
                <a:cubicBezTo>
                  <a:pt x="19984" y="16222"/>
                  <a:pt x="20001" y="16222"/>
                  <a:pt x="20017" y="16222"/>
                </a:cubicBezTo>
                <a:cubicBezTo>
                  <a:pt x="20083" y="16332"/>
                  <a:pt x="20055" y="16390"/>
                  <a:pt x="20042" y="16520"/>
                </a:cubicBezTo>
                <a:cubicBezTo>
                  <a:pt x="20164" y="16534"/>
                  <a:pt x="20274" y="16446"/>
                  <a:pt x="20216" y="16297"/>
                </a:cubicBezTo>
                <a:cubicBezTo>
                  <a:pt x="20192" y="16236"/>
                  <a:pt x="20119" y="16231"/>
                  <a:pt x="20067" y="16222"/>
                </a:cubicBezTo>
              </a:path>
              <a:path w="7517" h="1688">
                <a:moveTo>
                  <a:pt x="20464" y="16321"/>
                </a:moveTo>
                <a:cubicBezTo>
                  <a:pt x="20456" y="16345"/>
                  <a:pt x="20414" y="16533"/>
                  <a:pt x="20414" y="16470"/>
                </a:cubicBezTo>
                <a:cubicBezTo>
                  <a:pt x="20419" y="16416"/>
                  <a:pt x="20422" y="16251"/>
                  <a:pt x="20538" y="16297"/>
                </a:cubicBezTo>
                <a:cubicBezTo>
                  <a:pt x="20651" y="16342"/>
                  <a:pt x="20667" y="16420"/>
                  <a:pt x="20687" y="16520"/>
                </a:cubicBezTo>
                <a:cubicBezTo>
                  <a:pt x="20641" y="16444"/>
                  <a:pt x="20672" y="16376"/>
                  <a:pt x="20712" y="16297"/>
                </a:cubicBezTo>
                <a:cubicBezTo>
                  <a:pt x="20855" y="16323"/>
                  <a:pt x="20847" y="16370"/>
                  <a:pt x="20861" y="16520"/>
                </a:cubicBezTo>
              </a:path>
              <a:path w="7517" h="1688">
                <a:moveTo>
                  <a:pt x="21382" y="16272"/>
                </a:moveTo>
                <a:cubicBezTo>
                  <a:pt x="21306" y="16272"/>
                  <a:pt x="21614" y="16270"/>
                  <a:pt x="21630" y="16272"/>
                </a:cubicBezTo>
                <a:cubicBezTo>
                  <a:pt x="21655" y="16280"/>
                  <a:pt x="21679" y="16289"/>
                  <a:pt x="21704" y="16297"/>
                </a:cubicBezTo>
                <a:cubicBezTo>
                  <a:pt x="21680" y="16461"/>
                  <a:pt x="21626" y="16454"/>
                  <a:pt x="21506" y="16545"/>
                </a:cubicBezTo>
                <a:cubicBezTo>
                  <a:pt x="21489" y="16561"/>
                  <a:pt x="21473" y="16578"/>
                  <a:pt x="21456" y="16594"/>
                </a:cubicBezTo>
                <a:cubicBezTo>
                  <a:pt x="21598" y="16610"/>
                  <a:pt x="21711" y="16601"/>
                  <a:pt x="21853" y="16594"/>
                </a:cubicBezTo>
                <a:cubicBezTo>
                  <a:pt x="21861" y="16594"/>
                  <a:pt x="21870" y="16594"/>
                  <a:pt x="21878" y="16594"/>
                </a:cubicBezTo>
              </a:path>
              <a:path w="7517" h="1688">
                <a:moveTo>
                  <a:pt x="21977" y="16446"/>
                </a:moveTo>
                <a:cubicBezTo>
                  <a:pt x="22061" y="16421"/>
                  <a:pt x="22135" y="16421"/>
                  <a:pt x="22225" y="16421"/>
                </a:cubicBezTo>
                <a:cubicBezTo>
                  <a:pt x="22159" y="16333"/>
                  <a:pt x="22081" y="16199"/>
                  <a:pt x="21952" y="16297"/>
                </a:cubicBezTo>
                <a:cubicBezTo>
                  <a:pt x="21863" y="16364"/>
                  <a:pt x="21929" y="16569"/>
                  <a:pt x="22027" y="16594"/>
                </a:cubicBezTo>
                <a:cubicBezTo>
                  <a:pt x="22163" y="16594"/>
                  <a:pt x="22213" y="16587"/>
                  <a:pt x="22275" y="16495"/>
                </a:cubicBezTo>
              </a:path>
              <a:path w="7517" h="1688">
                <a:moveTo>
                  <a:pt x="22423" y="16346"/>
                </a:moveTo>
                <a:cubicBezTo>
                  <a:pt x="22423" y="16412"/>
                  <a:pt x="22423" y="16479"/>
                  <a:pt x="22423" y="16545"/>
                </a:cubicBezTo>
                <a:cubicBezTo>
                  <a:pt x="22407" y="16446"/>
                  <a:pt x="22364" y="16389"/>
                  <a:pt x="22448" y="16321"/>
                </a:cubicBezTo>
                <a:cubicBezTo>
                  <a:pt x="22530" y="16255"/>
                  <a:pt x="22597" y="16272"/>
                  <a:pt x="22696" y="16272"/>
                </a:cubicBezTo>
              </a:path>
              <a:path w="7517" h="1688">
                <a:moveTo>
                  <a:pt x="22845" y="16222"/>
                </a:moveTo>
                <a:cubicBezTo>
                  <a:pt x="22708" y="16302"/>
                  <a:pt x="22686" y="16356"/>
                  <a:pt x="22671" y="16520"/>
                </a:cubicBezTo>
                <a:cubicBezTo>
                  <a:pt x="22792" y="16510"/>
                  <a:pt x="22923" y="16472"/>
                  <a:pt x="22944" y="16321"/>
                </a:cubicBezTo>
                <a:cubicBezTo>
                  <a:pt x="22961" y="16194"/>
                  <a:pt x="22815" y="16206"/>
                  <a:pt x="22746" y="16197"/>
                </a:cubicBezTo>
              </a:path>
              <a:path w="7517" h="1688">
                <a:moveTo>
                  <a:pt x="17438" y="14982"/>
                </a:moveTo>
                <a:cubicBezTo>
                  <a:pt x="17592" y="14982"/>
                  <a:pt x="17708" y="15008"/>
                  <a:pt x="17859" y="15032"/>
                </a:cubicBezTo>
                <a:cubicBezTo>
                  <a:pt x="18089" y="15069"/>
                  <a:pt x="18325" y="15076"/>
                  <a:pt x="18554" y="15106"/>
                </a:cubicBezTo>
                <a:cubicBezTo>
                  <a:pt x="18731" y="15129"/>
                  <a:pt x="18906" y="15138"/>
                  <a:pt x="19075" y="15131"/>
                </a:cubicBezTo>
                <a:cubicBezTo>
                  <a:pt x="19181" y="15127"/>
                  <a:pt x="19273" y="15126"/>
                  <a:pt x="19372" y="15106"/>
                </a:cubicBezTo>
                <a:cubicBezTo>
                  <a:pt x="19540" y="15071"/>
                  <a:pt x="19700" y="15001"/>
                  <a:pt x="19869" y="14982"/>
                </a:cubicBezTo>
                <a:cubicBezTo>
                  <a:pt x="19993" y="14968"/>
                  <a:pt x="20117" y="14942"/>
                  <a:pt x="20241" y="14932"/>
                </a:cubicBezTo>
                <a:cubicBezTo>
                  <a:pt x="20724" y="14892"/>
                  <a:pt x="21231" y="14991"/>
                  <a:pt x="21704" y="14957"/>
                </a:cubicBezTo>
                <a:cubicBezTo>
                  <a:pt x="21811" y="14949"/>
                  <a:pt x="21915" y="14932"/>
                  <a:pt x="22027" y="14932"/>
                </a:cubicBezTo>
                <a:cubicBezTo>
                  <a:pt x="22115" y="14932"/>
                  <a:pt x="22255" y="14961"/>
                  <a:pt x="22324" y="14957"/>
                </a:cubicBezTo>
                <a:cubicBezTo>
                  <a:pt x="22374" y="14954"/>
                  <a:pt x="22390" y="14956"/>
                  <a:pt x="22399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3120" y="6330960"/>
            <a:ext cx="169920" cy="162000"/>
          </a:xfrm>
          <a:custGeom>
            <a:avLst/>
            <a:gdLst/>
            <a:ahLst/>
            <a:rect l="l" t="t" r="r" b="b"/>
            <a:pathLst>
              <a:path w="472" h="447">
                <a:moveTo>
                  <a:pt x="7491" y="17611"/>
                </a:moveTo>
                <a:cubicBezTo>
                  <a:pt x="7491" y="17558"/>
                  <a:pt x="7441" y="17683"/>
                  <a:pt x="7417" y="17711"/>
                </a:cubicBezTo>
                <a:cubicBezTo>
                  <a:pt x="7341" y="17802"/>
                  <a:pt x="7320" y="17867"/>
                  <a:pt x="7367" y="17983"/>
                </a:cubicBezTo>
                <a:cubicBezTo>
                  <a:pt x="7397" y="18057"/>
                  <a:pt x="7543" y="18059"/>
                  <a:pt x="7615" y="18033"/>
                </a:cubicBezTo>
                <a:cubicBezTo>
                  <a:pt x="7716" y="17997"/>
                  <a:pt x="7803" y="17885"/>
                  <a:pt x="7813" y="17785"/>
                </a:cubicBezTo>
                <a:cubicBezTo>
                  <a:pt x="7820" y="17714"/>
                  <a:pt x="7800" y="17679"/>
                  <a:pt x="7739" y="17636"/>
                </a:cubicBezTo>
                <a:cubicBezTo>
                  <a:pt x="7678" y="17593"/>
                  <a:pt x="7611" y="17587"/>
                  <a:pt x="7541" y="17587"/>
                </a:cubicBezTo>
                <a:cubicBezTo>
                  <a:pt x="7513" y="17587"/>
                  <a:pt x="7502" y="17589"/>
                  <a:pt x="7491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95800" y="6116760"/>
            <a:ext cx="79200" cy="384120"/>
          </a:xfrm>
          <a:custGeom>
            <a:avLst/>
            <a:gdLst/>
            <a:ahLst/>
            <a:rect l="l" t="t" r="r" b="b"/>
            <a:pathLst>
              <a:path w="224" h="1068">
                <a:moveTo>
                  <a:pt x="9277" y="17066"/>
                </a:moveTo>
                <a:cubicBezTo>
                  <a:pt x="9236" y="17052"/>
                  <a:pt x="9239" y="17034"/>
                  <a:pt x="9227" y="17165"/>
                </a:cubicBezTo>
                <a:cubicBezTo>
                  <a:pt x="9227" y="17248"/>
                  <a:pt x="9227" y="17264"/>
                  <a:pt x="9227" y="17314"/>
                </a:cubicBezTo>
                <a:cubicBezTo>
                  <a:pt x="9227" y="17387"/>
                  <a:pt x="9227" y="17142"/>
                  <a:pt x="9227" y="17140"/>
                </a:cubicBezTo>
                <a:cubicBezTo>
                  <a:pt x="9203" y="17067"/>
                  <a:pt x="9195" y="17043"/>
                  <a:pt x="9203" y="16991"/>
                </a:cubicBezTo>
                <a:cubicBezTo>
                  <a:pt x="9225" y="17088"/>
                  <a:pt x="9244" y="17189"/>
                  <a:pt x="9252" y="17289"/>
                </a:cubicBezTo>
                <a:cubicBezTo>
                  <a:pt x="9252" y="17297"/>
                  <a:pt x="9252" y="17306"/>
                  <a:pt x="9252" y="17314"/>
                </a:cubicBezTo>
              </a:path>
              <a:path w="224" h="1068">
                <a:moveTo>
                  <a:pt x="9153" y="17735"/>
                </a:moveTo>
                <a:cubicBezTo>
                  <a:pt x="9153" y="17665"/>
                  <a:pt x="9209" y="17629"/>
                  <a:pt x="9277" y="17611"/>
                </a:cubicBezTo>
                <a:cubicBezTo>
                  <a:pt x="9294" y="17611"/>
                  <a:pt x="9310" y="17611"/>
                  <a:pt x="9327" y="17611"/>
                </a:cubicBezTo>
                <a:cubicBezTo>
                  <a:pt x="9348" y="17662"/>
                  <a:pt x="9367" y="17808"/>
                  <a:pt x="9302" y="17859"/>
                </a:cubicBezTo>
                <a:cubicBezTo>
                  <a:pt x="9290" y="17869"/>
                  <a:pt x="9241" y="17879"/>
                  <a:pt x="9227" y="17884"/>
                </a:cubicBezTo>
                <a:cubicBezTo>
                  <a:pt x="9236" y="17856"/>
                  <a:pt x="9312" y="17834"/>
                  <a:pt x="9351" y="17859"/>
                </a:cubicBezTo>
                <a:cubicBezTo>
                  <a:pt x="9423" y="17905"/>
                  <a:pt x="9356" y="18008"/>
                  <a:pt x="9302" y="18033"/>
                </a:cubicBezTo>
                <a:cubicBezTo>
                  <a:pt x="9245" y="18059"/>
                  <a:pt x="9211" y="18058"/>
                  <a:pt x="9153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7040" y="6107040"/>
            <a:ext cx="150840" cy="385920"/>
          </a:xfrm>
          <a:custGeom>
            <a:avLst/>
            <a:gdLst/>
            <a:ahLst/>
            <a:rect l="l" t="t" r="r" b="b"/>
            <a:pathLst>
              <a:path w="422" h="1068">
                <a:moveTo>
                  <a:pt x="11385" y="16966"/>
                </a:moveTo>
                <a:cubicBezTo>
                  <a:pt x="11331" y="17004"/>
                  <a:pt x="11361" y="17212"/>
                  <a:pt x="11361" y="17289"/>
                </a:cubicBezTo>
                <a:cubicBezTo>
                  <a:pt x="11361" y="17330"/>
                  <a:pt x="11361" y="17338"/>
                  <a:pt x="11361" y="17363"/>
                </a:cubicBezTo>
                <a:cubicBezTo>
                  <a:pt x="11345" y="17265"/>
                  <a:pt x="11321" y="17164"/>
                  <a:pt x="11311" y="17066"/>
                </a:cubicBezTo>
                <a:cubicBezTo>
                  <a:pt x="11311" y="17008"/>
                  <a:pt x="11311" y="16966"/>
                  <a:pt x="11311" y="17016"/>
                </a:cubicBezTo>
                <a:cubicBezTo>
                  <a:pt x="11340" y="17118"/>
                  <a:pt x="11361" y="17208"/>
                  <a:pt x="11361" y="17314"/>
                </a:cubicBezTo>
              </a:path>
              <a:path w="422" h="1068">
                <a:moveTo>
                  <a:pt x="11336" y="17636"/>
                </a:moveTo>
                <a:cubicBezTo>
                  <a:pt x="11296" y="17656"/>
                  <a:pt x="11249" y="17729"/>
                  <a:pt x="11237" y="17785"/>
                </a:cubicBezTo>
                <a:cubicBezTo>
                  <a:pt x="11221" y="17861"/>
                  <a:pt x="11217" y="17894"/>
                  <a:pt x="11237" y="17959"/>
                </a:cubicBezTo>
                <a:cubicBezTo>
                  <a:pt x="11246" y="17989"/>
                  <a:pt x="11313" y="18035"/>
                  <a:pt x="11361" y="18033"/>
                </a:cubicBezTo>
                <a:cubicBezTo>
                  <a:pt x="11418" y="18030"/>
                  <a:pt x="11516" y="17974"/>
                  <a:pt x="11559" y="17934"/>
                </a:cubicBezTo>
                <a:cubicBezTo>
                  <a:pt x="11603" y="17893"/>
                  <a:pt x="11627" y="17841"/>
                  <a:pt x="11633" y="17785"/>
                </a:cubicBezTo>
                <a:cubicBezTo>
                  <a:pt x="11633" y="17777"/>
                  <a:pt x="11633" y="17768"/>
                  <a:pt x="11633" y="17760"/>
                </a:cubicBezTo>
                <a:cubicBezTo>
                  <a:pt x="11595" y="17760"/>
                  <a:pt x="11563" y="17727"/>
                  <a:pt x="11534" y="17735"/>
                </a:cubicBezTo>
                <a:cubicBezTo>
                  <a:pt x="11481" y="17750"/>
                  <a:pt x="11451" y="17831"/>
                  <a:pt x="11435" y="17884"/>
                </a:cubicBezTo>
                <a:cubicBezTo>
                  <a:pt x="11422" y="17926"/>
                  <a:pt x="11430" y="17973"/>
                  <a:pt x="11460" y="179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some together: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5 + 8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+ (-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-5 + 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5 + (-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2527200" y="1893960"/>
            <a:ext cx="544680" cy="303120"/>
          </a:xfrm>
          <a:custGeom>
            <a:avLst/>
            <a:gdLst/>
            <a:ahLst/>
            <a:rect l="l" t="t" r="r" b="b"/>
            <a:pathLst>
              <a:path w="1514" h="844">
                <a:moveTo>
                  <a:pt x="7020" y="5779"/>
                </a:moveTo>
                <a:cubicBezTo>
                  <a:pt x="7108" y="5771"/>
                  <a:pt x="7234" y="5755"/>
                  <a:pt x="7317" y="5730"/>
                </a:cubicBezTo>
                <a:cubicBezTo>
                  <a:pt x="7352" y="5719"/>
                  <a:pt x="7371" y="5705"/>
                  <a:pt x="7417" y="5705"/>
                </a:cubicBezTo>
              </a:path>
              <a:path w="1514" h="844">
                <a:moveTo>
                  <a:pt x="7243" y="5978"/>
                </a:moveTo>
                <a:cubicBezTo>
                  <a:pt x="7281" y="5973"/>
                  <a:pt x="7430" y="5919"/>
                  <a:pt x="7466" y="5928"/>
                </a:cubicBezTo>
                <a:cubicBezTo>
                  <a:pt x="7466" y="5936"/>
                  <a:pt x="7466" y="5945"/>
                  <a:pt x="7466" y="5953"/>
                </a:cubicBezTo>
              </a:path>
              <a:path w="1514" h="844">
                <a:moveTo>
                  <a:pt x="7888" y="5383"/>
                </a:moveTo>
                <a:cubicBezTo>
                  <a:pt x="7866" y="5599"/>
                  <a:pt x="7863" y="5810"/>
                  <a:pt x="7863" y="6028"/>
                </a:cubicBezTo>
                <a:cubicBezTo>
                  <a:pt x="7863" y="6086"/>
                  <a:pt x="7847" y="6110"/>
                  <a:pt x="7888" y="6102"/>
                </a:cubicBezTo>
              </a:path>
              <a:path w="1514" h="844">
                <a:moveTo>
                  <a:pt x="8111" y="5407"/>
                </a:moveTo>
                <a:cubicBezTo>
                  <a:pt x="8151" y="5342"/>
                  <a:pt x="8309" y="5205"/>
                  <a:pt x="8409" y="5259"/>
                </a:cubicBezTo>
                <a:cubicBezTo>
                  <a:pt x="8530" y="5325"/>
                  <a:pt x="8332" y="5504"/>
                  <a:pt x="8310" y="5531"/>
                </a:cubicBezTo>
                <a:cubicBezTo>
                  <a:pt x="8302" y="5539"/>
                  <a:pt x="8293" y="5548"/>
                  <a:pt x="8285" y="5556"/>
                </a:cubicBezTo>
                <a:cubicBezTo>
                  <a:pt x="8369" y="5556"/>
                  <a:pt x="8524" y="5597"/>
                  <a:pt x="8533" y="5705"/>
                </a:cubicBezTo>
                <a:cubicBezTo>
                  <a:pt x="8553" y="5957"/>
                  <a:pt x="8350" y="6019"/>
                  <a:pt x="8161" y="6028"/>
                </a:cubicBezTo>
                <a:cubicBezTo>
                  <a:pt x="8118" y="6028"/>
                  <a:pt x="8104" y="6045"/>
                  <a:pt x="8111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24880" y="1874880"/>
            <a:ext cx="652320" cy="312840"/>
          </a:xfrm>
          <a:custGeom>
            <a:avLst/>
            <a:gdLst/>
            <a:ahLst/>
            <a:rect l="l" t="t" r="r" b="b"/>
            <a:pathLst>
              <a:path w="1812" h="869">
                <a:moveTo>
                  <a:pt x="21456" y="5631"/>
                </a:moveTo>
                <a:cubicBezTo>
                  <a:pt x="21559" y="5603"/>
                  <a:pt x="21687" y="5592"/>
                  <a:pt x="21779" y="5606"/>
                </a:cubicBezTo>
                <a:cubicBezTo>
                  <a:pt x="21813" y="5606"/>
                  <a:pt x="21817" y="5615"/>
                  <a:pt x="21779" y="5655"/>
                </a:cubicBezTo>
              </a:path>
              <a:path w="1812" h="869">
                <a:moveTo>
                  <a:pt x="21456" y="5904"/>
                </a:moveTo>
                <a:cubicBezTo>
                  <a:pt x="21549" y="5878"/>
                  <a:pt x="21834" y="5756"/>
                  <a:pt x="21927" y="5804"/>
                </a:cubicBezTo>
                <a:cubicBezTo>
                  <a:pt x="21927" y="5832"/>
                  <a:pt x="21925" y="5843"/>
                  <a:pt x="21903" y="5854"/>
                </a:cubicBezTo>
              </a:path>
              <a:path w="1812" h="869">
                <a:moveTo>
                  <a:pt x="22523" y="5333"/>
                </a:moveTo>
                <a:cubicBezTo>
                  <a:pt x="22523" y="5542"/>
                  <a:pt x="22508" y="5745"/>
                  <a:pt x="22498" y="5953"/>
                </a:cubicBezTo>
                <a:cubicBezTo>
                  <a:pt x="22498" y="6044"/>
                  <a:pt x="22498" y="6118"/>
                  <a:pt x="22498" y="6052"/>
                </a:cubicBezTo>
              </a:path>
              <a:path w="1812" h="869">
                <a:moveTo>
                  <a:pt x="22920" y="5308"/>
                </a:moveTo>
                <a:cubicBezTo>
                  <a:pt x="23066" y="5266"/>
                  <a:pt x="23101" y="5248"/>
                  <a:pt x="23242" y="5308"/>
                </a:cubicBezTo>
                <a:cubicBezTo>
                  <a:pt x="23196" y="5428"/>
                  <a:pt x="23113" y="5628"/>
                  <a:pt x="23019" y="5631"/>
                </a:cubicBezTo>
                <a:cubicBezTo>
                  <a:pt x="23173" y="5538"/>
                  <a:pt x="23318" y="5604"/>
                  <a:pt x="23267" y="5829"/>
                </a:cubicBezTo>
                <a:cubicBezTo>
                  <a:pt x="23222" y="6027"/>
                  <a:pt x="23044" y="6009"/>
                  <a:pt x="22895" y="6028"/>
                </a:cubicBezTo>
              </a:path>
              <a:path w="1812" h="869">
                <a:moveTo>
                  <a:pt x="21878" y="5308"/>
                </a:moveTo>
                <a:cubicBezTo>
                  <a:pt x="21877" y="5225"/>
                  <a:pt x="22031" y="5253"/>
                  <a:pt x="22126" y="5234"/>
                </a:cubicBezTo>
                <a:cubicBezTo>
                  <a:pt x="22182" y="5223"/>
                  <a:pt x="22232" y="5179"/>
                  <a:pt x="22250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00120" y="3562200"/>
            <a:ext cx="142920" cy="250920"/>
          </a:xfrm>
          <a:custGeom>
            <a:avLst/>
            <a:gdLst/>
            <a:ahLst/>
            <a:rect l="l" t="t" r="r" b="b"/>
            <a:pathLst>
              <a:path w="398" h="696">
                <a:moveTo>
                  <a:pt x="4564" y="9897"/>
                </a:moveTo>
                <a:cubicBezTo>
                  <a:pt x="4504" y="9917"/>
                  <a:pt x="4374" y="9985"/>
                  <a:pt x="4291" y="10021"/>
                </a:cubicBezTo>
                <a:cubicBezTo>
                  <a:pt x="4242" y="10043"/>
                  <a:pt x="4205" y="10037"/>
                  <a:pt x="4217" y="10096"/>
                </a:cubicBezTo>
                <a:cubicBezTo>
                  <a:pt x="4232" y="10167"/>
                  <a:pt x="4242" y="10202"/>
                  <a:pt x="4242" y="10269"/>
                </a:cubicBezTo>
                <a:cubicBezTo>
                  <a:pt x="4307" y="10252"/>
                  <a:pt x="4384" y="10182"/>
                  <a:pt x="4465" y="10220"/>
                </a:cubicBezTo>
                <a:cubicBezTo>
                  <a:pt x="4665" y="10313"/>
                  <a:pt x="4484" y="10522"/>
                  <a:pt x="4366" y="10567"/>
                </a:cubicBezTo>
                <a:cubicBezTo>
                  <a:pt x="4319" y="10585"/>
                  <a:pt x="4186" y="10623"/>
                  <a:pt x="4167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95360" y="3589200"/>
            <a:ext cx="18756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6846" y="10046"/>
                </a:moveTo>
                <a:cubicBezTo>
                  <a:pt x="6805" y="9964"/>
                  <a:pt x="6660" y="9952"/>
                  <a:pt x="6573" y="9996"/>
                </a:cubicBezTo>
                <a:cubicBezTo>
                  <a:pt x="6458" y="10089"/>
                  <a:pt x="6424" y="10112"/>
                  <a:pt x="6375" y="10195"/>
                </a:cubicBezTo>
                <a:cubicBezTo>
                  <a:pt x="6510" y="10247"/>
                  <a:pt x="6818" y="10237"/>
                  <a:pt x="6896" y="10368"/>
                </a:cubicBezTo>
                <a:cubicBezTo>
                  <a:pt x="6973" y="10497"/>
                  <a:pt x="6725" y="10492"/>
                  <a:pt x="6697" y="10492"/>
                </a:cubicBezTo>
                <a:cubicBezTo>
                  <a:pt x="6654" y="10296"/>
                  <a:pt x="6713" y="10202"/>
                  <a:pt x="6821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4116240"/>
            <a:ext cx="7920" cy="420840"/>
          </a:xfrm>
          <a:custGeom>
            <a:avLst/>
            <a:gdLst/>
            <a:ahLst/>
            <a:rect l="l" t="t" r="r" b="b"/>
            <a:pathLst>
              <a:path w="25" h="1167">
                <a:moveTo>
                  <a:pt x="3621" y="11435"/>
                </a:moveTo>
                <a:cubicBezTo>
                  <a:pt x="3595" y="11783"/>
                  <a:pt x="3602" y="12148"/>
                  <a:pt x="3597" y="12502"/>
                </a:cubicBezTo>
                <a:cubicBezTo>
                  <a:pt x="3597" y="12535"/>
                  <a:pt x="3597" y="12568"/>
                  <a:pt x="3597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41320" y="4044960"/>
            <a:ext cx="9720" cy="376200"/>
          </a:xfrm>
          <a:custGeom>
            <a:avLst/>
            <a:gdLst/>
            <a:ahLst/>
            <a:rect l="l" t="t" r="r" b="b"/>
            <a:pathLst>
              <a:path w="26" h="1042">
                <a:moveTo>
                  <a:pt x="4837" y="11237"/>
                </a:moveTo>
                <a:cubicBezTo>
                  <a:pt x="4853" y="11533"/>
                  <a:pt x="4883" y="11832"/>
                  <a:pt x="4862" y="12129"/>
                </a:cubicBezTo>
                <a:cubicBezTo>
                  <a:pt x="4854" y="12179"/>
                  <a:pt x="4845" y="12228"/>
                  <a:pt x="4837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4125960"/>
            <a:ext cx="9720" cy="330120"/>
          </a:xfrm>
          <a:custGeom>
            <a:avLst/>
            <a:gdLst/>
            <a:ahLst/>
            <a:rect l="l" t="t" r="r" b="b"/>
            <a:pathLst>
              <a:path w="26" h="919">
                <a:moveTo>
                  <a:pt x="6325" y="11460"/>
                </a:moveTo>
                <a:cubicBezTo>
                  <a:pt x="6325" y="11710"/>
                  <a:pt x="6309" y="11955"/>
                  <a:pt x="6300" y="12204"/>
                </a:cubicBezTo>
                <a:cubicBezTo>
                  <a:pt x="6300" y="12262"/>
                  <a:pt x="6300" y="12320"/>
                  <a:pt x="6300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08200" y="4071960"/>
            <a:ext cx="7920" cy="322200"/>
          </a:xfrm>
          <a:custGeom>
            <a:avLst/>
            <a:gdLst/>
            <a:ahLst/>
            <a:rect l="l" t="t" r="r" b="b"/>
            <a:pathLst>
              <a:path w="26" h="894">
                <a:moveTo>
                  <a:pt x="7268" y="11311"/>
                </a:moveTo>
                <a:cubicBezTo>
                  <a:pt x="7268" y="11604"/>
                  <a:pt x="7300" y="11918"/>
                  <a:pt x="7243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44840" y="4813200"/>
            <a:ext cx="44280" cy="17640"/>
          </a:xfrm>
          <a:custGeom>
            <a:avLst/>
            <a:gdLst/>
            <a:ahLst/>
            <a:rect l="l" t="t" r="r" b="b"/>
            <a:pathLst>
              <a:path w="125" h="50">
                <a:moveTo>
                  <a:pt x="7069" y="13419"/>
                </a:moveTo>
                <a:cubicBezTo>
                  <a:pt x="7136" y="13397"/>
                  <a:pt x="7154" y="13393"/>
                  <a:pt x="7193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54120" y="4500720"/>
            <a:ext cx="1625760" cy="509400"/>
          </a:xfrm>
          <a:custGeom>
            <a:avLst/>
            <a:gdLst/>
            <a:ahLst/>
            <a:rect l="l" t="t" r="r" b="b"/>
            <a:pathLst>
              <a:path w="4515" h="1414">
                <a:moveTo>
                  <a:pt x="5556" y="13196"/>
                </a:moveTo>
                <a:cubicBezTo>
                  <a:pt x="5556" y="13196"/>
                  <a:pt x="5705" y="13196"/>
                  <a:pt x="5804" y="13196"/>
                </a:cubicBezTo>
                <a:cubicBezTo>
                  <a:pt x="5871" y="13196"/>
                  <a:pt x="5787" y="13196"/>
                  <a:pt x="5779" y="13196"/>
                </a:cubicBezTo>
                <a:cubicBezTo>
                  <a:pt x="5732" y="13189"/>
                  <a:pt x="5506" y="13196"/>
                  <a:pt x="5507" y="13196"/>
                </a:cubicBezTo>
                <a:cubicBezTo>
                  <a:pt x="5606" y="13219"/>
                  <a:pt x="5784" y="13169"/>
                  <a:pt x="5779" y="13171"/>
                </a:cubicBezTo>
                <a:cubicBezTo>
                  <a:pt x="5731" y="13194"/>
                  <a:pt x="5653" y="13242"/>
                  <a:pt x="5631" y="13271"/>
                </a:cubicBezTo>
                <a:cubicBezTo>
                  <a:pt x="5697" y="13254"/>
                  <a:pt x="5759" y="13195"/>
                  <a:pt x="5829" y="13171"/>
                </a:cubicBezTo>
                <a:cubicBezTo>
                  <a:pt x="5854" y="13171"/>
                  <a:pt x="5862" y="13171"/>
                  <a:pt x="5879" y="13171"/>
                </a:cubicBezTo>
              </a:path>
              <a:path w="4515" h="1414">
                <a:moveTo>
                  <a:pt x="5407" y="13097"/>
                </a:moveTo>
                <a:cubicBezTo>
                  <a:pt x="5464" y="13172"/>
                  <a:pt x="5602" y="13168"/>
                  <a:pt x="5705" y="13171"/>
                </a:cubicBezTo>
                <a:cubicBezTo>
                  <a:pt x="5763" y="13171"/>
                  <a:pt x="5771" y="13171"/>
                  <a:pt x="5804" y="13171"/>
                </a:cubicBezTo>
                <a:cubicBezTo>
                  <a:pt x="5710" y="13177"/>
                  <a:pt x="5493" y="13164"/>
                  <a:pt x="5432" y="13246"/>
                </a:cubicBezTo>
                <a:cubicBezTo>
                  <a:pt x="5351" y="13355"/>
                  <a:pt x="5700" y="13214"/>
                  <a:pt x="5829" y="13171"/>
                </a:cubicBezTo>
                <a:cubicBezTo>
                  <a:pt x="5818" y="13168"/>
                  <a:pt x="5541" y="13191"/>
                  <a:pt x="5606" y="13246"/>
                </a:cubicBezTo>
                <a:cubicBezTo>
                  <a:pt x="5622" y="13246"/>
                  <a:pt x="5639" y="13246"/>
                  <a:pt x="5655" y="13246"/>
                </a:cubicBezTo>
              </a:path>
              <a:path w="4515" h="1414">
                <a:moveTo>
                  <a:pt x="4713" y="13022"/>
                </a:moveTo>
                <a:cubicBezTo>
                  <a:pt x="4755" y="13009"/>
                  <a:pt x="4752" y="12958"/>
                  <a:pt x="4688" y="12948"/>
                </a:cubicBezTo>
                <a:cubicBezTo>
                  <a:pt x="4490" y="12917"/>
                  <a:pt x="4398" y="13080"/>
                  <a:pt x="4316" y="13221"/>
                </a:cubicBezTo>
                <a:cubicBezTo>
                  <a:pt x="4423" y="13309"/>
                  <a:pt x="4682" y="13318"/>
                  <a:pt x="4713" y="13494"/>
                </a:cubicBezTo>
                <a:cubicBezTo>
                  <a:pt x="4739" y="13644"/>
                  <a:pt x="4614" y="13671"/>
                  <a:pt x="4514" y="13717"/>
                </a:cubicBezTo>
                <a:cubicBezTo>
                  <a:pt x="4412" y="13510"/>
                  <a:pt x="4535" y="13304"/>
                  <a:pt x="4638" y="13097"/>
                </a:cubicBezTo>
                <a:cubicBezTo>
                  <a:pt x="4661" y="13074"/>
                  <a:pt x="4669" y="13070"/>
                  <a:pt x="4663" y="13047"/>
                </a:cubicBezTo>
              </a:path>
              <a:path w="4515" h="1414">
                <a:moveTo>
                  <a:pt x="6474" y="12874"/>
                </a:moveTo>
                <a:cubicBezTo>
                  <a:pt x="6460" y="12916"/>
                  <a:pt x="6403" y="12919"/>
                  <a:pt x="6350" y="12923"/>
                </a:cubicBezTo>
                <a:cubicBezTo>
                  <a:pt x="6259" y="12930"/>
                  <a:pt x="6254" y="13053"/>
                  <a:pt x="6226" y="13122"/>
                </a:cubicBezTo>
                <a:cubicBezTo>
                  <a:pt x="6290" y="13168"/>
                  <a:pt x="6370" y="13137"/>
                  <a:pt x="6449" y="13171"/>
                </a:cubicBezTo>
                <a:cubicBezTo>
                  <a:pt x="6661" y="13263"/>
                  <a:pt x="6509" y="13539"/>
                  <a:pt x="6400" y="13643"/>
                </a:cubicBezTo>
                <a:cubicBezTo>
                  <a:pt x="6309" y="13729"/>
                  <a:pt x="6128" y="13749"/>
                  <a:pt x="6052" y="13692"/>
                </a:cubicBezTo>
              </a:path>
              <a:path w="4515" h="1414">
                <a:moveTo>
                  <a:pt x="6995" y="13221"/>
                </a:moveTo>
                <a:cubicBezTo>
                  <a:pt x="7057" y="13214"/>
                  <a:pt x="7133" y="13174"/>
                  <a:pt x="7144" y="13196"/>
                </a:cubicBezTo>
              </a:path>
              <a:path w="4515" h="1414">
                <a:moveTo>
                  <a:pt x="7863" y="12973"/>
                </a:moveTo>
                <a:cubicBezTo>
                  <a:pt x="7950" y="12908"/>
                  <a:pt x="8013" y="12865"/>
                  <a:pt x="8136" y="12874"/>
                </a:cubicBezTo>
                <a:cubicBezTo>
                  <a:pt x="8317" y="12888"/>
                  <a:pt x="8120" y="13090"/>
                  <a:pt x="8086" y="13122"/>
                </a:cubicBezTo>
                <a:cubicBezTo>
                  <a:pt x="8078" y="13130"/>
                  <a:pt x="8070" y="13138"/>
                  <a:pt x="8062" y="13146"/>
                </a:cubicBezTo>
                <a:cubicBezTo>
                  <a:pt x="8151" y="13131"/>
                  <a:pt x="8253" y="13130"/>
                  <a:pt x="8210" y="13295"/>
                </a:cubicBezTo>
                <a:cubicBezTo>
                  <a:pt x="8165" y="13468"/>
                  <a:pt x="8010" y="13538"/>
                  <a:pt x="7863" y="13519"/>
                </a:cubicBezTo>
                <a:cubicBezTo>
                  <a:pt x="7855" y="13519"/>
                  <a:pt x="7846" y="13519"/>
                  <a:pt x="7838" y="13519"/>
                </a:cubicBezTo>
              </a:path>
              <a:path w="4515" h="1414">
                <a:moveTo>
                  <a:pt x="7565" y="13866"/>
                </a:moveTo>
                <a:cubicBezTo>
                  <a:pt x="7638" y="13886"/>
                  <a:pt x="7664" y="13881"/>
                  <a:pt x="7739" y="13891"/>
                </a:cubicBezTo>
                <a:cubicBezTo>
                  <a:pt x="7906" y="13914"/>
                  <a:pt x="8065" y="13915"/>
                  <a:pt x="8235" y="13915"/>
                </a:cubicBezTo>
                <a:cubicBezTo>
                  <a:pt x="8363" y="13915"/>
                  <a:pt x="8475" y="13887"/>
                  <a:pt x="8582" y="13816"/>
                </a:cubicBezTo>
                <a:cubicBezTo>
                  <a:pt x="8668" y="13759"/>
                  <a:pt x="8762" y="13664"/>
                  <a:pt x="8806" y="13568"/>
                </a:cubicBezTo>
                <a:cubicBezTo>
                  <a:pt x="8865" y="13439"/>
                  <a:pt x="8826" y="13231"/>
                  <a:pt x="8806" y="13097"/>
                </a:cubicBezTo>
                <a:cubicBezTo>
                  <a:pt x="8789" y="12983"/>
                  <a:pt x="8782" y="12868"/>
                  <a:pt x="8706" y="12774"/>
                </a:cubicBezTo>
                <a:cubicBezTo>
                  <a:pt x="8625" y="12675"/>
                  <a:pt x="8509" y="12566"/>
                  <a:pt x="8384" y="12526"/>
                </a:cubicBezTo>
                <a:cubicBezTo>
                  <a:pt x="8227" y="12475"/>
                  <a:pt x="8000" y="12486"/>
                  <a:pt x="7838" y="12502"/>
                </a:cubicBezTo>
                <a:cubicBezTo>
                  <a:pt x="7672" y="12518"/>
                  <a:pt x="7499" y="12596"/>
                  <a:pt x="7342" y="12650"/>
                </a:cubicBezTo>
                <a:cubicBezTo>
                  <a:pt x="7254" y="12680"/>
                  <a:pt x="7143" y="12738"/>
                  <a:pt x="7094" y="12824"/>
                </a:cubicBezTo>
                <a:cubicBezTo>
                  <a:pt x="7026" y="12943"/>
                  <a:pt x="7027" y="13068"/>
                  <a:pt x="7045" y="13196"/>
                </a:cubicBezTo>
                <a:cubicBezTo>
                  <a:pt x="7072" y="13387"/>
                  <a:pt x="7132" y="13495"/>
                  <a:pt x="7243" y="13643"/>
                </a:cubicBezTo>
                <a:cubicBezTo>
                  <a:pt x="7308" y="13730"/>
                  <a:pt x="7396" y="13793"/>
                  <a:pt x="7491" y="13841"/>
                </a:cubicBezTo>
                <a:cubicBezTo>
                  <a:pt x="7573" y="13882"/>
                  <a:pt x="7674" y="13912"/>
                  <a:pt x="7764" y="13915"/>
                </a:cubicBezTo>
                <a:cubicBezTo>
                  <a:pt x="7861" y="13919"/>
                  <a:pt x="7945" y="13883"/>
                  <a:pt x="8037" y="13866"/>
                </a:cubicBezTo>
                <a:cubicBezTo>
                  <a:pt x="8045" y="13866"/>
                  <a:pt x="8054" y="13866"/>
                  <a:pt x="8062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38920" y="3562200"/>
            <a:ext cx="160200" cy="19692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16942" y="9897"/>
                </a:moveTo>
                <a:cubicBezTo>
                  <a:pt x="16817" y="9911"/>
                  <a:pt x="16722" y="9960"/>
                  <a:pt x="16594" y="9971"/>
                </a:cubicBezTo>
                <a:cubicBezTo>
                  <a:pt x="16586" y="9971"/>
                  <a:pt x="16578" y="9971"/>
                  <a:pt x="16570" y="9971"/>
                </a:cubicBezTo>
                <a:cubicBezTo>
                  <a:pt x="16570" y="10070"/>
                  <a:pt x="16573" y="10152"/>
                  <a:pt x="16545" y="10244"/>
                </a:cubicBezTo>
                <a:cubicBezTo>
                  <a:pt x="16626" y="10231"/>
                  <a:pt x="16702" y="10169"/>
                  <a:pt x="16818" y="10195"/>
                </a:cubicBezTo>
                <a:cubicBezTo>
                  <a:pt x="16906" y="10239"/>
                  <a:pt x="16939" y="10243"/>
                  <a:pt x="16917" y="10319"/>
                </a:cubicBezTo>
                <a:cubicBezTo>
                  <a:pt x="16808" y="10427"/>
                  <a:pt x="16693" y="10491"/>
                  <a:pt x="16520" y="10443"/>
                </a:cubicBezTo>
                <a:cubicBezTo>
                  <a:pt x="16512" y="10435"/>
                  <a:pt x="16503" y="10426"/>
                  <a:pt x="16495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35840" y="3589200"/>
            <a:ext cx="144360" cy="2066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19943" y="9996"/>
                </a:moveTo>
                <a:cubicBezTo>
                  <a:pt x="19791" y="9958"/>
                  <a:pt x="19672" y="10051"/>
                  <a:pt x="19546" y="10145"/>
                </a:cubicBezTo>
                <a:cubicBezTo>
                  <a:pt x="19590" y="10226"/>
                  <a:pt x="19902" y="10303"/>
                  <a:pt x="19918" y="10393"/>
                </a:cubicBezTo>
                <a:cubicBezTo>
                  <a:pt x="19869" y="10492"/>
                  <a:pt x="19852" y="10526"/>
                  <a:pt x="19769" y="10542"/>
                </a:cubicBezTo>
                <a:cubicBezTo>
                  <a:pt x="19658" y="10346"/>
                  <a:pt x="19756" y="10351"/>
                  <a:pt x="19869" y="10170"/>
                </a:cubicBezTo>
                <a:cubicBezTo>
                  <a:pt x="19869" y="10162"/>
                  <a:pt x="19869" y="10153"/>
                  <a:pt x="19869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32640" y="3990960"/>
            <a:ext cx="53640" cy="509760"/>
          </a:xfrm>
          <a:custGeom>
            <a:avLst/>
            <a:gdLst/>
            <a:ahLst/>
            <a:rect l="l" t="t" r="r" b="b"/>
            <a:pathLst>
              <a:path w="149" h="1415">
                <a:moveTo>
                  <a:pt x="16073" y="11088"/>
                </a:moveTo>
                <a:cubicBezTo>
                  <a:pt x="16073" y="11554"/>
                  <a:pt x="15991" y="11970"/>
                  <a:pt x="15925" y="12427"/>
                </a:cubicBezTo>
                <a:cubicBezTo>
                  <a:pt x="15925" y="12452"/>
                  <a:pt x="15925" y="12477"/>
                  <a:pt x="15925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34040" y="4000680"/>
            <a:ext cx="54000" cy="455400"/>
          </a:xfrm>
          <a:custGeom>
            <a:avLst/>
            <a:gdLst/>
            <a:ahLst/>
            <a:rect l="l" t="t" r="r" b="b"/>
            <a:pathLst>
              <a:path w="150" h="1267">
                <a:moveTo>
                  <a:pt x="17190" y="11112"/>
                </a:moveTo>
                <a:cubicBezTo>
                  <a:pt x="17190" y="11512"/>
                  <a:pt x="17139" y="11887"/>
                  <a:pt x="17066" y="12278"/>
                </a:cubicBezTo>
                <a:cubicBezTo>
                  <a:pt x="17058" y="12311"/>
                  <a:pt x="17049" y="12345"/>
                  <a:pt x="17041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69080" y="3946680"/>
            <a:ext cx="17640" cy="598320"/>
          </a:xfrm>
          <a:custGeom>
            <a:avLst/>
            <a:gdLst/>
            <a:ahLst/>
            <a:rect l="l" t="t" r="r" b="b"/>
            <a:pathLst>
              <a:path w="51" h="1663">
                <a:moveTo>
                  <a:pt x="18827" y="10964"/>
                </a:moveTo>
                <a:cubicBezTo>
                  <a:pt x="18842" y="11440"/>
                  <a:pt x="18819" y="11902"/>
                  <a:pt x="18802" y="12378"/>
                </a:cubicBezTo>
                <a:cubicBezTo>
                  <a:pt x="18802" y="12538"/>
                  <a:pt x="18758" y="12569"/>
                  <a:pt x="18827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00960" y="4017960"/>
            <a:ext cx="44280" cy="500040"/>
          </a:xfrm>
          <a:custGeom>
            <a:avLst/>
            <a:gdLst/>
            <a:ahLst/>
            <a:rect l="l" t="t" r="r" b="b"/>
            <a:pathLst>
              <a:path w="125" h="1390">
                <a:moveTo>
                  <a:pt x="20960" y="11162"/>
                </a:moveTo>
                <a:cubicBezTo>
                  <a:pt x="20960" y="11580"/>
                  <a:pt x="20930" y="11966"/>
                  <a:pt x="20861" y="12378"/>
                </a:cubicBezTo>
                <a:cubicBezTo>
                  <a:pt x="20843" y="12485"/>
                  <a:pt x="20835" y="12493"/>
                  <a:pt x="20836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11920" y="4394160"/>
            <a:ext cx="2071440" cy="642960"/>
          </a:xfrm>
          <a:custGeom>
            <a:avLst/>
            <a:gdLst/>
            <a:ahLst/>
            <a:rect l="l" t="t" r="r" b="b"/>
            <a:pathLst>
              <a:path w="5755" h="1787">
                <a:moveTo>
                  <a:pt x="17636" y="13171"/>
                </a:moveTo>
                <a:cubicBezTo>
                  <a:pt x="17751" y="13217"/>
                  <a:pt x="17909" y="13252"/>
                  <a:pt x="18033" y="13246"/>
                </a:cubicBezTo>
                <a:cubicBezTo>
                  <a:pt x="18107" y="13227"/>
                  <a:pt x="18166" y="13219"/>
                  <a:pt x="18107" y="13221"/>
                </a:cubicBezTo>
                <a:cubicBezTo>
                  <a:pt x="18063" y="13239"/>
                  <a:pt x="17809" y="13294"/>
                  <a:pt x="17835" y="13295"/>
                </a:cubicBezTo>
                <a:cubicBezTo>
                  <a:pt x="17909" y="13299"/>
                  <a:pt x="18041" y="13239"/>
                  <a:pt x="18107" y="13271"/>
                </a:cubicBezTo>
                <a:cubicBezTo>
                  <a:pt x="18115" y="13279"/>
                  <a:pt x="18124" y="13287"/>
                  <a:pt x="18132" y="13295"/>
                </a:cubicBezTo>
              </a:path>
              <a:path w="5755" h="1787">
                <a:moveTo>
                  <a:pt x="16917" y="13022"/>
                </a:moveTo>
                <a:cubicBezTo>
                  <a:pt x="16795" y="12917"/>
                  <a:pt x="16632" y="12933"/>
                  <a:pt x="16495" y="13047"/>
                </a:cubicBezTo>
                <a:cubicBezTo>
                  <a:pt x="16470" y="13080"/>
                  <a:pt x="16446" y="13113"/>
                  <a:pt x="16421" y="13146"/>
                </a:cubicBezTo>
                <a:cubicBezTo>
                  <a:pt x="16535" y="13375"/>
                  <a:pt x="16724" y="13358"/>
                  <a:pt x="16917" y="13519"/>
                </a:cubicBezTo>
                <a:cubicBezTo>
                  <a:pt x="16933" y="13544"/>
                  <a:pt x="16950" y="13568"/>
                  <a:pt x="16966" y="13593"/>
                </a:cubicBezTo>
                <a:cubicBezTo>
                  <a:pt x="16918" y="13656"/>
                  <a:pt x="16700" y="13838"/>
                  <a:pt x="16669" y="13618"/>
                </a:cubicBezTo>
                <a:cubicBezTo>
                  <a:pt x="16650" y="13484"/>
                  <a:pt x="16989" y="13102"/>
                  <a:pt x="16892" y="13047"/>
                </a:cubicBezTo>
                <a:cubicBezTo>
                  <a:pt x="16884" y="13047"/>
                  <a:pt x="16875" y="13047"/>
                  <a:pt x="16867" y="13047"/>
                </a:cubicBezTo>
              </a:path>
              <a:path w="5755" h="1787">
                <a:moveTo>
                  <a:pt x="19025" y="12898"/>
                </a:moveTo>
                <a:cubicBezTo>
                  <a:pt x="18933" y="12911"/>
                  <a:pt x="18789" y="12896"/>
                  <a:pt x="18703" y="12923"/>
                </a:cubicBezTo>
                <a:cubicBezTo>
                  <a:pt x="18653" y="12939"/>
                  <a:pt x="18655" y="13176"/>
                  <a:pt x="18653" y="13221"/>
                </a:cubicBezTo>
                <a:cubicBezTo>
                  <a:pt x="18653" y="13229"/>
                  <a:pt x="18653" y="13238"/>
                  <a:pt x="18653" y="13246"/>
                </a:cubicBezTo>
                <a:cubicBezTo>
                  <a:pt x="18769" y="13237"/>
                  <a:pt x="18943" y="13154"/>
                  <a:pt x="19050" y="13221"/>
                </a:cubicBezTo>
                <a:cubicBezTo>
                  <a:pt x="19248" y="13345"/>
                  <a:pt x="18967" y="13538"/>
                  <a:pt x="18876" y="13568"/>
                </a:cubicBezTo>
                <a:cubicBezTo>
                  <a:pt x="18797" y="13594"/>
                  <a:pt x="18752" y="13593"/>
                  <a:pt x="18678" y="13593"/>
                </a:cubicBezTo>
              </a:path>
              <a:path w="5755" h="1787">
                <a:moveTo>
                  <a:pt x="19794" y="13171"/>
                </a:moveTo>
                <a:cubicBezTo>
                  <a:pt x="19936" y="13188"/>
                  <a:pt x="20047" y="13155"/>
                  <a:pt x="20191" y="13146"/>
                </a:cubicBezTo>
                <a:cubicBezTo>
                  <a:pt x="20199" y="13146"/>
                  <a:pt x="20208" y="13146"/>
                  <a:pt x="20216" y="13146"/>
                </a:cubicBezTo>
              </a:path>
              <a:path w="5755" h="1787">
                <a:moveTo>
                  <a:pt x="19943" y="13444"/>
                </a:moveTo>
                <a:cubicBezTo>
                  <a:pt x="20075" y="13400"/>
                  <a:pt x="20206" y="13358"/>
                  <a:pt x="20340" y="13320"/>
                </a:cubicBezTo>
              </a:path>
              <a:path w="5755" h="1787">
                <a:moveTo>
                  <a:pt x="20910" y="13097"/>
                </a:moveTo>
                <a:cubicBezTo>
                  <a:pt x="21013" y="13014"/>
                  <a:pt x="21131" y="13012"/>
                  <a:pt x="21258" y="13047"/>
                </a:cubicBezTo>
                <a:cubicBezTo>
                  <a:pt x="21367" y="13077"/>
                  <a:pt x="21120" y="13283"/>
                  <a:pt x="21109" y="13295"/>
                </a:cubicBezTo>
                <a:cubicBezTo>
                  <a:pt x="21101" y="13303"/>
                  <a:pt x="21092" y="13312"/>
                  <a:pt x="21084" y="13320"/>
                </a:cubicBezTo>
                <a:cubicBezTo>
                  <a:pt x="21189" y="13230"/>
                  <a:pt x="21346" y="13209"/>
                  <a:pt x="21307" y="13419"/>
                </a:cubicBezTo>
                <a:cubicBezTo>
                  <a:pt x="21276" y="13584"/>
                  <a:pt x="21016" y="13718"/>
                  <a:pt x="20861" y="13667"/>
                </a:cubicBezTo>
                <a:cubicBezTo>
                  <a:pt x="20853" y="13651"/>
                  <a:pt x="20844" y="13634"/>
                  <a:pt x="20836" y="13618"/>
                </a:cubicBezTo>
              </a:path>
              <a:path w="5755" h="1787">
                <a:moveTo>
                  <a:pt x="20365" y="12948"/>
                </a:moveTo>
                <a:cubicBezTo>
                  <a:pt x="20433" y="12948"/>
                  <a:pt x="20495" y="12928"/>
                  <a:pt x="20563" y="12923"/>
                </a:cubicBezTo>
                <a:cubicBezTo>
                  <a:pt x="20574" y="12922"/>
                  <a:pt x="20680" y="12923"/>
                  <a:pt x="20613" y="12923"/>
                </a:cubicBezTo>
                <a:cubicBezTo>
                  <a:pt x="20539" y="12923"/>
                  <a:pt x="20467" y="12898"/>
                  <a:pt x="20389" y="12898"/>
                </a:cubicBezTo>
                <a:cubicBezTo>
                  <a:pt x="20381" y="12898"/>
                  <a:pt x="20373" y="12898"/>
                  <a:pt x="20365" y="12898"/>
                </a:cubicBezTo>
                <a:cubicBezTo>
                  <a:pt x="20422" y="12898"/>
                  <a:pt x="20624" y="12898"/>
                  <a:pt x="20588" y="12898"/>
                </a:cubicBezTo>
                <a:cubicBezTo>
                  <a:pt x="20513" y="12898"/>
                  <a:pt x="20428" y="12893"/>
                  <a:pt x="20365" y="12923"/>
                </a:cubicBezTo>
                <a:cubicBezTo>
                  <a:pt x="20297" y="12956"/>
                  <a:pt x="20515" y="12917"/>
                  <a:pt x="20588" y="12898"/>
                </a:cubicBezTo>
                <a:cubicBezTo>
                  <a:pt x="20648" y="12882"/>
                  <a:pt x="20659" y="12874"/>
                  <a:pt x="20712" y="12874"/>
                </a:cubicBezTo>
              </a:path>
              <a:path w="5755" h="1787">
                <a:moveTo>
                  <a:pt x="20141" y="13791"/>
                </a:moveTo>
                <a:cubicBezTo>
                  <a:pt x="20223" y="13820"/>
                  <a:pt x="20324" y="13867"/>
                  <a:pt x="20414" y="13891"/>
                </a:cubicBezTo>
                <a:cubicBezTo>
                  <a:pt x="20650" y="13955"/>
                  <a:pt x="20940" y="14007"/>
                  <a:pt x="21183" y="13990"/>
                </a:cubicBezTo>
                <a:cubicBezTo>
                  <a:pt x="21370" y="13977"/>
                  <a:pt x="21641" y="13937"/>
                  <a:pt x="21803" y="13841"/>
                </a:cubicBezTo>
                <a:cubicBezTo>
                  <a:pt x="21942" y="13759"/>
                  <a:pt x="22030" y="13664"/>
                  <a:pt x="22101" y="13519"/>
                </a:cubicBezTo>
                <a:cubicBezTo>
                  <a:pt x="22209" y="13299"/>
                  <a:pt x="22194" y="13037"/>
                  <a:pt x="22076" y="12824"/>
                </a:cubicBezTo>
                <a:cubicBezTo>
                  <a:pt x="21993" y="12675"/>
                  <a:pt x="21884" y="12538"/>
                  <a:pt x="21754" y="12427"/>
                </a:cubicBezTo>
                <a:cubicBezTo>
                  <a:pt x="21636" y="12326"/>
                  <a:pt x="21479" y="12270"/>
                  <a:pt x="21332" y="12229"/>
                </a:cubicBezTo>
                <a:cubicBezTo>
                  <a:pt x="21209" y="12195"/>
                  <a:pt x="21084" y="12209"/>
                  <a:pt x="20960" y="12229"/>
                </a:cubicBezTo>
                <a:cubicBezTo>
                  <a:pt x="20810" y="12253"/>
                  <a:pt x="20663" y="12268"/>
                  <a:pt x="20513" y="12303"/>
                </a:cubicBezTo>
                <a:cubicBezTo>
                  <a:pt x="20405" y="12328"/>
                  <a:pt x="20297" y="12379"/>
                  <a:pt x="20216" y="12452"/>
                </a:cubicBezTo>
                <a:cubicBezTo>
                  <a:pt x="20161" y="12501"/>
                  <a:pt x="20088" y="12574"/>
                  <a:pt x="20042" y="12626"/>
                </a:cubicBezTo>
                <a:cubicBezTo>
                  <a:pt x="20018" y="12652"/>
                  <a:pt x="19952" y="12743"/>
                  <a:pt x="19943" y="12774"/>
                </a:cubicBezTo>
                <a:cubicBezTo>
                  <a:pt x="19919" y="12856"/>
                  <a:pt x="19902" y="12985"/>
                  <a:pt x="19918" y="13072"/>
                </a:cubicBezTo>
                <a:cubicBezTo>
                  <a:pt x="19935" y="13164"/>
                  <a:pt x="19962" y="13233"/>
                  <a:pt x="19993" y="13320"/>
                </a:cubicBezTo>
                <a:cubicBezTo>
                  <a:pt x="20023" y="13404"/>
                  <a:pt x="20047" y="13464"/>
                  <a:pt x="20092" y="13543"/>
                </a:cubicBezTo>
                <a:cubicBezTo>
                  <a:pt x="20144" y="13634"/>
                  <a:pt x="20204" y="13666"/>
                  <a:pt x="20265" y="13742"/>
                </a:cubicBezTo>
                <a:cubicBezTo>
                  <a:pt x="20307" y="13795"/>
                  <a:pt x="20278" y="13761"/>
                  <a:pt x="20315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-4 + (-2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5 + 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-10 + 7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9 + 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.) –12 + (-16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.) -24 +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.) 18 + (-13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.) -45 + (-2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1544760"/>
            <a:ext cx="2116080" cy="1411200"/>
          </a:xfrm>
          <a:custGeom>
            <a:avLst/>
            <a:gdLst/>
            <a:ahLst/>
            <a:rect l="l" t="t" r="r" b="b"/>
            <a:pathLst>
              <a:path w="5880" h="3920">
                <a:moveTo>
                  <a:pt x="17512" y="6623"/>
                </a:moveTo>
                <a:cubicBezTo>
                  <a:pt x="17636" y="6570"/>
                  <a:pt x="17753" y="6613"/>
                  <a:pt x="17884" y="6623"/>
                </a:cubicBezTo>
                <a:cubicBezTo>
                  <a:pt x="17974" y="6630"/>
                  <a:pt x="17966" y="6627"/>
                  <a:pt x="18008" y="6648"/>
                </a:cubicBezTo>
                <a:cubicBezTo>
                  <a:pt x="18016" y="6648"/>
                  <a:pt x="18025" y="6648"/>
                  <a:pt x="18033" y="6648"/>
                </a:cubicBezTo>
              </a:path>
              <a:path w="5880" h="3920">
                <a:moveTo>
                  <a:pt x="16346" y="5110"/>
                </a:moveTo>
                <a:cubicBezTo>
                  <a:pt x="16346" y="4933"/>
                  <a:pt x="16289" y="5409"/>
                  <a:pt x="16247" y="5581"/>
                </a:cubicBezTo>
                <a:cubicBezTo>
                  <a:pt x="16199" y="5775"/>
                  <a:pt x="16115" y="5999"/>
                  <a:pt x="16098" y="6201"/>
                </a:cubicBezTo>
                <a:cubicBezTo>
                  <a:pt x="16098" y="6209"/>
                  <a:pt x="16098" y="6218"/>
                  <a:pt x="16098" y="6226"/>
                </a:cubicBezTo>
              </a:path>
              <a:path w="5880" h="3920">
                <a:moveTo>
                  <a:pt x="17264" y="5259"/>
                </a:moveTo>
                <a:cubicBezTo>
                  <a:pt x="17264" y="5114"/>
                  <a:pt x="17198" y="5490"/>
                  <a:pt x="17165" y="5631"/>
                </a:cubicBezTo>
                <a:cubicBezTo>
                  <a:pt x="17135" y="5763"/>
                  <a:pt x="16999" y="6128"/>
                  <a:pt x="17090" y="6028"/>
                </a:cubicBezTo>
                <a:cubicBezTo>
                  <a:pt x="17107" y="6003"/>
                  <a:pt x="17123" y="5978"/>
                  <a:pt x="17140" y="5953"/>
                </a:cubicBezTo>
              </a:path>
              <a:path w="5880" h="3920">
                <a:moveTo>
                  <a:pt x="18802" y="5110"/>
                </a:moveTo>
                <a:cubicBezTo>
                  <a:pt x="18777" y="5405"/>
                  <a:pt x="18725" y="5713"/>
                  <a:pt x="18653" y="6003"/>
                </a:cubicBezTo>
                <a:cubicBezTo>
                  <a:pt x="18613" y="6126"/>
                  <a:pt x="18596" y="6148"/>
                  <a:pt x="18604" y="6226"/>
                </a:cubicBezTo>
              </a:path>
              <a:path w="5880" h="3920">
                <a:moveTo>
                  <a:pt x="20935" y="5110"/>
                </a:moveTo>
                <a:cubicBezTo>
                  <a:pt x="20882" y="4951"/>
                  <a:pt x="20855" y="5365"/>
                  <a:pt x="20836" y="5531"/>
                </a:cubicBezTo>
                <a:cubicBezTo>
                  <a:pt x="20813" y="5738"/>
                  <a:pt x="20808" y="5926"/>
                  <a:pt x="20762" y="6127"/>
                </a:cubicBezTo>
              </a:path>
              <a:path w="5880" h="3920">
                <a:moveTo>
                  <a:pt x="16917" y="4390"/>
                </a:moveTo>
                <a:cubicBezTo>
                  <a:pt x="16780" y="4454"/>
                  <a:pt x="16674" y="4465"/>
                  <a:pt x="16520" y="4465"/>
                </a:cubicBezTo>
                <a:cubicBezTo>
                  <a:pt x="16520" y="4548"/>
                  <a:pt x="16520" y="4630"/>
                  <a:pt x="16520" y="4713"/>
                </a:cubicBezTo>
                <a:cubicBezTo>
                  <a:pt x="16623" y="4713"/>
                  <a:pt x="16705" y="4694"/>
                  <a:pt x="16793" y="4762"/>
                </a:cubicBezTo>
                <a:cubicBezTo>
                  <a:pt x="16889" y="4837"/>
                  <a:pt x="16670" y="4930"/>
                  <a:pt x="16644" y="4936"/>
                </a:cubicBezTo>
                <a:cubicBezTo>
                  <a:pt x="16603" y="4946"/>
                  <a:pt x="16539" y="4936"/>
                  <a:pt x="16495" y="4936"/>
                </a:cubicBezTo>
              </a:path>
              <a:path w="5880" h="3920">
                <a:moveTo>
                  <a:pt x="19670" y="4440"/>
                </a:moveTo>
                <a:cubicBezTo>
                  <a:pt x="19692" y="4375"/>
                  <a:pt x="19760" y="4352"/>
                  <a:pt x="19844" y="4316"/>
                </a:cubicBezTo>
                <a:cubicBezTo>
                  <a:pt x="19901" y="4297"/>
                  <a:pt x="19908" y="4288"/>
                  <a:pt x="19943" y="4291"/>
                </a:cubicBezTo>
                <a:cubicBezTo>
                  <a:pt x="19967" y="4435"/>
                  <a:pt x="19923" y="4460"/>
                  <a:pt x="19819" y="4564"/>
                </a:cubicBezTo>
                <a:cubicBezTo>
                  <a:pt x="19882" y="4522"/>
                  <a:pt x="20019" y="4448"/>
                  <a:pt x="19993" y="4614"/>
                </a:cubicBezTo>
                <a:cubicBezTo>
                  <a:pt x="19970" y="4759"/>
                  <a:pt x="19818" y="4819"/>
                  <a:pt x="19695" y="4837"/>
                </a:cubicBezTo>
              </a:path>
              <a:path w="5880" h="3920">
                <a:moveTo>
                  <a:pt x="16892" y="6449"/>
                </a:moveTo>
                <a:cubicBezTo>
                  <a:pt x="16831" y="6449"/>
                  <a:pt x="16779" y="6470"/>
                  <a:pt x="16718" y="6474"/>
                </a:cubicBezTo>
                <a:cubicBezTo>
                  <a:pt x="16681" y="6477"/>
                  <a:pt x="16652" y="6583"/>
                  <a:pt x="16644" y="6623"/>
                </a:cubicBezTo>
                <a:cubicBezTo>
                  <a:pt x="16644" y="6664"/>
                  <a:pt x="16644" y="6672"/>
                  <a:pt x="16644" y="6697"/>
                </a:cubicBezTo>
                <a:cubicBezTo>
                  <a:pt x="16723" y="6689"/>
                  <a:pt x="16888" y="6613"/>
                  <a:pt x="16917" y="6722"/>
                </a:cubicBezTo>
                <a:cubicBezTo>
                  <a:pt x="16964" y="6897"/>
                  <a:pt x="16740" y="6965"/>
                  <a:pt x="16619" y="6995"/>
                </a:cubicBezTo>
                <a:cubicBezTo>
                  <a:pt x="16591" y="6995"/>
                  <a:pt x="16580" y="6993"/>
                  <a:pt x="16570" y="6970"/>
                </a:cubicBezTo>
              </a:path>
              <a:path w="5880" h="3920">
                <a:moveTo>
                  <a:pt x="18479" y="6524"/>
                </a:moveTo>
                <a:cubicBezTo>
                  <a:pt x="18554" y="6431"/>
                  <a:pt x="18637" y="6431"/>
                  <a:pt x="18752" y="6449"/>
                </a:cubicBezTo>
                <a:cubicBezTo>
                  <a:pt x="18752" y="6615"/>
                  <a:pt x="18733" y="6613"/>
                  <a:pt x="18604" y="6697"/>
                </a:cubicBezTo>
                <a:cubicBezTo>
                  <a:pt x="18596" y="6705"/>
                  <a:pt x="18587" y="6714"/>
                  <a:pt x="18579" y="6722"/>
                </a:cubicBezTo>
                <a:cubicBezTo>
                  <a:pt x="18591" y="6685"/>
                  <a:pt x="18684" y="6643"/>
                  <a:pt x="18728" y="6697"/>
                </a:cubicBezTo>
                <a:cubicBezTo>
                  <a:pt x="18831" y="6824"/>
                  <a:pt x="18602" y="6971"/>
                  <a:pt x="18504" y="6995"/>
                </a:cubicBezTo>
                <a:cubicBezTo>
                  <a:pt x="18299" y="7046"/>
                  <a:pt x="18443" y="6961"/>
                  <a:pt x="18479" y="6945"/>
                </a:cubicBezTo>
              </a:path>
              <a:path w="5880" h="3920">
                <a:moveTo>
                  <a:pt x="19323" y="6747"/>
                </a:moveTo>
                <a:cubicBezTo>
                  <a:pt x="19383" y="6707"/>
                  <a:pt x="19497" y="6660"/>
                  <a:pt x="19571" y="6697"/>
                </a:cubicBezTo>
                <a:cubicBezTo>
                  <a:pt x="19571" y="6705"/>
                  <a:pt x="19571" y="6714"/>
                  <a:pt x="19571" y="6722"/>
                </a:cubicBezTo>
              </a:path>
              <a:path w="5880" h="3920">
                <a:moveTo>
                  <a:pt x="20588" y="6499"/>
                </a:moveTo>
                <a:cubicBezTo>
                  <a:pt x="20672" y="6478"/>
                  <a:pt x="20751" y="6458"/>
                  <a:pt x="20836" y="6449"/>
                </a:cubicBezTo>
                <a:cubicBezTo>
                  <a:pt x="20869" y="6615"/>
                  <a:pt x="20763" y="6731"/>
                  <a:pt x="20638" y="6846"/>
                </a:cubicBezTo>
                <a:cubicBezTo>
                  <a:pt x="20562" y="6903"/>
                  <a:pt x="20550" y="6907"/>
                  <a:pt x="20513" y="6945"/>
                </a:cubicBezTo>
                <a:cubicBezTo>
                  <a:pt x="20615" y="6945"/>
                  <a:pt x="20709" y="6905"/>
                  <a:pt x="20811" y="6896"/>
                </a:cubicBezTo>
                <a:cubicBezTo>
                  <a:pt x="20918" y="6887"/>
                  <a:pt x="21010" y="6901"/>
                  <a:pt x="21109" y="6921"/>
                </a:cubicBezTo>
              </a:path>
              <a:path w="5880" h="3920">
                <a:moveTo>
                  <a:pt x="20166" y="7169"/>
                </a:moveTo>
                <a:cubicBezTo>
                  <a:pt x="20254" y="7203"/>
                  <a:pt x="20367" y="7242"/>
                  <a:pt x="20464" y="7268"/>
                </a:cubicBezTo>
                <a:cubicBezTo>
                  <a:pt x="20714" y="7336"/>
                  <a:pt x="20976" y="7385"/>
                  <a:pt x="21233" y="7342"/>
                </a:cubicBezTo>
                <a:cubicBezTo>
                  <a:pt x="21497" y="7298"/>
                  <a:pt x="21773" y="7200"/>
                  <a:pt x="21927" y="6970"/>
                </a:cubicBezTo>
                <a:cubicBezTo>
                  <a:pt x="22016" y="6837"/>
                  <a:pt x="21969" y="6649"/>
                  <a:pt x="21878" y="6524"/>
                </a:cubicBezTo>
                <a:cubicBezTo>
                  <a:pt x="21746" y="6343"/>
                  <a:pt x="21472" y="6252"/>
                  <a:pt x="21258" y="6226"/>
                </a:cubicBezTo>
                <a:cubicBezTo>
                  <a:pt x="21061" y="6202"/>
                  <a:pt x="20833" y="6219"/>
                  <a:pt x="20638" y="6251"/>
                </a:cubicBezTo>
                <a:cubicBezTo>
                  <a:pt x="20481" y="6277"/>
                  <a:pt x="20250" y="6317"/>
                  <a:pt x="20141" y="6449"/>
                </a:cubicBezTo>
                <a:cubicBezTo>
                  <a:pt x="20064" y="6541"/>
                  <a:pt x="19943" y="6719"/>
                  <a:pt x="19968" y="6846"/>
                </a:cubicBezTo>
                <a:cubicBezTo>
                  <a:pt x="20002" y="7020"/>
                  <a:pt x="20134" y="7185"/>
                  <a:pt x="20315" y="7218"/>
                </a:cubicBezTo>
                <a:cubicBezTo>
                  <a:pt x="20438" y="7240"/>
                  <a:pt x="20565" y="7202"/>
                  <a:pt x="20687" y="7193"/>
                </a:cubicBezTo>
              </a:path>
              <a:path w="5880" h="3920">
                <a:moveTo>
                  <a:pt x="16917" y="7813"/>
                </a:moveTo>
                <a:cubicBezTo>
                  <a:pt x="16917" y="7741"/>
                  <a:pt x="16899" y="7471"/>
                  <a:pt x="16743" y="7516"/>
                </a:cubicBezTo>
                <a:cubicBezTo>
                  <a:pt x="16595" y="7558"/>
                  <a:pt x="16630" y="7715"/>
                  <a:pt x="16644" y="7813"/>
                </a:cubicBezTo>
                <a:cubicBezTo>
                  <a:pt x="16777" y="7771"/>
                  <a:pt x="16802" y="7740"/>
                  <a:pt x="16892" y="7615"/>
                </a:cubicBezTo>
                <a:cubicBezTo>
                  <a:pt x="16892" y="7783"/>
                  <a:pt x="16840" y="8126"/>
                  <a:pt x="16942" y="8210"/>
                </a:cubicBezTo>
              </a:path>
              <a:path w="5880" h="3920">
                <a:moveTo>
                  <a:pt x="19199" y="7764"/>
                </a:moveTo>
                <a:cubicBezTo>
                  <a:pt x="19231" y="7757"/>
                  <a:pt x="19621" y="7683"/>
                  <a:pt x="19571" y="7764"/>
                </a:cubicBezTo>
                <a:cubicBezTo>
                  <a:pt x="19484" y="7851"/>
                  <a:pt x="19465" y="7875"/>
                  <a:pt x="19397" y="7913"/>
                </a:cubicBezTo>
                <a:cubicBezTo>
                  <a:pt x="19504" y="7949"/>
                  <a:pt x="19565" y="7916"/>
                  <a:pt x="19670" y="8012"/>
                </a:cubicBezTo>
                <a:cubicBezTo>
                  <a:pt x="19526" y="8111"/>
                  <a:pt x="19450" y="8122"/>
                  <a:pt x="19273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84920" y="3205080"/>
            <a:ext cx="1849320" cy="1403280"/>
          </a:xfrm>
          <a:custGeom>
            <a:avLst/>
            <a:gdLst/>
            <a:ahLst/>
            <a:rect l="l" t="t" r="r" b="b"/>
            <a:pathLst>
              <a:path w="5136" h="3895">
                <a:moveTo>
                  <a:pt x="19372" y="9748"/>
                </a:moveTo>
                <a:cubicBezTo>
                  <a:pt x="19495" y="9718"/>
                  <a:pt x="19676" y="9655"/>
                  <a:pt x="19769" y="9723"/>
                </a:cubicBezTo>
              </a:path>
              <a:path w="5136" h="3895">
                <a:moveTo>
                  <a:pt x="20290" y="9426"/>
                </a:moveTo>
                <a:cubicBezTo>
                  <a:pt x="20290" y="9632"/>
                  <a:pt x="20234" y="9927"/>
                  <a:pt x="20315" y="10120"/>
                </a:cubicBezTo>
                <a:cubicBezTo>
                  <a:pt x="20394" y="10307"/>
                  <a:pt x="20656" y="9998"/>
                  <a:pt x="20687" y="9947"/>
                </a:cubicBezTo>
                <a:cubicBezTo>
                  <a:pt x="20687" y="9914"/>
                  <a:pt x="20679" y="9906"/>
                  <a:pt x="20638" y="9922"/>
                </a:cubicBezTo>
                <a:cubicBezTo>
                  <a:pt x="20518" y="10029"/>
                  <a:pt x="20507" y="10066"/>
                  <a:pt x="20538" y="10220"/>
                </a:cubicBezTo>
                <a:cubicBezTo>
                  <a:pt x="20538" y="10228"/>
                  <a:pt x="20538" y="10236"/>
                  <a:pt x="20538" y="10244"/>
                </a:cubicBezTo>
              </a:path>
              <a:path w="5136" h="3895">
                <a:moveTo>
                  <a:pt x="20067" y="10120"/>
                </a:moveTo>
                <a:cubicBezTo>
                  <a:pt x="20216" y="10210"/>
                  <a:pt x="20358" y="10294"/>
                  <a:pt x="20538" y="10319"/>
                </a:cubicBezTo>
                <a:cubicBezTo>
                  <a:pt x="20787" y="10354"/>
                  <a:pt x="20975" y="10298"/>
                  <a:pt x="21183" y="10170"/>
                </a:cubicBezTo>
                <a:cubicBezTo>
                  <a:pt x="21410" y="10030"/>
                  <a:pt x="21503" y="9836"/>
                  <a:pt x="21456" y="9575"/>
                </a:cubicBezTo>
                <a:cubicBezTo>
                  <a:pt x="21408" y="9305"/>
                  <a:pt x="21204" y="9112"/>
                  <a:pt x="20960" y="9004"/>
                </a:cubicBezTo>
                <a:cubicBezTo>
                  <a:pt x="20725" y="8900"/>
                  <a:pt x="20479" y="8872"/>
                  <a:pt x="20241" y="8979"/>
                </a:cubicBezTo>
                <a:cubicBezTo>
                  <a:pt x="20018" y="9080"/>
                  <a:pt x="19903" y="9298"/>
                  <a:pt x="19844" y="9525"/>
                </a:cubicBezTo>
                <a:cubicBezTo>
                  <a:pt x="19793" y="9720"/>
                  <a:pt x="19857" y="10005"/>
                  <a:pt x="20042" y="10120"/>
                </a:cubicBezTo>
                <a:cubicBezTo>
                  <a:pt x="20136" y="10179"/>
                  <a:pt x="20242" y="10166"/>
                  <a:pt x="20340" y="10195"/>
                </a:cubicBezTo>
              </a:path>
              <a:path w="5136" h="3895">
                <a:moveTo>
                  <a:pt x="16396" y="11534"/>
                </a:moveTo>
                <a:cubicBezTo>
                  <a:pt x="16343" y="11358"/>
                  <a:pt x="16381" y="11484"/>
                  <a:pt x="16371" y="11658"/>
                </a:cubicBezTo>
                <a:cubicBezTo>
                  <a:pt x="16366" y="11751"/>
                  <a:pt x="16253" y="12496"/>
                  <a:pt x="16421" y="12353"/>
                </a:cubicBezTo>
                <a:cubicBezTo>
                  <a:pt x="16495" y="12278"/>
                  <a:pt x="16570" y="12204"/>
                  <a:pt x="16644" y="12129"/>
                </a:cubicBezTo>
              </a:path>
              <a:path w="5136" h="3895">
                <a:moveTo>
                  <a:pt x="18455" y="11534"/>
                </a:moveTo>
                <a:cubicBezTo>
                  <a:pt x="18455" y="11678"/>
                  <a:pt x="18444" y="11838"/>
                  <a:pt x="18430" y="11981"/>
                </a:cubicBezTo>
                <a:cubicBezTo>
                  <a:pt x="18410" y="12098"/>
                  <a:pt x="18430" y="12133"/>
                  <a:pt x="18355" y="12154"/>
                </a:cubicBezTo>
              </a:path>
              <a:path w="5136" h="3895">
                <a:moveTo>
                  <a:pt x="17165" y="10517"/>
                </a:moveTo>
                <a:cubicBezTo>
                  <a:pt x="17303" y="10540"/>
                  <a:pt x="17375" y="10607"/>
                  <a:pt x="17338" y="10765"/>
                </a:cubicBezTo>
                <a:cubicBezTo>
                  <a:pt x="17291" y="10968"/>
                  <a:pt x="17178" y="10981"/>
                  <a:pt x="17016" y="11013"/>
                </a:cubicBezTo>
                <a:cubicBezTo>
                  <a:pt x="17041" y="10887"/>
                  <a:pt x="17160" y="10906"/>
                  <a:pt x="17264" y="10939"/>
                </a:cubicBezTo>
                <a:cubicBezTo>
                  <a:pt x="17287" y="10962"/>
                  <a:pt x="17291" y="10970"/>
                  <a:pt x="17314" y="10964"/>
                </a:cubicBezTo>
              </a:path>
              <a:path w="5136" h="3895">
                <a:moveTo>
                  <a:pt x="17711" y="10468"/>
                </a:moveTo>
                <a:cubicBezTo>
                  <a:pt x="17711" y="10672"/>
                  <a:pt x="17687" y="10861"/>
                  <a:pt x="17661" y="11063"/>
                </a:cubicBezTo>
                <a:cubicBezTo>
                  <a:pt x="17661" y="11071"/>
                  <a:pt x="17661" y="11080"/>
                  <a:pt x="17661" y="11088"/>
                </a:cubicBezTo>
              </a:path>
              <a:path w="5136" h="3895">
                <a:moveTo>
                  <a:pt x="19422" y="11509"/>
                </a:moveTo>
                <a:cubicBezTo>
                  <a:pt x="19600" y="11435"/>
                  <a:pt x="19520" y="11833"/>
                  <a:pt x="19521" y="11906"/>
                </a:cubicBezTo>
                <a:cubicBezTo>
                  <a:pt x="19523" y="12113"/>
                  <a:pt x="19474" y="12269"/>
                  <a:pt x="19571" y="12353"/>
                </a:cubicBezTo>
              </a:path>
              <a:path w="5136" h="3895">
                <a:moveTo>
                  <a:pt x="20092" y="10765"/>
                </a:moveTo>
                <a:cubicBezTo>
                  <a:pt x="20080" y="10857"/>
                  <a:pt x="20055" y="10947"/>
                  <a:pt x="20042" y="11038"/>
                </a:cubicBezTo>
              </a:path>
              <a:path w="5136" h="3895">
                <a:moveTo>
                  <a:pt x="20241" y="10765"/>
                </a:moveTo>
                <a:cubicBezTo>
                  <a:pt x="20283" y="10838"/>
                  <a:pt x="20290" y="10893"/>
                  <a:pt x="20414" y="10889"/>
                </a:cubicBezTo>
                <a:cubicBezTo>
                  <a:pt x="20492" y="10863"/>
                  <a:pt x="20519" y="10852"/>
                  <a:pt x="20538" y="10790"/>
                </a:cubicBezTo>
              </a:path>
              <a:path w="5136" h="3895">
                <a:moveTo>
                  <a:pt x="20538" y="10542"/>
                </a:moveTo>
                <a:cubicBezTo>
                  <a:pt x="20528" y="10723"/>
                  <a:pt x="20547" y="10936"/>
                  <a:pt x="20513" y="11112"/>
                </a:cubicBezTo>
                <a:cubicBezTo>
                  <a:pt x="20505" y="11120"/>
                  <a:pt x="20497" y="11129"/>
                  <a:pt x="20489" y="11137"/>
                </a:cubicBezTo>
              </a:path>
              <a:path w="5136" h="3895">
                <a:moveTo>
                  <a:pt x="20439" y="12774"/>
                </a:moveTo>
                <a:cubicBezTo>
                  <a:pt x="20543" y="12774"/>
                  <a:pt x="20635" y="12784"/>
                  <a:pt x="20737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08920" y="4214880"/>
            <a:ext cx="446040" cy="482400"/>
          </a:xfrm>
          <a:custGeom>
            <a:avLst/>
            <a:gdLst/>
            <a:ahLst/>
            <a:rect l="l" t="t" r="r" b="b"/>
            <a:pathLst>
              <a:path w="1241" h="1340">
                <a:moveTo>
                  <a:pt x="20985" y="11708"/>
                </a:moveTo>
                <a:cubicBezTo>
                  <a:pt x="20928" y="11921"/>
                  <a:pt x="20896" y="12145"/>
                  <a:pt x="20836" y="12353"/>
                </a:cubicBezTo>
              </a:path>
              <a:path w="1241" h="1340">
                <a:moveTo>
                  <a:pt x="19745" y="12650"/>
                </a:moveTo>
                <a:cubicBezTo>
                  <a:pt x="19754" y="12704"/>
                  <a:pt x="19765" y="12817"/>
                  <a:pt x="19819" y="12849"/>
                </a:cubicBezTo>
                <a:cubicBezTo>
                  <a:pt x="19918" y="12907"/>
                  <a:pt x="19984" y="12844"/>
                  <a:pt x="20067" y="12799"/>
                </a:cubicBezTo>
              </a:path>
              <a:path w="1241" h="1340">
                <a:moveTo>
                  <a:pt x="19993" y="12502"/>
                </a:moveTo>
                <a:cubicBezTo>
                  <a:pt x="20011" y="12685"/>
                  <a:pt x="20035" y="12863"/>
                  <a:pt x="20042" y="13047"/>
                </a:cubicBezTo>
              </a:path>
              <a:path w="1241" h="1340">
                <a:moveTo>
                  <a:pt x="20439" y="12998"/>
                </a:moveTo>
                <a:cubicBezTo>
                  <a:pt x="20584" y="12970"/>
                  <a:pt x="20714" y="12954"/>
                  <a:pt x="20861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32680" y="4464000"/>
            <a:ext cx="768240" cy="250920"/>
          </a:xfrm>
          <a:custGeom>
            <a:avLst/>
            <a:gdLst/>
            <a:ahLst/>
            <a:rect l="l" t="t" r="r" b="b"/>
            <a:pathLst>
              <a:path w="2134" h="696">
                <a:moveTo>
                  <a:pt x="18678" y="12725"/>
                </a:moveTo>
                <a:cubicBezTo>
                  <a:pt x="18787" y="12719"/>
                  <a:pt x="18891" y="12700"/>
                  <a:pt x="19000" y="12700"/>
                </a:cubicBezTo>
              </a:path>
              <a:path w="2134" h="696">
                <a:moveTo>
                  <a:pt x="17462" y="12725"/>
                </a:moveTo>
                <a:cubicBezTo>
                  <a:pt x="17485" y="12632"/>
                  <a:pt x="17624" y="12666"/>
                  <a:pt x="17661" y="12750"/>
                </a:cubicBezTo>
                <a:cubicBezTo>
                  <a:pt x="17762" y="12979"/>
                  <a:pt x="17459" y="13073"/>
                  <a:pt x="17314" y="13097"/>
                </a:cubicBezTo>
                <a:cubicBezTo>
                  <a:pt x="17380" y="12940"/>
                  <a:pt x="17453" y="12900"/>
                  <a:pt x="17636" y="12948"/>
                </a:cubicBezTo>
                <a:cubicBezTo>
                  <a:pt x="17653" y="12956"/>
                  <a:pt x="17669" y="12965"/>
                  <a:pt x="17686" y="12973"/>
                </a:cubicBezTo>
              </a:path>
              <a:path w="2134" h="696">
                <a:moveTo>
                  <a:pt x="17884" y="12626"/>
                </a:moveTo>
                <a:cubicBezTo>
                  <a:pt x="17895" y="12681"/>
                  <a:pt x="17912" y="12815"/>
                  <a:pt x="17959" y="12849"/>
                </a:cubicBezTo>
                <a:cubicBezTo>
                  <a:pt x="18022" y="12895"/>
                  <a:pt x="18114" y="12804"/>
                  <a:pt x="18157" y="12774"/>
                </a:cubicBezTo>
              </a:path>
              <a:path w="2134" h="696">
                <a:moveTo>
                  <a:pt x="18157" y="12402"/>
                </a:moveTo>
                <a:cubicBezTo>
                  <a:pt x="18172" y="12568"/>
                  <a:pt x="18182" y="12729"/>
                  <a:pt x="18182" y="12898"/>
                </a:cubicBezTo>
                <a:cubicBezTo>
                  <a:pt x="18182" y="12926"/>
                  <a:pt x="18184" y="12937"/>
                  <a:pt x="18207" y="12948"/>
                </a:cubicBezTo>
              </a:path>
              <a:path w="2134" h="696">
                <a:moveTo>
                  <a:pt x="19397" y="12650"/>
                </a:moveTo>
                <a:cubicBezTo>
                  <a:pt x="19397" y="12557"/>
                  <a:pt x="19440" y="12782"/>
                  <a:pt x="19447" y="12874"/>
                </a:cubicBezTo>
                <a:cubicBezTo>
                  <a:pt x="19447" y="12981"/>
                  <a:pt x="19447" y="12989"/>
                  <a:pt x="19447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46960" y="4357800"/>
            <a:ext cx="831960" cy="536400"/>
          </a:xfrm>
          <a:custGeom>
            <a:avLst/>
            <a:gdLst/>
            <a:ahLst/>
            <a:rect l="l" t="t" r="r" b="b"/>
            <a:pathLst>
              <a:path w="2308" h="1489">
                <a:moveTo>
                  <a:pt x="21679" y="12601"/>
                </a:moveTo>
                <a:cubicBezTo>
                  <a:pt x="21706" y="12777"/>
                  <a:pt x="21718" y="12956"/>
                  <a:pt x="21779" y="13122"/>
                </a:cubicBezTo>
              </a:path>
              <a:path w="2308" h="1489">
                <a:moveTo>
                  <a:pt x="22175" y="12626"/>
                </a:moveTo>
                <a:cubicBezTo>
                  <a:pt x="22107" y="12678"/>
                  <a:pt x="22009" y="12895"/>
                  <a:pt x="22002" y="12998"/>
                </a:cubicBezTo>
                <a:cubicBezTo>
                  <a:pt x="21983" y="13253"/>
                  <a:pt x="22262" y="13238"/>
                  <a:pt x="22399" y="13097"/>
                </a:cubicBezTo>
                <a:cubicBezTo>
                  <a:pt x="22565" y="12926"/>
                  <a:pt x="22451" y="12710"/>
                  <a:pt x="22250" y="12650"/>
                </a:cubicBezTo>
                <a:cubicBezTo>
                  <a:pt x="22142" y="12650"/>
                  <a:pt x="22117" y="12650"/>
                  <a:pt x="22051" y="12650"/>
                </a:cubicBezTo>
              </a:path>
              <a:path w="2308" h="1489">
                <a:moveTo>
                  <a:pt x="21183" y="12700"/>
                </a:moveTo>
                <a:cubicBezTo>
                  <a:pt x="21204" y="12637"/>
                  <a:pt x="21329" y="12696"/>
                  <a:pt x="21382" y="12700"/>
                </a:cubicBezTo>
                <a:cubicBezTo>
                  <a:pt x="21415" y="12700"/>
                  <a:pt x="21448" y="12700"/>
                  <a:pt x="21481" y="12700"/>
                </a:cubicBezTo>
              </a:path>
              <a:path w="2308" h="1489">
                <a:moveTo>
                  <a:pt x="20886" y="13171"/>
                </a:moveTo>
                <a:cubicBezTo>
                  <a:pt x="20888" y="13170"/>
                  <a:pt x="20923" y="13187"/>
                  <a:pt x="21034" y="13246"/>
                </a:cubicBezTo>
                <a:cubicBezTo>
                  <a:pt x="21207" y="13337"/>
                  <a:pt x="21399" y="13398"/>
                  <a:pt x="21580" y="13469"/>
                </a:cubicBezTo>
                <a:cubicBezTo>
                  <a:pt x="21734" y="13529"/>
                  <a:pt x="21910" y="13578"/>
                  <a:pt x="22076" y="13593"/>
                </a:cubicBezTo>
                <a:cubicBezTo>
                  <a:pt x="22218" y="13606"/>
                  <a:pt x="22385" y="13572"/>
                  <a:pt x="22523" y="13543"/>
                </a:cubicBezTo>
                <a:cubicBezTo>
                  <a:pt x="22656" y="13515"/>
                  <a:pt x="22813" y="13464"/>
                  <a:pt x="22895" y="13345"/>
                </a:cubicBezTo>
                <a:cubicBezTo>
                  <a:pt x="22952" y="13263"/>
                  <a:pt x="23000" y="13098"/>
                  <a:pt x="22994" y="12998"/>
                </a:cubicBezTo>
                <a:cubicBezTo>
                  <a:pt x="22987" y="12874"/>
                  <a:pt x="22946" y="12734"/>
                  <a:pt x="22845" y="12650"/>
                </a:cubicBezTo>
                <a:cubicBezTo>
                  <a:pt x="22725" y="12550"/>
                  <a:pt x="22539" y="12441"/>
                  <a:pt x="22399" y="12378"/>
                </a:cubicBezTo>
                <a:cubicBezTo>
                  <a:pt x="22243" y="12308"/>
                  <a:pt x="22086" y="12241"/>
                  <a:pt x="21927" y="12179"/>
                </a:cubicBezTo>
                <a:cubicBezTo>
                  <a:pt x="21806" y="12132"/>
                  <a:pt x="21683" y="12108"/>
                  <a:pt x="21555" y="12105"/>
                </a:cubicBezTo>
                <a:cubicBezTo>
                  <a:pt x="21420" y="12101"/>
                  <a:pt x="21312" y="12115"/>
                  <a:pt x="21183" y="12154"/>
                </a:cubicBezTo>
                <a:cubicBezTo>
                  <a:pt x="21073" y="12187"/>
                  <a:pt x="21019" y="12218"/>
                  <a:pt x="20935" y="12278"/>
                </a:cubicBezTo>
                <a:cubicBezTo>
                  <a:pt x="20834" y="12350"/>
                  <a:pt x="20836" y="12428"/>
                  <a:pt x="20786" y="12526"/>
                </a:cubicBezTo>
                <a:cubicBezTo>
                  <a:pt x="20726" y="12644"/>
                  <a:pt x="20700" y="12739"/>
                  <a:pt x="20687" y="12874"/>
                </a:cubicBezTo>
                <a:cubicBezTo>
                  <a:pt x="20676" y="12987"/>
                  <a:pt x="20763" y="13032"/>
                  <a:pt x="20811" y="13122"/>
                </a:cubicBezTo>
                <a:cubicBezTo>
                  <a:pt x="20830" y="13158"/>
                  <a:pt x="20822" y="13117"/>
                  <a:pt x="20836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84320" y="3438360"/>
            <a:ext cx="4303800" cy="455760"/>
          </a:xfrm>
          <a:custGeom>
            <a:avLst/>
            <a:gdLst/>
            <a:ahLst/>
            <a:rect l="l" t="t" r="r" b="b"/>
            <a:pathLst>
              <a:path w="11957" h="1266">
                <a:moveTo>
                  <a:pt x="8012" y="9649"/>
                </a:moveTo>
                <a:cubicBezTo>
                  <a:pt x="8102" y="9611"/>
                  <a:pt x="8157" y="9562"/>
                  <a:pt x="8260" y="9550"/>
                </a:cubicBezTo>
              </a:path>
              <a:path w="11957" h="1266">
                <a:moveTo>
                  <a:pt x="19596" y="9947"/>
                </a:moveTo>
                <a:cubicBezTo>
                  <a:pt x="19777" y="9895"/>
                  <a:pt x="19843" y="9876"/>
                  <a:pt x="19968" y="9847"/>
                </a:cubicBezTo>
              </a:path>
              <a:path w="11957" h="1266">
                <a:moveTo>
                  <a:pt x="19968" y="9847"/>
                </a:moveTo>
                <a:lnTo>
                  <a:pt x="19968" y="9847"/>
                </a:lnTo>
              </a:path>
              <a:path w="11957" h="1266">
                <a:moveTo>
                  <a:pt x="17487" y="10616"/>
                </a:moveTo>
                <a:cubicBezTo>
                  <a:pt x="17470" y="10719"/>
                  <a:pt x="17459" y="10820"/>
                  <a:pt x="17611" y="10815"/>
                </a:cubicBezTo>
                <a:cubicBezTo>
                  <a:pt x="17700" y="10785"/>
                  <a:pt x="17734" y="10765"/>
                  <a:pt x="17760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9240" y="3170160"/>
            <a:ext cx="652680" cy="490680"/>
          </a:xfrm>
          <a:custGeom>
            <a:avLst/>
            <a:gdLst/>
            <a:ahLst/>
            <a:rect l="l" t="t" r="r" b="b"/>
            <a:pathLst>
              <a:path w="1812" h="1365">
                <a:moveTo>
                  <a:pt x="8111" y="9798"/>
                </a:moveTo>
                <a:cubicBezTo>
                  <a:pt x="8181" y="9758"/>
                  <a:pt x="8265" y="9745"/>
                  <a:pt x="8334" y="9699"/>
                </a:cubicBezTo>
              </a:path>
              <a:path w="1812" h="1365">
                <a:moveTo>
                  <a:pt x="8930" y="9426"/>
                </a:moveTo>
                <a:cubicBezTo>
                  <a:pt x="8972" y="9352"/>
                  <a:pt x="9132" y="9143"/>
                  <a:pt x="9252" y="9252"/>
                </a:cubicBezTo>
                <a:cubicBezTo>
                  <a:pt x="9355" y="9346"/>
                  <a:pt x="9193" y="9547"/>
                  <a:pt x="9153" y="9624"/>
                </a:cubicBezTo>
                <a:cubicBezTo>
                  <a:pt x="9093" y="9535"/>
                  <a:pt x="9267" y="9485"/>
                  <a:pt x="9351" y="9575"/>
                </a:cubicBezTo>
                <a:cubicBezTo>
                  <a:pt x="9474" y="9707"/>
                  <a:pt x="9319" y="9971"/>
                  <a:pt x="9153" y="9971"/>
                </a:cubicBezTo>
                <a:cubicBezTo>
                  <a:pt x="8994" y="9971"/>
                  <a:pt x="9040" y="9926"/>
                  <a:pt x="9079" y="9897"/>
                </a:cubicBezTo>
              </a:path>
              <a:path w="1812" h="1365">
                <a:moveTo>
                  <a:pt x="8384" y="9451"/>
                </a:moveTo>
                <a:cubicBezTo>
                  <a:pt x="8376" y="9443"/>
                  <a:pt x="8367" y="9434"/>
                  <a:pt x="8359" y="9426"/>
                </a:cubicBezTo>
                <a:cubicBezTo>
                  <a:pt x="8427" y="9426"/>
                  <a:pt x="8549" y="9423"/>
                  <a:pt x="8607" y="9401"/>
                </a:cubicBezTo>
                <a:cubicBezTo>
                  <a:pt x="8622" y="9395"/>
                  <a:pt x="8613" y="9343"/>
                  <a:pt x="8632" y="9401"/>
                </a:cubicBezTo>
              </a:path>
              <a:path w="1812" h="1365">
                <a:moveTo>
                  <a:pt x="8533" y="9971"/>
                </a:moveTo>
                <a:cubicBezTo>
                  <a:pt x="8632" y="9990"/>
                  <a:pt x="8729" y="10001"/>
                  <a:pt x="8830" y="10021"/>
                </a:cubicBezTo>
                <a:cubicBezTo>
                  <a:pt x="9018" y="10058"/>
                  <a:pt x="9212" y="10073"/>
                  <a:pt x="9401" y="10046"/>
                </a:cubicBezTo>
                <a:cubicBezTo>
                  <a:pt x="9561" y="10023"/>
                  <a:pt x="9737" y="9969"/>
                  <a:pt x="9823" y="9823"/>
                </a:cubicBezTo>
                <a:cubicBezTo>
                  <a:pt x="9894" y="9703"/>
                  <a:pt x="9962" y="9493"/>
                  <a:pt x="9922" y="9351"/>
                </a:cubicBezTo>
                <a:cubicBezTo>
                  <a:pt x="9881" y="9203"/>
                  <a:pt x="9790" y="9077"/>
                  <a:pt x="9674" y="8979"/>
                </a:cubicBezTo>
                <a:cubicBezTo>
                  <a:pt x="9573" y="8894"/>
                  <a:pt x="9433" y="8823"/>
                  <a:pt x="9302" y="8806"/>
                </a:cubicBezTo>
                <a:cubicBezTo>
                  <a:pt x="9144" y="8786"/>
                  <a:pt x="8961" y="8801"/>
                  <a:pt x="8806" y="8830"/>
                </a:cubicBezTo>
                <a:cubicBezTo>
                  <a:pt x="8673" y="8854"/>
                  <a:pt x="8596" y="8912"/>
                  <a:pt x="8483" y="8979"/>
                </a:cubicBezTo>
                <a:cubicBezTo>
                  <a:pt x="8405" y="9025"/>
                  <a:pt x="8349" y="9089"/>
                  <a:pt x="8285" y="9153"/>
                </a:cubicBezTo>
                <a:cubicBezTo>
                  <a:pt x="8228" y="9210"/>
                  <a:pt x="8210" y="9295"/>
                  <a:pt x="8186" y="9376"/>
                </a:cubicBezTo>
                <a:cubicBezTo>
                  <a:pt x="8169" y="9434"/>
                  <a:pt x="8163" y="9489"/>
                  <a:pt x="8161" y="9550"/>
                </a:cubicBezTo>
                <a:cubicBezTo>
                  <a:pt x="8157" y="9654"/>
                  <a:pt x="8202" y="9749"/>
                  <a:pt x="8235" y="9847"/>
                </a:cubicBezTo>
                <a:cubicBezTo>
                  <a:pt x="8265" y="9937"/>
                  <a:pt x="8330" y="10024"/>
                  <a:pt x="8409" y="10071"/>
                </a:cubicBezTo>
                <a:cubicBezTo>
                  <a:pt x="8461" y="10102"/>
                  <a:pt x="8526" y="10150"/>
                  <a:pt x="8582" y="10170"/>
                </a:cubicBezTo>
                <a:cubicBezTo>
                  <a:pt x="8590" y="10170"/>
                  <a:pt x="8599" y="10170"/>
                  <a:pt x="8607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40280" y="2982960"/>
            <a:ext cx="1036800" cy="625320"/>
          </a:xfrm>
          <a:custGeom>
            <a:avLst/>
            <a:gdLst/>
            <a:ahLst/>
            <a:rect l="l" t="t" r="r" b="b"/>
            <a:pathLst>
              <a:path w="2879" h="1737">
                <a:moveTo>
                  <a:pt x="17785" y="9624"/>
                </a:moveTo>
                <a:cubicBezTo>
                  <a:pt x="17917" y="9624"/>
                  <a:pt x="18050" y="9624"/>
                  <a:pt x="18182" y="9624"/>
                </a:cubicBezTo>
              </a:path>
              <a:path w="2879" h="1737">
                <a:moveTo>
                  <a:pt x="17214" y="9426"/>
                </a:moveTo>
                <a:cubicBezTo>
                  <a:pt x="17163" y="9323"/>
                  <a:pt x="17089" y="9266"/>
                  <a:pt x="16966" y="9277"/>
                </a:cubicBezTo>
                <a:cubicBezTo>
                  <a:pt x="16765" y="9294"/>
                  <a:pt x="16759" y="9499"/>
                  <a:pt x="16768" y="9649"/>
                </a:cubicBezTo>
                <a:cubicBezTo>
                  <a:pt x="16882" y="9672"/>
                  <a:pt x="16964" y="9649"/>
                  <a:pt x="17016" y="9525"/>
                </a:cubicBezTo>
                <a:cubicBezTo>
                  <a:pt x="17035" y="9451"/>
                  <a:pt x="17043" y="9444"/>
                  <a:pt x="17041" y="9401"/>
                </a:cubicBezTo>
                <a:cubicBezTo>
                  <a:pt x="17065" y="9520"/>
                  <a:pt x="17095" y="9673"/>
                  <a:pt x="17090" y="9798"/>
                </a:cubicBezTo>
                <a:cubicBezTo>
                  <a:pt x="17072" y="9889"/>
                  <a:pt x="17064" y="9896"/>
                  <a:pt x="17066" y="9947"/>
                </a:cubicBezTo>
              </a:path>
              <a:path w="2879" h="1737">
                <a:moveTo>
                  <a:pt x="18752" y="9525"/>
                </a:moveTo>
                <a:cubicBezTo>
                  <a:pt x="18832" y="9525"/>
                  <a:pt x="18921" y="9425"/>
                  <a:pt x="19000" y="9475"/>
                </a:cubicBezTo>
                <a:cubicBezTo>
                  <a:pt x="19008" y="9500"/>
                  <a:pt x="19017" y="9525"/>
                  <a:pt x="19025" y="9550"/>
                </a:cubicBezTo>
                <a:cubicBezTo>
                  <a:pt x="19005" y="9635"/>
                  <a:pt x="18976" y="9767"/>
                  <a:pt x="18901" y="9748"/>
                </a:cubicBezTo>
                <a:cubicBezTo>
                  <a:pt x="18990" y="9738"/>
                  <a:pt x="19129" y="9706"/>
                  <a:pt x="19100" y="9872"/>
                </a:cubicBezTo>
                <a:cubicBezTo>
                  <a:pt x="19054" y="10139"/>
                  <a:pt x="18741" y="9978"/>
                  <a:pt x="18628" y="9922"/>
                </a:cubicBezTo>
              </a:path>
              <a:path w="2879" h="1737">
                <a:moveTo>
                  <a:pt x="16321" y="8359"/>
                </a:moveTo>
                <a:cubicBezTo>
                  <a:pt x="16321" y="8612"/>
                  <a:pt x="16256" y="8832"/>
                  <a:pt x="16222" y="9079"/>
                </a:cubicBezTo>
                <a:cubicBezTo>
                  <a:pt x="16222" y="9112"/>
                  <a:pt x="16222" y="9145"/>
                  <a:pt x="16222" y="9178"/>
                </a:cubicBezTo>
              </a:path>
              <a:path w="2879" h="1737">
                <a:moveTo>
                  <a:pt x="17140" y="8359"/>
                </a:moveTo>
                <a:cubicBezTo>
                  <a:pt x="17095" y="8623"/>
                  <a:pt x="17014" y="8908"/>
                  <a:pt x="17066" y="9153"/>
                </a:cubicBezTo>
              </a:path>
              <a:path w="2879" h="1737">
                <a:moveTo>
                  <a:pt x="18926" y="8285"/>
                </a:moveTo>
                <a:cubicBezTo>
                  <a:pt x="18894" y="8615"/>
                  <a:pt x="18827" y="8971"/>
                  <a:pt x="18827" y="9302"/>
                </a:cubicBezTo>
                <a:cubicBezTo>
                  <a:pt x="18835" y="9310"/>
                  <a:pt x="18844" y="9319"/>
                  <a:pt x="18852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6960" y="3017880"/>
            <a:ext cx="9360" cy="277920"/>
          </a:xfrm>
          <a:custGeom>
            <a:avLst/>
            <a:gdLst/>
            <a:ahLst/>
            <a:rect l="l" t="t" r="r" b="b"/>
            <a:pathLst>
              <a:path w="26" h="770">
                <a:moveTo>
                  <a:pt x="20712" y="8384"/>
                </a:moveTo>
                <a:cubicBezTo>
                  <a:pt x="20712" y="8618"/>
                  <a:pt x="20704" y="8847"/>
                  <a:pt x="20687" y="9079"/>
                </a:cubicBezTo>
                <a:cubicBezTo>
                  <a:pt x="20687" y="9104"/>
                  <a:pt x="20687" y="9128"/>
                  <a:pt x="20687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12920" y="2616120"/>
            <a:ext cx="1635120" cy="973080"/>
          </a:xfrm>
          <a:custGeom>
            <a:avLst/>
            <a:gdLst/>
            <a:ahLst/>
            <a:rect l="l" t="t" r="r" b="b"/>
            <a:pathLst>
              <a:path w="4541" h="2704">
                <a:moveTo>
                  <a:pt x="6251" y="9575"/>
                </a:moveTo>
                <a:cubicBezTo>
                  <a:pt x="6385" y="9575"/>
                  <a:pt x="6543" y="9559"/>
                  <a:pt x="6672" y="9525"/>
                </a:cubicBezTo>
                <a:cubicBezTo>
                  <a:pt x="6762" y="9489"/>
                  <a:pt x="6767" y="9472"/>
                  <a:pt x="6821" y="9475"/>
                </a:cubicBezTo>
              </a:path>
              <a:path w="4541" h="2704">
                <a:moveTo>
                  <a:pt x="3646" y="8409"/>
                </a:moveTo>
                <a:cubicBezTo>
                  <a:pt x="3646" y="8660"/>
                  <a:pt x="3653" y="8903"/>
                  <a:pt x="3646" y="9153"/>
                </a:cubicBezTo>
                <a:cubicBezTo>
                  <a:pt x="3646" y="9261"/>
                  <a:pt x="3646" y="9269"/>
                  <a:pt x="3646" y="9327"/>
                </a:cubicBezTo>
              </a:path>
              <a:path w="4541" h="2704">
                <a:moveTo>
                  <a:pt x="5556" y="8235"/>
                </a:moveTo>
                <a:cubicBezTo>
                  <a:pt x="5556" y="8082"/>
                  <a:pt x="5622" y="8480"/>
                  <a:pt x="5631" y="8632"/>
                </a:cubicBezTo>
                <a:cubicBezTo>
                  <a:pt x="5639" y="8775"/>
                  <a:pt x="5655" y="8935"/>
                  <a:pt x="5655" y="9079"/>
                </a:cubicBezTo>
              </a:path>
              <a:path w="4541" h="2704">
                <a:moveTo>
                  <a:pt x="4415" y="7466"/>
                </a:moveTo>
                <a:cubicBezTo>
                  <a:pt x="4415" y="7673"/>
                  <a:pt x="4415" y="7879"/>
                  <a:pt x="4415" y="8086"/>
                </a:cubicBezTo>
              </a:path>
              <a:path w="4541" h="2704">
                <a:moveTo>
                  <a:pt x="4812" y="7516"/>
                </a:moveTo>
                <a:cubicBezTo>
                  <a:pt x="4767" y="7634"/>
                  <a:pt x="4781" y="7781"/>
                  <a:pt x="4862" y="7888"/>
                </a:cubicBezTo>
                <a:cubicBezTo>
                  <a:pt x="4887" y="7905"/>
                  <a:pt x="4911" y="7921"/>
                  <a:pt x="4936" y="7938"/>
                </a:cubicBezTo>
                <a:cubicBezTo>
                  <a:pt x="5040" y="7807"/>
                  <a:pt x="5080" y="7705"/>
                  <a:pt x="4911" y="7590"/>
                </a:cubicBezTo>
                <a:cubicBezTo>
                  <a:pt x="4845" y="7545"/>
                  <a:pt x="4724" y="7544"/>
                  <a:pt x="4688" y="7516"/>
                </a:cubicBezTo>
              </a:path>
              <a:path w="4541" h="2704">
                <a:moveTo>
                  <a:pt x="7045" y="8086"/>
                </a:moveTo>
                <a:cubicBezTo>
                  <a:pt x="7045" y="8313"/>
                  <a:pt x="7076" y="8531"/>
                  <a:pt x="7094" y="8756"/>
                </a:cubicBezTo>
                <a:cubicBezTo>
                  <a:pt x="7094" y="8814"/>
                  <a:pt x="7094" y="8822"/>
                  <a:pt x="7094" y="8855"/>
                </a:cubicBezTo>
              </a:path>
              <a:path w="4541" h="2704">
                <a:moveTo>
                  <a:pt x="8136" y="8210"/>
                </a:moveTo>
                <a:cubicBezTo>
                  <a:pt x="8157" y="8464"/>
                  <a:pt x="8218" y="8720"/>
                  <a:pt x="8186" y="8979"/>
                </a:cubicBezTo>
                <a:cubicBezTo>
                  <a:pt x="8178" y="8996"/>
                  <a:pt x="8169" y="9012"/>
                  <a:pt x="8161" y="9029"/>
                </a:cubicBezTo>
              </a:path>
              <a:path w="4541" h="2704">
                <a:moveTo>
                  <a:pt x="7392" y="7392"/>
                </a:moveTo>
                <a:cubicBezTo>
                  <a:pt x="7515" y="7335"/>
                  <a:pt x="7635" y="7305"/>
                  <a:pt x="7764" y="7268"/>
                </a:cubicBezTo>
                <a:cubicBezTo>
                  <a:pt x="7764" y="7419"/>
                  <a:pt x="7772" y="7565"/>
                  <a:pt x="7739" y="7714"/>
                </a:cubicBezTo>
                <a:cubicBezTo>
                  <a:pt x="7731" y="7739"/>
                  <a:pt x="7722" y="7764"/>
                  <a:pt x="7714" y="7789"/>
                </a:cubicBezTo>
              </a:path>
              <a:path w="4541" h="2704">
                <a:moveTo>
                  <a:pt x="5110" y="9426"/>
                </a:moveTo>
                <a:cubicBezTo>
                  <a:pt x="5146" y="9574"/>
                  <a:pt x="5213" y="9717"/>
                  <a:pt x="5234" y="9872"/>
                </a:cubicBezTo>
                <a:cubicBezTo>
                  <a:pt x="5234" y="9930"/>
                  <a:pt x="5234" y="9972"/>
                  <a:pt x="5234" y="9922"/>
                </a:cubicBezTo>
              </a:path>
              <a:path w="4541" h="2704">
                <a:moveTo>
                  <a:pt x="5482" y="9426"/>
                </a:moveTo>
                <a:cubicBezTo>
                  <a:pt x="5429" y="9646"/>
                  <a:pt x="5392" y="9757"/>
                  <a:pt x="5556" y="9922"/>
                </a:cubicBezTo>
                <a:cubicBezTo>
                  <a:pt x="5676" y="9802"/>
                  <a:pt x="5807" y="9573"/>
                  <a:pt x="5606" y="9426"/>
                </a:cubicBezTo>
                <a:cubicBezTo>
                  <a:pt x="5503" y="9426"/>
                  <a:pt x="5466" y="9428"/>
                  <a:pt x="5407" y="9475"/>
                </a:cubicBezTo>
              </a:path>
              <a:path w="4541" h="2704">
                <a:moveTo>
                  <a:pt x="7094" y="9401"/>
                </a:moveTo>
                <a:cubicBezTo>
                  <a:pt x="7213" y="9425"/>
                  <a:pt x="7275" y="9403"/>
                  <a:pt x="7392" y="9351"/>
                </a:cubicBezTo>
                <a:cubicBezTo>
                  <a:pt x="7408" y="9343"/>
                  <a:pt x="7425" y="9335"/>
                  <a:pt x="7441" y="9327"/>
                </a:cubicBezTo>
                <a:cubicBezTo>
                  <a:pt x="7465" y="9518"/>
                  <a:pt x="7452" y="9680"/>
                  <a:pt x="7441" y="9872"/>
                </a:cubicBezTo>
                <a:cubicBezTo>
                  <a:pt x="7441" y="9905"/>
                  <a:pt x="7441" y="9938"/>
                  <a:pt x="7441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52880" y="1724040"/>
            <a:ext cx="722160" cy="660240"/>
          </a:xfrm>
          <a:custGeom>
            <a:avLst/>
            <a:gdLst/>
            <a:ahLst/>
            <a:rect l="l" t="t" r="r" b="b"/>
            <a:pathLst>
              <a:path w="2010" h="1837">
                <a:moveTo>
                  <a:pt x="8756" y="5755"/>
                </a:moveTo>
                <a:cubicBezTo>
                  <a:pt x="8768" y="5719"/>
                  <a:pt x="8909" y="5670"/>
                  <a:pt x="8954" y="5655"/>
                </a:cubicBezTo>
                <a:cubicBezTo>
                  <a:pt x="9018" y="5633"/>
                  <a:pt x="9046" y="5631"/>
                  <a:pt x="9103" y="5631"/>
                </a:cubicBezTo>
              </a:path>
              <a:path w="2010" h="1837">
                <a:moveTo>
                  <a:pt x="8806" y="6003"/>
                </a:moveTo>
                <a:cubicBezTo>
                  <a:pt x="8901" y="5979"/>
                  <a:pt x="9006" y="5937"/>
                  <a:pt x="9103" y="5928"/>
                </a:cubicBezTo>
                <a:cubicBezTo>
                  <a:pt x="9111" y="5928"/>
                  <a:pt x="9120" y="5928"/>
                  <a:pt x="9128" y="5928"/>
                </a:cubicBezTo>
              </a:path>
              <a:path w="2010" h="1837">
                <a:moveTo>
                  <a:pt x="9649" y="5234"/>
                </a:moveTo>
                <a:cubicBezTo>
                  <a:pt x="9626" y="5350"/>
                  <a:pt x="9573" y="5460"/>
                  <a:pt x="9550" y="5581"/>
                </a:cubicBezTo>
                <a:cubicBezTo>
                  <a:pt x="9520" y="5739"/>
                  <a:pt x="9525" y="5892"/>
                  <a:pt x="9525" y="6052"/>
                </a:cubicBezTo>
                <a:cubicBezTo>
                  <a:pt x="9525" y="6125"/>
                  <a:pt x="9591" y="6201"/>
                  <a:pt x="9674" y="6201"/>
                </a:cubicBezTo>
                <a:cubicBezTo>
                  <a:pt x="9763" y="6201"/>
                  <a:pt x="9898" y="6152"/>
                  <a:pt x="9971" y="6102"/>
                </a:cubicBezTo>
                <a:cubicBezTo>
                  <a:pt x="10027" y="6064"/>
                  <a:pt x="10084" y="5996"/>
                  <a:pt x="10096" y="5928"/>
                </a:cubicBezTo>
                <a:cubicBezTo>
                  <a:pt x="10110" y="5850"/>
                  <a:pt x="10097" y="5846"/>
                  <a:pt x="10046" y="5804"/>
                </a:cubicBezTo>
                <a:cubicBezTo>
                  <a:pt x="10001" y="5767"/>
                  <a:pt x="9965" y="5730"/>
                  <a:pt x="9897" y="5755"/>
                </a:cubicBezTo>
                <a:cubicBezTo>
                  <a:pt x="9854" y="5771"/>
                  <a:pt x="9786" y="5864"/>
                  <a:pt x="9773" y="5904"/>
                </a:cubicBezTo>
                <a:cubicBezTo>
                  <a:pt x="9759" y="5945"/>
                  <a:pt x="9732" y="6005"/>
                  <a:pt x="9748" y="6052"/>
                </a:cubicBezTo>
                <a:cubicBezTo>
                  <a:pt x="9761" y="6091"/>
                  <a:pt x="9793" y="6164"/>
                  <a:pt x="9798" y="6176"/>
                </a:cubicBezTo>
                <a:cubicBezTo>
                  <a:pt x="9798" y="6184"/>
                  <a:pt x="9798" y="6193"/>
                  <a:pt x="9798" y="6201"/>
                </a:cubicBezTo>
              </a:path>
              <a:path w="2010" h="1837">
                <a:moveTo>
                  <a:pt x="9079" y="5308"/>
                </a:moveTo>
                <a:cubicBezTo>
                  <a:pt x="9160" y="5291"/>
                  <a:pt x="9243" y="5253"/>
                  <a:pt x="9327" y="5234"/>
                </a:cubicBezTo>
                <a:cubicBezTo>
                  <a:pt x="9335" y="5234"/>
                  <a:pt x="9343" y="5234"/>
                  <a:pt x="9351" y="5234"/>
                </a:cubicBezTo>
              </a:path>
              <a:path w="2010" h="1837">
                <a:moveTo>
                  <a:pt x="9302" y="6573"/>
                </a:moveTo>
                <a:cubicBezTo>
                  <a:pt x="9432" y="6626"/>
                  <a:pt x="9586" y="6651"/>
                  <a:pt x="9748" y="6623"/>
                </a:cubicBezTo>
                <a:cubicBezTo>
                  <a:pt x="10010" y="6578"/>
                  <a:pt x="10468" y="6448"/>
                  <a:pt x="10641" y="6226"/>
                </a:cubicBezTo>
                <a:cubicBezTo>
                  <a:pt x="10807" y="6013"/>
                  <a:pt x="10813" y="5612"/>
                  <a:pt x="10691" y="5383"/>
                </a:cubicBezTo>
                <a:cubicBezTo>
                  <a:pt x="10560" y="5138"/>
                  <a:pt x="10321" y="4942"/>
                  <a:pt x="10071" y="4837"/>
                </a:cubicBezTo>
                <a:cubicBezTo>
                  <a:pt x="9922" y="4774"/>
                  <a:pt x="9730" y="4757"/>
                  <a:pt x="9575" y="4812"/>
                </a:cubicBezTo>
                <a:cubicBezTo>
                  <a:pt x="9474" y="4848"/>
                  <a:pt x="9342" y="4905"/>
                  <a:pt x="9252" y="4961"/>
                </a:cubicBezTo>
                <a:cubicBezTo>
                  <a:pt x="9134" y="5034"/>
                  <a:pt x="9011" y="5144"/>
                  <a:pt x="8905" y="5234"/>
                </a:cubicBezTo>
                <a:cubicBezTo>
                  <a:pt x="8800" y="5324"/>
                  <a:pt x="8753" y="5467"/>
                  <a:pt x="8756" y="5606"/>
                </a:cubicBezTo>
                <a:cubicBezTo>
                  <a:pt x="8760" y="5823"/>
                  <a:pt x="8821" y="6054"/>
                  <a:pt x="8954" y="6226"/>
                </a:cubicBezTo>
                <a:cubicBezTo>
                  <a:pt x="9059" y="6361"/>
                  <a:pt x="9182" y="6380"/>
                  <a:pt x="9327" y="6424"/>
                </a:cubicBezTo>
                <a:cubicBezTo>
                  <a:pt x="9404" y="6447"/>
                  <a:pt x="9395" y="6527"/>
                  <a:pt x="9401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9000" y="2455920"/>
            <a:ext cx="133200" cy="270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19273" y="6896"/>
                </a:moveTo>
                <a:cubicBezTo>
                  <a:pt x="19376" y="6859"/>
                  <a:pt x="19501" y="6837"/>
                  <a:pt x="19596" y="6821"/>
                </a:cubicBezTo>
                <a:cubicBezTo>
                  <a:pt x="19612" y="6821"/>
                  <a:pt x="19629" y="6821"/>
                  <a:pt x="19645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87840" y="3911760"/>
            <a:ext cx="903240" cy="625320"/>
          </a:xfrm>
          <a:custGeom>
            <a:avLst/>
            <a:gdLst/>
            <a:ahLst/>
            <a:rect l="l" t="t" r="r" b="b"/>
            <a:pathLst>
              <a:path w="2507" h="1738">
                <a:moveTo>
                  <a:pt x="10244" y="11857"/>
                </a:moveTo>
                <a:cubicBezTo>
                  <a:pt x="10301" y="11815"/>
                  <a:pt x="10395" y="11794"/>
                  <a:pt x="10468" y="11782"/>
                </a:cubicBezTo>
                <a:cubicBezTo>
                  <a:pt x="10484" y="11782"/>
                  <a:pt x="10501" y="11782"/>
                  <a:pt x="10517" y="11782"/>
                </a:cubicBezTo>
              </a:path>
              <a:path w="2507" h="1738">
                <a:moveTo>
                  <a:pt x="10344" y="12030"/>
                </a:moveTo>
                <a:cubicBezTo>
                  <a:pt x="10433" y="12017"/>
                  <a:pt x="10515" y="11982"/>
                  <a:pt x="10592" y="11956"/>
                </a:cubicBezTo>
                <a:cubicBezTo>
                  <a:pt x="10616" y="11956"/>
                  <a:pt x="10624" y="11956"/>
                  <a:pt x="10616" y="11981"/>
                </a:cubicBezTo>
              </a:path>
              <a:path w="2507" h="1738">
                <a:moveTo>
                  <a:pt x="11038" y="11683"/>
                </a:moveTo>
                <a:cubicBezTo>
                  <a:pt x="10993" y="11683"/>
                  <a:pt x="11078" y="11613"/>
                  <a:pt x="11088" y="11609"/>
                </a:cubicBezTo>
                <a:cubicBezTo>
                  <a:pt x="11104" y="11609"/>
                  <a:pt x="11121" y="11609"/>
                  <a:pt x="11137" y="11609"/>
                </a:cubicBezTo>
                <a:cubicBezTo>
                  <a:pt x="11252" y="11767"/>
                  <a:pt x="11182" y="11894"/>
                  <a:pt x="11088" y="12055"/>
                </a:cubicBezTo>
                <a:cubicBezTo>
                  <a:pt x="11031" y="12130"/>
                  <a:pt x="11027" y="12142"/>
                  <a:pt x="10988" y="12179"/>
                </a:cubicBezTo>
                <a:cubicBezTo>
                  <a:pt x="11112" y="12158"/>
                  <a:pt x="11219" y="12096"/>
                  <a:pt x="11336" y="12055"/>
                </a:cubicBezTo>
                <a:cubicBezTo>
                  <a:pt x="11361" y="12055"/>
                  <a:pt x="11369" y="12055"/>
                  <a:pt x="11385" y="12055"/>
                </a:cubicBezTo>
              </a:path>
              <a:path w="2507" h="1738">
                <a:moveTo>
                  <a:pt x="11708" y="11584"/>
                </a:moveTo>
                <a:cubicBezTo>
                  <a:pt x="11595" y="11555"/>
                  <a:pt x="11559" y="11617"/>
                  <a:pt x="11485" y="11708"/>
                </a:cubicBezTo>
                <a:cubicBezTo>
                  <a:pt x="11526" y="11812"/>
                  <a:pt x="11652" y="11826"/>
                  <a:pt x="11733" y="11906"/>
                </a:cubicBezTo>
                <a:cubicBezTo>
                  <a:pt x="11837" y="12009"/>
                  <a:pt x="11823" y="12218"/>
                  <a:pt x="11633" y="12179"/>
                </a:cubicBezTo>
                <a:cubicBezTo>
                  <a:pt x="11625" y="12171"/>
                  <a:pt x="11617" y="12162"/>
                  <a:pt x="11609" y="12154"/>
                </a:cubicBezTo>
                <a:cubicBezTo>
                  <a:pt x="11627" y="12009"/>
                  <a:pt x="11682" y="11874"/>
                  <a:pt x="11733" y="11733"/>
                </a:cubicBezTo>
                <a:cubicBezTo>
                  <a:pt x="11762" y="11653"/>
                  <a:pt x="11770" y="11658"/>
                  <a:pt x="11683" y="11658"/>
                </a:cubicBezTo>
              </a:path>
              <a:path w="2507" h="1738">
                <a:moveTo>
                  <a:pt x="10691" y="11485"/>
                </a:moveTo>
                <a:cubicBezTo>
                  <a:pt x="10704" y="11447"/>
                  <a:pt x="10788" y="11446"/>
                  <a:pt x="10840" y="11435"/>
                </a:cubicBezTo>
                <a:cubicBezTo>
                  <a:pt x="10982" y="11405"/>
                  <a:pt x="10951" y="11389"/>
                  <a:pt x="11013" y="11410"/>
                </a:cubicBezTo>
              </a:path>
              <a:path w="2507" h="1738">
                <a:moveTo>
                  <a:pt x="10691" y="12427"/>
                </a:moveTo>
                <a:cubicBezTo>
                  <a:pt x="10736" y="12448"/>
                  <a:pt x="10777" y="12464"/>
                  <a:pt x="10864" y="12477"/>
                </a:cubicBezTo>
                <a:cubicBezTo>
                  <a:pt x="11050" y="12505"/>
                  <a:pt x="11249" y="12601"/>
                  <a:pt x="11435" y="12601"/>
                </a:cubicBezTo>
                <a:cubicBezTo>
                  <a:pt x="11669" y="12601"/>
                  <a:pt x="11974" y="12564"/>
                  <a:pt x="12204" y="12526"/>
                </a:cubicBezTo>
                <a:cubicBezTo>
                  <a:pt x="12359" y="12500"/>
                  <a:pt x="12586" y="12434"/>
                  <a:pt x="12675" y="12303"/>
                </a:cubicBezTo>
                <a:cubicBezTo>
                  <a:pt x="12759" y="12179"/>
                  <a:pt x="12785" y="11951"/>
                  <a:pt x="12750" y="11807"/>
                </a:cubicBezTo>
                <a:cubicBezTo>
                  <a:pt x="12706" y="11630"/>
                  <a:pt x="12530" y="11454"/>
                  <a:pt x="12402" y="11336"/>
                </a:cubicBezTo>
                <a:cubicBezTo>
                  <a:pt x="12190" y="11140"/>
                  <a:pt x="11974" y="11061"/>
                  <a:pt x="11708" y="10964"/>
                </a:cubicBezTo>
                <a:cubicBezTo>
                  <a:pt x="11556" y="10909"/>
                  <a:pt x="11376" y="10857"/>
                  <a:pt x="11212" y="10864"/>
                </a:cubicBezTo>
                <a:cubicBezTo>
                  <a:pt x="11045" y="10871"/>
                  <a:pt x="10808" y="10919"/>
                  <a:pt x="10666" y="11013"/>
                </a:cubicBezTo>
                <a:cubicBezTo>
                  <a:pt x="10553" y="11088"/>
                  <a:pt x="10523" y="11215"/>
                  <a:pt x="10492" y="11336"/>
                </a:cubicBezTo>
                <a:cubicBezTo>
                  <a:pt x="10457" y="11475"/>
                  <a:pt x="10468" y="11614"/>
                  <a:pt x="10468" y="11757"/>
                </a:cubicBezTo>
                <a:cubicBezTo>
                  <a:pt x="10468" y="11877"/>
                  <a:pt x="10477" y="12048"/>
                  <a:pt x="10542" y="12154"/>
                </a:cubicBezTo>
                <a:cubicBezTo>
                  <a:pt x="10562" y="12187"/>
                  <a:pt x="10618" y="12279"/>
                  <a:pt x="10641" y="12303"/>
                </a:cubicBezTo>
                <a:cubicBezTo>
                  <a:pt x="10654" y="12316"/>
                  <a:pt x="10677" y="12316"/>
                  <a:pt x="10691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724280"/>
            <a:ext cx="598320" cy="1106640"/>
          </a:xfrm>
          <a:custGeom>
            <a:avLst/>
            <a:gdLst/>
            <a:ahLst/>
            <a:rect l="l" t="t" r="r" b="b"/>
            <a:pathLst>
              <a:path w="1663" h="3076">
                <a:moveTo>
                  <a:pt x="3621" y="14213"/>
                </a:moveTo>
                <a:cubicBezTo>
                  <a:pt x="3621" y="14056"/>
                  <a:pt x="3633" y="14478"/>
                  <a:pt x="3621" y="14635"/>
                </a:cubicBezTo>
                <a:cubicBezTo>
                  <a:pt x="3597" y="14936"/>
                  <a:pt x="3527" y="15229"/>
                  <a:pt x="3497" y="15528"/>
                </a:cubicBezTo>
              </a:path>
              <a:path w="1663" h="3076">
                <a:moveTo>
                  <a:pt x="5159" y="14263"/>
                </a:moveTo>
                <a:cubicBezTo>
                  <a:pt x="5142" y="14527"/>
                  <a:pt x="5116" y="14793"/>
                  <a:pt x="5085" y="15056"/>
                </a:cubicBezTo>
                <a:cubicBezTo>
                  <a:pt x="5073" y="15157"/>
                  <a:pt x="5051" y="15235"/>
                  <a:pt x="5035" y="15329"/>
                </a:cubicBezTo>
              </a:path>
              <a:path w="1663" h="3076">
                <a:moveTo>
                  <a:pt x="4415" y="13171"/>
                </a:moveTo>
                <a:cubicBezTo>
                  <a:pt x="4384" y="13406"/>
                  <a:pt x="4312" y="13634"/>
                  <a:pt x="4266" y="13866"/>
                </a:cubicBezTo>
                <a:cubicBezTo>
                  <a:pt x="4266" y="13882"/>
                  <a:pt x="4266" y="13899"/>
                  <a:pt x="4266" y="13915"/>
                </a:cubicBezTo>
              </a:path>
              <a:path w="1663" h="3076">
                <a:moveTo>
                  <a:pt x="4936" y="13122"/>
                </a:moveTo>
                <a:cubicBezTo>
                  <a:pt x="4886" y="13205"/>
                  <a:pt x="4754" y="13336"/>
                  <a:pt x="4787" y="13444"/>
                </a:cubicBezTo>
                <a:cubicBezTo>
                  <a:pt x="4850" y="13647"/>
                  <a:pt x="4950" y="13572"/>
                  <a:pt x="4887" y="13816"/>
                </a:cubicBezTo>
                <a:cubicBezTo>
                  <a:pt x="4685" y="13856"/>
                  <a:pt x="4825" y="13565"/>
                  <a:pt x="4862" y="13444"/>
                </a:cubicBezTo>
                <a:cubicBezTo>
                  <a:pt x="4921" y="13287"/>
                  <a:pt x="4931" y="13263"/>
                  <a:pt x="4961" y="13171"/>
                </a:cubicBezTo>
              </a:path>
              <a:path w="1663" h="3076">
                <a:moveTo>
                  <a:pt x="4415" y="15677"/>
                </a:moveTo>
                <a:cubicBezTo>
                  <a:pt x="4415" y="15816"/>
                  <a:pt x="4390" y="15943"/>
                  <a:pt x="4341" y="16073"/>
                </a:cubicBezTo>
                <a:cubicBezTo>
                  <a:pt x="4337" y="16083"/>
                  <a:pt x="4195" y="16361"/>
                  <a:pt x="4316" y="16098"/>
                </a:cubicBezTo>
              </a:path>
              <a:path w="1663" h="3076">
                <a:moveTo>
                  <a:pt x="5060" y="15751"/>
                </a:moveTo>
                <a:cubicBezTo>
                  <a:pt x="4959" y="15768"/>
                  <a:pt x="4792" y="15795"/>
                  <a:pt x="4713" y="15875"/>
                </a:cubicBezTo>
                <a:cubicBezTo>
                  <a:pt x="4713" y="15883"/>
                  <a:pt x="4713" y="15892"/>
                  <a:pt x="4713" y="15900"/>
                </a:cubicBezTo>
                <a:cubicBezTo>
                  <a:pt x="4794" y="15925"/>
                  <a:pt x="5072" y="15988"/>
                  <a:pt x="4911" y="16123"/>
                </a:cubicBezTo>
                <a:cubicBezTo>
                  <a:pt x="4822" y="16168"/>
                  <a:pt x="4799" y="16188"/>
                  <a:pt x="4738" y="16148"/>
                </a:cubicBezTo>
                <a:cubicBezTo>
                  <a:pt x="4752" y="15965"/>
                  <a:pt x="4805" y="15900"/>
                  <a:pt x="4936" y="15776"/>
                </a:cubicBezTo>
                <a:cubicBezTo>
                  <a:pt x="4959" y="15753"/>
                  <a:pt x="4967" y="15749"/>
                  <a:pt x="4961" y="157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27160" y="4724280"/>
            <a:ext cx="1455840" cy="1419480"/>
          </a:xfrm>
          <a:custGeom>
            <a:avLst/>
            <a:gdLst/>
            <a:ahLst/>
            <a:rect l="l" t="t" r="r" b="b"/>
            <a:pathLst>
              <a:path w="4044" h="3945">
                <a:moveTo>
                  <a:pt x="5631" y="16049"/>
                </a:moveTo>
                <a:cubicBezTo>
                  <a:pt x="5687" y="15992"/>
                  <a:pt x="5881" y="16034"/>
                  <a:pt x="5978" y="16024"/>
                </a:cubicBezTo>
                <a:cubicBezTo>
                  <a:pt x="6019" y="16016"/>
                  <a:pt x="6061" y="16007"/>
                  <a:pt x="6102" y="15999"/>
                </a:cubicBezTo>
              </a:path>
              <a:path w="4044" h="3945">
                <a:moveTo>
                  <a:pt x="6796" y="14213"/>
                </a:moveTo>
                <a:cubicBezTo>
                  <a:pt x="6770" y="14514"/>
                  <a:pt x="6715" y="14837"/>
                  <a:pt x="6648" y="15131"/>
                </a:cubicBezTo>
                <a:cubicBezTo>
                  <a:pt x="6617" y="15268"/>
                  <a:pt x="6456" y="15556"/>
                  <a:pt x="6573" y="15478"/>
                </a:cubicBezTo>
              </a:path>
              <a:path w="4044" h="3945">
                <a:moveTo>
                  <a:pt x="9674" y="14387"/>
                </a:moveTo>
                <a:cubicBezTo>
                  <a:pt x="9650" y="14667"/>
                  <a:pt x="9615" y="14956"/>
                  <a:pt x="9550" y="15230"/>
                </a:cubicBezTo>
                <a:cubicBezTo>
                  <a:pt x="9537" y="15284"/>
                  <a:pt x="9509" y="15406"/>
                  <a:pt x="9475" y="15429"/>
                </a:cubicBezTo>
              </a:path>
              <a:path w="4044" h="3945">
                <a:moveTo>
                  <a:pt x="7838" y="13271"/>
                </a:moveTo>
                <a:cubicBezTo>
                  <a:pt x="7812" y="13405"/>
                  <a:pt x="7808" y="13696"/>
                  <a:pt x="7714" y="13791"/>
                </a:cubicBezTo>
                <a:cubicBezTo>
                  <a:pt x="7714" y="13783"/>
                  <a:pt x="7714" y="13775"/>
                  <a:pt x="7714" y="13767"/>
                </a:cubicBezTo>
              </a:path>
              <a:path w="4044" h="3945">
                <a:moveTo>
                  <a:pt x="8086" y="13196"/>
                </a:moveTo>
                <a:cubicBezTo>
                  <a:pt x="8205" y="13144"/>
                  <a:pt x="8236" y="13128"/>
                  <a:pt x="8359" y="13146"/>
                </a:cubicBezTo>
                <a:cubicBezTo>
                  <a:pt x="8330" y="13310"/>
                  <a:pt x="8272" y="13336"/>
                  <a:pt x="8186" y="13444"/>
                </a:cubicBezTo>
                <a:cubicBezTo>
                  <a:pt x="8256" y="13356"/>
                  <a:pt x="8405" y="13330"/>
                  <a:pt x="8434" y="13494"/>
                </a:cubicBezTo>
                <a:cubicBezTo>
                  <a:pt x="8472" y="13705"/>
                  <a:pt x="8137" y="13677"/>
                  <a:pt x="8037" y="13667"/>
                </a:cubicBezTo>
              </a:path>
              <a:path w="4044" h="3945">
                <a:moveTo>
                  <a:pt x="6623" y="15925"/>
                </a:moveTo>
                <a:cubicBezTo>
                  <a:pt x="6623" y="16066"/>
                  <a:pt x="6604" y="16208"/>
                  <a:pt x="6573" y="16346"/>
                </a:cubicBezTo>
                <a:cubicBezTo>
                  <a:pt x="6565" y="16371"/>
                  <a:pt x="6556" y="16396"/>
                  <a:pt x="6548" y="16421"/>
                </a:cubicBezTo>
              </a:path>
              <a:path w="4044" h="3945">
                <a:moveTo>
                  <a:pt x="6921" y="15974"/>
                </a:moveTo>
                <a:cubicBezTo>
                  <a:pt x="6937" y="15974"/>
                  <a:pt x="7163" y="15959"/>
                  <a:pt x="7094" y="16049"/>
                </a:cubicBezTo>
                <a:cubicBezTo>
                  <a:pt x="7020" y="16098"/>
                  <a:pt x="6995" y="16115"/>
                  <a:pt x="6945" y="16148"/>
                </a:cubicBezTo>
                <a:cubicBezTo>
                  <a:pt x="7010" y="16135"/>
                  <a:pt x="7160" y="16087"/>
                  <a:pt x="7144" y="16222"/>
                </a:cubicBezTo>
                <a:cubicBezTo>
                  <a:pt x="7132" y="16323"/>
                  <a:pt x="6824" y="16435"/>
                  <a:pt x="6821" y="16396"/>
                </a:cubicBezTo>
                <a:cubicBezTo>
                  <a:pt x="6838" y="16371"/>
                  <a:pt x="6854" y="16346"/>
                  <a:pt x="6871" y="16321"/>
                </a:cubicBezTo>
              </a:path>
              <a:path w="4044" h="3945">
                <a:moveTo>
                  <a:pt x="7541" y="15999"/>
                </a:moveTo>
                <a:cubicBezTo>
                  <a:pt x="7614" y="16004"/>
                  <a:pt x="7731" y="16000"/>
                  <a:pt x="7764" y="16049"/>
                </a:cubicBezTo>
              </a:path>
              <a:path w="4044" h="3945">
                <a:moveTo>
                  <a:pt x="7491" y="16297"/>
                </a:moveTo>
                <a:cubicBezTo>
                  <a:pt x="7595" y="16278"/>
                  <a:pt x="7688" y="16238"/>
                  <a:pt x="7789" y="16197"/>
                </a:cubicBezTo>
              </a:path>
              <a:path w="4044" h="3945">
                <a:moveTo>
                  <a:pt x="8607" y="15974"/>
                </a:moveTo>
                <a:cubicBezTo>
                  <a:pt x="8607" y="16052"/>
                  <a:pt x="8579" y="16099"/>
                  <a:pt x="8558" y="16173"/>
                </a:cubicBezTo>
                <a:cubicBezTo>
                  <a:pt x="8683" y="16197"/>
                  <a:pt x="8919" y="16184"/>
                  <a:pt x="8880" y="16371"/>
                </a:cubicBezTo>
                <a:cubicBezTo>
                  <a:pt x="8863" y="16453"/>
                  <a:pt x="8718" y="16604"/>
                  <a:pt x="8632" y="16495"/>
                </a:cubicBezTo>
                <a:cubicBezTo>
                  <a:pt x="8624" y="16470"/>
                  <a:pt x="8615" y="16446"/>
                  <a:pt x="8607" y="16421"/>
                </a:cubicBezTo>
              </a:path>
              <a:path w="4044" h="3945">
                <a:moveTo>
                  <a:pt x="8731" y="16049"/>
                </a:moveTo>
                <a:cubicBezTo>
                  <a:pt x="8848" y="15983"/>
                  <a:pt x="8848" y="15974"/>
                  <a:pt x="8979" y="15974"/>
                </a:cubicBezTo>
              </a:path>
              <a:path w="4044" h="3945">
                <a:moveTo>
                  <a:pt x="8086" y="16867"/>
                </a:moveTo>
                <a:cubicBezTo>
                  <a:pt x="8192" y="16949"/>
                  <a:pt x="8300" y="16986"/>
                  <a:pt x="8434" y="17016"/>
                </a:cubicBezTo>
                <a:cubicBezTo>
                  <a:pt x="8623" y="17059"/>
                  <a:pt x="8764" y="17057"/>
                  <a:pt x="8954" y="17041"/>
                </a:cubicBezTo>
                <a:cubicBezTo>
                  <a:pt x="9092" y="17029"/>
                  <a:pt x="9162" y="16994"/>
                  <a:pt x="9277" y="16917"/>
                </a:cubicBezTo>
                <a:cubicBezTo>
                  <a:pt x="9394" y="16838"/>
                  <a:pt x="9473" y="16783"/>
                  <a:pt x="9525" y="16644"/>
                </a:cubicBezTo>
                <a:cubicBezTo>
                  <a:pt x="9575" y="16511"/>
                  <a:pt x="9531" y="16425"/>
                  <a:pt x="9500" y="16297"/>
                </a:cubicBezTo>
                <a:cubicBezTo>
                  <a:pt x="9475" y="16194"/>
                  <a:pt x="9459" y="16053"/>
                  <a:pt x="9376" y="15974"/>
                </a:cubicBezTo>
                <a:cubicBezTo>
                  <a:pt x="9303" y="15905"/>
                  <a:pt x="9194" y="15820"/>
                  <a:pt x="9103" y="15776"/>
                </a:cubicBezTo>
                <a:cubicBezTo>
                  <a:pt x="8983" y="15718"/>
                  <a:pt x="8857" y="15670"/>
                  <a:pt x="8731" y="15627"/>
                </a:cubicBezTo>
                <a:cubicBezTo>
                  <a:pt x="8640" y="15596"/>
                  <a:pt x="8531" y="15587"/>
                  <a:pt x="8434" y="15602"/>
                </a:cubicBezTo>
                <a:cubicBezTo>
                  <a:pt x="8315" y="15620"/>
                  <a:pt x="8199" y="15631"/>
                  <a:pt x="8086" y="15677"/>
                </a:cubicBezTo>
                <a:cubicBezTo>
                  <a:pt x="8029" y="15700"/>
                  <a:pt x="7929" y="15776"/>
                  <a:pt x="7888" y="15825"/>
                </a:cubicBezTo>
                <a:cubicBezTo>
                  <a:pt x="7854" y="15866"/>
                  <a:pt x="7810" y="15949"/>
                  <a:pt x="7789" y="15999"/>
                </a:cubicBezTo>
                <a:cubicBezTo>
                  <a:pt x="7742" y="16113"/>
                  <a:pt x="7774" y="16208"/>
                  <a:pt x="7789" y="16321"/>
                </a:cubicBezTo>
                <a:cubicBezTo>
                  <a:pt x="7799" y="16396"/>
                  <a:pt x="7809" y="16472"/>
                  <a:pt x="7813" y="16545"/>
                </a:cubicBezTo>
                <a:cubicBezTo>
                  <a:pt x="7817" y="16614"/>
                  <a:pt x="7820" y="16661"/>
                  <a:pt x="7838" y="16718"/>
                </a:cubicBezTo>
                <a:cubicBezTo>
                  <a:pt x="7850" y="16758"/>
                  <a:pt x="7876" y="16839"/>
                  <a:pt x="7913" y="16867"/>
                </a:cubicBezTo>
                <a:cubicBezTo>
                  <a:pt x="7974" y="16913"/>
                  <a:pt x="8071" y="16938"/>
                  <a:pt x="8136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24920" y="4956120"/>
            <a:ext cx="865080" cy="642960"/>
          </a:xfrm>
          <a:custGeom>
            <a:avLst/>
            <a:gdLst/>
            <a:ahLst/>
            <a:rect l="l" t="t" r="r" b="b"/>
            <a:pathLst>
              <a:path w="2407" h="1787">
                <a:moveTo>
                  <a:pt x="22920" y="14908"/>
                </a:moveTo>
                <a:cubicBezTo>
                  <a:pt x="22899" y="14908"/>
                  <a:pt x="22815" y="14924"/>
                  <a:pt x="22870" y="14908"/>
                </a:cubicBezTo>
                <a:cubicBezTo>
                  <a:pt x="22884" y="14904"/>
                  <a:pt x="23057" y="14854"/>
                  <a:pt x="23068" y="14883"/>
                </a:cubicBezTo>
                <a:cubicBezTo>
                  <a:pt x="23068" y="14899"/>
                  <a:pt x="23068" y="14916"/>
                  <a:pt x="23068" y="14932"/>
                </a:cubicBezTo>
              </a:path>
              <a:path w="2407" h="1787">
                <a:moveTo>
                  <a:pt x="22870" y="15156"/>
                </a:moveTo>
                <a:cubicBezTo>
                  <a:pt x="22958" y="15156"/>
                  <a:pt x="23032" y="15138"/>
                  <a:pt x="23118" y="15131"/>
                </a:cubicBezTo>
                <a:cubicBezTo>
                  <a:pt x="23153" y="15131"/>
                  <a:pt x="23170" y="15126"/>
                  <a:pt x="23192" y="15106"/>
                </a:cubicBezTo>
              </a:path>
              <a:path w="2407" h="1787">
                <a:moveTo>
                  <a:pt x="24011" y="14560"/>
                </a:moveTo>
                <a:cubicBezTo>
                  <a:pt x="24011" y="14618"/>
                  <a:pt x="24011" y="14660"/>
                  <a:pt x="24011" y="14610"/>
                </a:cubicBezTo>
                <a:cubicBezTo>
                  <a:pt x="23985" y="14493"/>
                  <a:pt x="24000" y="14496"/>
                  <a:pt x="24110" y="14461"/>
                </a:cubicBezTo>
                <a:cubicBezTo>
                  <a:pt x="24178" y="14439"/>
                  <a:pt x="24247" y="14402"/>
                  <a:pt x="24309" y="14387"/>
                </a:cubicBezTo>
                <a:cubicBezTo>
                  <a:pt x="24309" y="14548"/>
                  <a:pt x="24265" y="14732"/>
                  <a:pt x="24209" y="14883"/>
                </a:cubicBezTo>
                <a:cubicBezTo>
                  <a:pt x="24175" y="14976"/>
                  <a:pt x="24109" y="15141"/>
                  <a:pt x="24160" y="15056"/>
                </a:cubicBezTo>
              </a:path>
              <a:path w="2407" h="1787">
                <a:moveTo>
                  <a:pt x="24606" y="14486"/>
                </a:moveTo>
                <a:cubicBezTo>
                  <a:pt x="24517" y="14643"/>
                  <a:pt x="24453" y="14800"/>
                  <a:pt x="24433" y="14982"/>
                </a:cubicBezTo>
                <a:cubicBezTo>
                  <a:pt x="24418" y="15112"/>
                  <a:pt x="24521" y="15172"/>
                  <a:pt x="24631" y="15081"/>
                </a:cubicBezTo>
                <a:cubicBezTo>
                  <a:pt x="24732" y="14997"/>
                  <a:pt x="24758" y="14823"/>
                  <a:pt x="24705" y="14709"/>
                </a:cubicBezTo>
                <a:cubicBezTo>
                  <a:pt x="24655" y="14600"/>
                  <a:pt x="24601" y="14552"/>
                  <a:pt x="24482" y="14536"/>
                </a:cubicBezTo>
                <a:cubicBezTo>
                  <a:pt x="24454" y="14536"/>
                  <a:pt x="24444" y="14538"/>
                  <a:pt x="24433" y="14560"/>
                </a:cubicBezTo>
              </a:path>
              <a:path w="2407" h="1787">
                <a:moveTo>
                  <a:pt x="23391" y="14734"/>
                </a:moveTo>
                <a:cubicBezTo>
                  <a:pt x="23448" y="14691"/>
                  <a:pt x="23516" y="14709"/>
                  <a:pt x="23589" y="14709"/>
                </a:cubicBezTo>
                <a:cubicBezTo>
                  <a:pt x="23597" y="14709"/>
                  <a:pt x="23606" y="14709"/>
                  <a:pt x="23614" y="14709"/>
                </a:cubicBezTo>
              </a:path>
              <a:path w="2407" h="1787">
                <a:moveTo>
                  <a:pt x="23391" y="15329"/>
                </a:moveTo>
                <a:cubicBezTo>
                  <a:pt x="23448" y="15360"/>
                  <a:pt x="23455" y="15380"/>
                  <a:pt x="23515" y="15404"/>
                </a:cubicBezTo>
                <a:cubicBezTo>
                  <a:pt x="23626" y="15449"/>
                  <a:pt x="23769" y="15474"/>
                  <a:pt x="23887" y="15478"/>
                </a:cubicBezTo>
                <a:cubicBezTo>
                  <a:pt x="23986" y="15481"/>
                  <a:pt x="24011" y="15505"/>
                  <a:pt x="24085" y="15528"/>
                </a:cubicBezTo>
                <a:cubicBezTo>
                  <a:pt x="24144" y="15546"/>
                  <a:pt x="24220" y="15560"/>
                  <a:pt x="24284" y="15553"/>
                </a:cubicBezTo>
                <a:cubicBezTo>
                  <a:pt x="24364" y="15544"/>
                  <a:pt x="24429" y="15494"/>
                  <a:pt x="24507" y="15478"/>
                </a:cubicBezTo>
                <a:cubicBezTo>
                  <a:pt x="24574" y="15464"/>
                  <a:pt x="24613" y="15454"/>
                  <a:pt x="24681" y="15429"/>
                </a:cubicBezTo>
                <a:cubicBezTo>
                  <a:pt x="24755" y="15402"/>
                  <a:pt x="24839" y="15352"/>
                  <a:pt x="24904" y="15304"/>
                </a:cubicBezTo>
                <a:cubicBezTo>
                  <a:pt x="24997" y="15235"/>
                  <a:pt x="25157" y="15089"/>
                  <a:pt x="25202" y="14982"/>
                </a:cubicBezTo>
                <a:cubicBezTo>
                  <a:pt x="25243" y="14883"/>
                  <a:pt x="25247" y="14788"/>
                  <a:pt x="25251" y="14684"/>
                </a:cubicBezTo>
                <a:cubicBezTo>
                  <a:pt x="25256" y="14541"/>
                  <a:pt x="25257" y="14402"/>
                  <a:pt x="25226" y="14263"/>
                </a:cubicBezTo>
                <a:cubicBezTo>
                  <a:pt x="25194" y="14120"/>
                  <a:pt x="25174" y="14086"/>
                  <a:pt x="25078" y="13990"/>
                </a:cubicBezTo>
                <a:cubicBezTo>
                  <a:pt x="24962" y="13874"/>
                  <a:pt x="24813" y="13833"/>
                  <a:pt x="24656" y="13791"/>
                </a:cubicBezTo>
                <a:cubicBezTo>
                  <a:pt x="24481" y="13745"/>
                  <a:pt x="24289" y="13767"/>
                  <a:pt x="24110" y="13767"/>
                </a:cubicBezTo>
                <a:cubicBezTo>
                  <a:pt x="23969" y="13767"/>
                  <a:pt x="23927" y="13793"/>
                  <a:pt x="23812" y="13866"/>
                </a:cubicBezTo>
                <a:cubicBezTo>
                  <a:pt x="23698" y="13939"/>
                  <a:pt x="23568" y="14004"/>
                  <a:pt x="23465" y="14089"/>
                </a:cubicBezTo>
                <a:cubicBezTo>
                  <a:pt x="23329" y="14202"/>
                  <a:pt x="23198" y="14347"/>
                  <a:pt x="23093" y="14486"/>
                </a:cubicBezTo>
                <a:cubicBezTo>
                  <a:pt x="23025" y="14576"/>
                  <a:pt x="22965" y="14683"/>
                  <a:pt x="22920" y="14784"/>
                </a:cubicBezTo>
                <a:cubicBezTo>
                  <a:pt x="22877" y="14880"/>
                  <a:pt x="22853" y="15001"/>
                  <a:pt x="22870" y="15106"/>
                </a:cubicBezTo>
                <a:cubicBezTo>
                  <a:pt x="22890" y="15235"/>
                  <a:pt x="22957" y="15337"/>
                  <a:pt x="23044" y="15429"/>
                </a:cubicBezTo>
                <a:cubicBezTo>
                  <a:pt x="23082" y="15470"/>
                  <a:pt x="23166" y="15538"/>
                  <a:pt x="23192" y="15553"/>
                </a:cubicBezTo>
                <a:cubicBezTo>
                  <a:pt x="23200" y="15553"/>
                  <a:pt x="23209" y="15553"/>
                  <a:pt x="23217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king it a step further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ding more than 2 integers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rk from left to r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-18 + 6 + (-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15 + (-4) + (-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554120" y="3867120"/>
            <a:ext cx="204840" cy="581040"/>
          </a:xfrm>
          <a:custGeom>
            <a:avLst/>
            <a:gdLst/>
            <a:ahLst/>
            <a:rect l="l" t="t" r="r" b="b"/>
            <a:pathLst>
              <a:path w="572" h="1614">
                <a:moveTo>
                  <a:pt x="4887" y="10740"/>
                </a:moveTo>
                <a:cubicBezTo>
                  <a:pt x="4824" y="10849"/>
                  <a:pt x="4829" y="10985"/>
                  <a:pt x="4812" y="11112"/>
                </a:cubicBezTo>
                <a:cubicBezTo>
                  <a:pt x="4812" y="11120"/>
                  <a:pt x="4812" y="11129"/>
                  <a:pt x="4812" y="11137"/>
                </a:cubicBezTo>
              </a:path>
              <a:path w="572" h="1614">
                <a:moveTo>
                  <a:pt x="4316" y="11981"/>
                </a:moveTo>
                <a:cubicBezTo>
                  <a:pt x="4331" y="12112"/>
                  <a:pt x="4362" y="12229"/>
                  <a:pt x="4341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57240" y="3830760"/>
            <a:ext cx="1366920" cy="411120"/>
          </a:xfrm>
          <a:custGeom>
            <a:avLst/>
            <a:gdLst/>
            <a:ahLst/>
            <a:rect l="l" t="t" r="r" b="b"/>
            <a:pathLst>
              <a:path w="3796" h="1142">
                <a:moveTo>
                  <a:pt x="5333" y="10641"/>
                </a:moveTo>
                <a:cubicBezTo>
                  <a:pt x="5316" y="10661"/>
                  <a:pt x="5137" y="10837"/>
                  <a:pt x="5159" y="10864"/>
                </a:cubicBezTo>
                <a:cubicBezTo>
                  <a:pt x="5213" y="10930"/>
                  <a:pt x="5282" y="10933"/>
                  <a:pt x="5333" y="11013"/>
                </a:cubicBezTo>
                <a:cubicBezTo>
                  <a:pt x="5281" y="11065"/>
                  <a:pt x="5262" y="11082"/>
                  <a:pt x="5209" y="11088"/>
                </a:cubicBezTo>
                <a:cubicBezTo>
                  <a:pt x="5176" y="10922"/>
                  <a:pt x="5272" y="10895"/>
                  <a:pt x="5358" y="10765"/>
                </a:cubicBezTo>
                <a:cubicBezTo>
                  <a:pt x="5358" y="10740"/>
                  <a:pt x="5358" y="10732"/>
                  <a:pt x="5383" y="10740"/>
                </a:cubicBezTo>
              </a:path>
              <a:path w="3796" h="1142">
                <a:moveTo>
                  <a:pt x="7045" y="10641"/>
                </a:moveTo>
                <a:cubicBezTo>
                  <a:pt x="7023" y="10728"/>
                  <a:pt x="7003" y="10839"/>
                  <a:pt x="6995" y="10939"/>
                </a:cubicBezTo>
                <a:cubicBezTo>
                  <a:pt x="6984" y="11088"/>
                  <a:pt x="7054" y="11134"/>
                  <a:pt x="7193" y="11038"/>
                </a:cubicBezTo>
                <a:cubicBezTo>
                  <a:pt x="7278" y="10954"/>
                  <a:pt x="7305" y="10940"/>
                  <a:pt x="7317" y="10864"/>
                </a:cubicBezTo>
                <a:cubicBezTo>
                  <a:pt x="7213" y="10885"/>
                  <a:pt x="7176" y="10967"/>
                  <a:pt x="7144" y="11063"/>
                </a:cubicBezTo>
                <a:cubicBezTo>
                  <a:pt x="7144" y="11071"/>
                  <a:pt x="7144" y="11080"/>
                  <a:pt x="7144" y="11088"/>
                </a:cubicBezTo>
              </a:path>
              <a:path w="3796" h="1142">
                <a:moveTo>
                  <a:pt x="6003" y="11385"/>
                </a:moveTo>
                <a:cubicBezTo>
                  <a:pt x="6035" y="11517"/>
                  <a:pt x="6052" y="11618"/>
                  <a:pt x="6052" y="11757"/>
                </a:cubicBezTo>
                <a:cubicBezTo>
                  <a:pt x="6052" y="11765"/>
                  <a:pt x="6052" y="11774"/>
                  <a:pt x="6052" y="11782"/>
                </a:cubicBezTo>
              </a:path>
              <a:path w="3796" h="1142">
                <a:moveTo>
                  <a:pt x="6325" y="11460"/>
                </a:moveTo>
                <a:cubicBezTo>
                  <a:pt x="6371" y="11460"/>
                  <a:pt x="6530" y="11431"/>
                  <a:pt x="6548" y="11485"/>
                </a:cubicBezTo>
                <a:cubicBezTo>
                  <a:pt x="6582" y="11587"/>
                  <a:pt x="6459" y="11663"/>
                  <a:pt x="6424" y="11733"/>
                </a:cubicBezTo>
                <a:cubicBezTo>
                  <a:pt x="6508" y="11727"/>
                  <a:pt x="6587" y="11708"/>
                  <a:pt x="6672" y="11708"/>
                </a:cubicBezTo>
              </a:path>
              <a:path w="3796" h="1142">
                <a:moveTo>
                  <a:pt x="5407" y="11485"/>
                </a:moveTo>
                <a:cubicBezTo>
                  <a:pt x="5349" y="11485"/>
                  <a:pt x="5477" y="11485"/>
                  <a:pt x="5507" y="11485"/>
                </a:cubicBezTo>
                <a:cubicBezTo>
                  <a:pt x="5548" y="11485"/>
                  <a:pt x="5556" y="11485"/>
                  <a:pt x="5581" y="11485"/>
                </a:cubicBezTo>
              </a:path>
              <a:path w="3796" h="1142">
                <a:moveTo>
                  <a:pt x="7367" y="11311"/>
                </a:moveTo>
                <a:cubicBezTo>
                  <a:pt x="7367" y="11438"/>
                  <a:pt x="7386" y="11557"/>
                  <a:pt x="7392" y="11683"/>
                </a:cubicBezTo>
                <a:cubicBezTo>
                  <a:pt x="7392" y="11708"/>
                  <a:pt x="7392" y="11716"/>
                  <a:pt x="7392" y="11733"/>
                </a:cubicBezTo>
              </a:path>
              <a:path w="3796" h="1142">
                <a:moveTo>
                  <a:pt x="7243" y="11609"/>
                </a:moveTo>
                <a:cubicBezTo>
                  <a:pt x="7331" y="11580"/>
                  <a:pt x="7426" y="11577"/>
                  <a:pt x="7516" y="11559"/>
                </a:cubicBezTo>
                <a:cubicBezTo>
                  <a:pt x="7556" y="11551"/>
                  <a:pt x="7556" y="11555"/>
                  <a:pt x="7565" y="11584"/>
                </a:cubicBezTo>
              </a:path>
              <a:path w="3796" h="1142">
                <a:moveTo>
                  <a:pt x="8161" y="11410"/>
                </a:moveTo>
                <a:cubicBezTo>
                  <a:pt x="8244" y="11433"/>
                  <a:pt x="8320" y="11435"/>
                  <a:pt x="8409" y="11435"/>
                </a:cubicBezTo>
              </a:path>
              <a:path w="3796" h="1142">
                <a:moveTo>
                  <a:pt x="8632" y="11261"/>
                </a:moveTo>
                <a:cubicBezTo>
                  <a:pt x="8734" y="11271"/>
                  <a:pt x="8805" y="11268"/>
                  <a:pt x="8905" y="11261"/>
                </a:cubicBezTo>
                <a:cubicBezTo>
                  <a:pt x="8913" y="11261"/>
                  <a:pt x="8922" y="11261"/>
                  <a:pt x="8930" y="11261"/>
                </a:cubicBezTo>
                <a:cubicBezTo>
                  <a:pt x="8949" y="11319"/>
                  <a:pt x="8932" y="11412"/>
                  <a:pt x="8905" y="11509"/>
                </a:cubicBezTo>
                <a:cubicBezTo>
                  <a:pt x="8892" y="11554"/>
                  <a:pt x="8784" y="11758"/>
                  <a:pt x="8855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3821040"/>
            <a:ext cx="1044360" cy="501840"/>
          </a:xfrm>
          <a:custGeom>
            <a:avLst/>
            <a:gdLst/>
            <a:ahLst/>
            <a:rect l="l" t="t" r="r" b="b"/>
            <a:pathLst>
              <a:path w="2903" h="1390">
                <a:moveTo>
                  <a:pt x="9971" y="11336"/>
                </a:moveTo>
                <a:cubicBezTo>
                  <a:pt x="10020" y="11352"/>
                  <a:pt x="10089" y="11361"/>
                  <a:pt x="10170" y="11361"/>
                </a:cubicBezTo>
                <a:cubicBezTo>
                  <a:pt x="10195" y="11361"/>
                  <a:pt x="10203" y="11361"/>
                  <a:pt x="10195" y="11385"/>
                </a:cubicBezTo>
              </a:path>
              <a:path w="2903" h="1390">
                <a:moveTo>
                  <a:pt x="9922" y="11609"/>
                </a:moveTo>
                <a:cubicBezTo>
                  <a:pt x="10032" y="11599"/>
                  <a:pt x="10141" y="11580"/>
                  <a:pt x="10244" y="11559"/>
                </a:cubicBezTo>
                <a:cubicBezTo>
                  <a:pt x="10252" y="11559"/>
                  <a:pt x="10261" y="11559"/>
                  <a:pt x="10269" y="11559"/>
                </a:cubicBezTo>
              </a:path>
              <a:path w="2903" h="1390">
                <a:moveTo>
                  <a:pt x="10988" y="11385"/>
                </a:moveTo>
                <a:cubicBezTo>
                  <a:pt x="11091" y="11385"/>
                  <a:pt x="11184" y="11371"/>
                  <a:pt x="11286" y="11361"/>
                </a:cubicBezTo>
                <a:cubicBezTo>
                  <a:pt x="11328" y="11361"/>
                  <a:pt x="11336" y="11361"/>
                  <a:pt x="11361" y="11361"/>
                </a:cubicBezTo>
              </a:path>
              <a:path w="2903" h="1390">
                <a:moveTo>
                  <a:pt x="11658" y="11088"/>
                </a:moveTo>
                <a:cubicBezTo>
                  <a:pt x="11658" y="11273"/>
                  <a:pt x="11647" y="11449"/>
                  <a:pt x="11633" y="11633"/>
                </a:cubicBezTo>
                <a:cubicBezTo>
                  <a:pt x="11633" y="11650"/>
                  <a:pt x="11633" y="11666"/>
                  <a:pt x="11633" y="11683"/>
                </a:cubicBezTo>
              </a:path>
              <a:path w="2903" h="1390">
                <a:moveTo>
                  <a:pt x="12303" y="11261"/>
                </a:moveTo>
                <a:cubicBezTo>
                  <a:pt x="12316" y="11144"/>
                  <a:pt x="12354" y="11083"/>
                  <a:pt x="12229" y="11013"/>
                </a:cubicBezTo>
                <a:cubicBezTo>
                  <a:pt x="12089" y="10935"/>
                  <a:pt x="11946" y="11072"/>
                  <a:pt x="11931" y="11212"/>
                </a:cubicBezTo>
                <a:cubicBezTo>
                  <a:pt x="11903" y="11482"/>
                  <a:pt x="12198" y="11243"/>
                  <a:pt x="12254" y="11187"/>
                </a:cubicBezTo>
                <a:cubicBezTo>
                  <a:pt x="12262" y="11170"/>
                  <a:pt x="12270" y="11154"/>
                  <a:pt x="12278" y="11137"/>
                </a:cubicBezTo>
                <a:cubicBezTo>
                  <a:pt x="12260" y="11295"/>
                  <a:pt x="12249" y="11451"/>
                  <a:pt x="12229" y="11609"/>
                </a:cubicBezTo>
              </a:path>
              <a:path w="2903" h="1390">
                <a:moveTo>
                  <a:pt x="10691" y="11733"/>
                </a:moveTo>
                <a:cubicBezTo>
                  <a:pt x="10787" y="11823"/>
                  <a:pt x="10870" y="11919"/>
                  <a:pt x="11013" y="11956"/>
                </a:cubicBezTo>
                <a:cubicBezTo>
                  <a:pt x="11265" y="12022"/>
                  <a:pt x="11527" y="12009"/>
                  <a:pt x="11782" y="11981"/>
                </a:cubicBezTo>
                <a:cubicBezTo>
                  <a:pt x="12006" y="11956"/>
                  <a:pt x="12220" y="11898"/>
                  <a:pt x="12427" y="11807"/>
                </a:cubicBezTo>
                <a:cubicBezTo>
                  <a:pt x="12577" y="11740"/>
                  <a:pt x="12699" y="11684"/>
                  <a:pt x="12774" y="11534"/>
                </a:cubicBezTo>
                <a:cubicBezTo>
                  <a:pt x="12849" y="11383"/>
                  <a:pt x="12821" y="11234"/>
                  <a:pt x="12750" y="11088"/>
                </a:cubicBezTo>
                <a:cubicBezTo>
                  <a:pt x="12676" y="10935"/>
                  <a:pt x="12536" y="10803"/>
                  <a:pt x="12378" y="10740"/>
                </a:cubicBezTo>
                <a:cubicBezTo>
                  <a:pt x="12131" y="10641"/>
                  <a:pt x="11875" y="10603"/>
                  <a:pt x="11609" y="10616"/>
                </a:cubicBezTo>
                <a:cubicBezTo>
                  <a:pt x="11346" y="10629"/>
                  <a:pt x="11063" y="10673"/>
                  <a:pt x="10815" y="10765"/>
                </a:cubicBezTo>
                <a:cubicBezTo>
                  <a:pt x="10650" y="10826"/>
                  <a:pt x="10520" y="10984"/>
                  <a:pt x="10517" y="11162"/>
                </a:cubicBezTo>
                <a:cubicBezTo>
                  <a:pt x="10514" y="11381"/>
                  <a:pt x="10597" y="11599"/>
                  <a:pt x="10765" y="11733"/>
                </a:cubicBezTo>
                <a:cubicBezTo>
                  <a:pt x="10833" y="11787"/>
                  <a:pt x="10802" y="11714"/>
                  <a:pt x="10790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60720" y="5249880"/>
            <a:ext cx="9360" cy="198360"/>
          </a:xfrm>
          <a:custGeom>
            <a:avLst/>
            <a:gdLst/>
            <a:ahLst/>
            <a:rect l="l" t="t" r="r" b="b"/>
            <a:pathLst>
              <a:path w="26" h="547">
                <a:moveTo>
                  <a:pt x="6028" y="14585"/>
                </a:moveTo>
                <a:cubicBezTo>
                  <a:pt x="6028" y="14721"/>
                  <a:pt x="5966" y="15020"/>
                  <a:pt x="6003" y="15131"/>
                </a:cubicBezTo>
                <a:cubicBezTo>
                  <a:pt x="6011" y="15123"/>
                  <a:pt x="6020" y="15114"/>
                  <a:pt x="6028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13000" y="4902120"/>
            <a:ext cx="357120" cy="509760"/>
          </a:xfrm>
          <a:custGeom>
            <a:avLst/>
            <a:gdLst/>
            <a:ahLst/>
            <a:rect l="l" t="t" r="r" b="b"/>
            <a:pathLst>
              <a:path w="994" h="1415">
                <a:moveTo>
                  <a:pt x="6722" y="13717"/>
                </a:moveTo>
                <a:cubicBezTo>
                  <a:pt x="6755" y="13794"/>
                  <a:pt x="6742" y="13831"/>
                  <a:pt x="6722" y="13915"/>
                </a:cubicBezTo>
                <a:cubicBezTo>
                  <a:pt x="6816" y="13909"/>
                  <a:pt x="6889" y="13886"/>
                  <a:pt x="6970" y="13866"/>
                </a:cubicBezTo>
              </a:path>
              <a:path w="994" h="1415">
                <a:moveTo>
                  <a:pt x="6995" y="13618"/>
                </a:moveTo>
                <a:cubicBezTo>
                  <a:pt x="6967" y="13771"/>
                  <a:pt x="6972" y="13970"/>
                  <a:pt x="6921" y="14114"/>
                </a:cubicBezTo>
                <a:cubicBezTo>
                  <a:pt x="6913" y="14122"/>
                  <a:pt x="6904" y="14131"/>
                  <a:pt x="6896" y="14139"/>
                </a:cubicBezTo>
              </a:path>
              <a:path w="994" h="1415">
                <a:moveTo>
                  <a:pt x="6424" y="14585"/>
                </a:moveTo>
                <a:cubicBezTo>
                  <a:pt x="6456" y="14735"/>
                  <a:pt x="6445" y="14857"/>
                  <a:pt x="6424" y="15007"/>
                </a:cubicBezTo>
                <a:cubicBezTo>
                  <a:pt x="6424" y="15015"/>
                  <a:pt x="6424" y="15024"/>
                  <a:pt x="6424" y="15032"/>
                </a:cubicBezTo>
              </a:path>
              <a:path w="994" h="1415">
                <a:moveTo>
                  <a:pt x="7193" y="14585"/>
                </a:moveTo>
                <a:cubicBezTo>
                  <a:pt x="7193" y="14726"/>
                  <a:pt x="7193" y="14866"/>
                  <a:pt x="7193" y="15007"/>
                </a:cubicBezTo>
              </a:path>
              <a:path w="994" h="1415">
                <a:moveTo>
                  <a:pt x="7045" y="14833"/>
                </a:moveTo>
                <a:cubicBezTo>
                  <a:pt x="7133" y="14782"/>
                  <a:pt x="7237" y="14766"/>
                  <a:pt x="7342" y="14759"/>
                </a:cubicBezTo>
                <a:cubicBezTo>
                  <a:pt x="7375" y="14759"/>
                  <a:pt x="7392" y="14759"/>
                  <a:pt x="7417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40040" y="5286240"/>
            <a:ext cx="98280" cy="27000"/>
          </a:xfrm>
          <a:custGeom>
            <a:avLst/>
            <a:gdLst/>
            <a:ahLst/>
            <a:rect l="l" t="t" r="r" b="b"/>
            <a:pathLst>
              <a:path w="274" h="76">
                <a:moveTo>
                  <a:pt x="7888" y="14684"/>
                </a:moveTo>
                <a:cubicBezTo>
                  <a:pt x="7937" y="14750"/>
                  <a:pt x="8044" y="14754"/>
                  <a:pt x="8136" y="14759"/>
                </a:cubicBezTo>
                <a:cubicBezTo>
                  <a:pt x="8144" y="14759"/>
                  <a:pt x="8153" y="14759"/>
                  <a:pt x="8161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81240" y="5180040"/>
            <a:ext cx="150840" cy="249120"/>
          </a:xfrm>
          <a:custGeom>
            <a:avLst/>
            <a:gdLst/>
            <a:ahLst/>
            <a:rect l="l" t="t" r="r" b="b"/>
            <a:pathLst>
              <a:path w="422" h="695">
                <a:moveTo>
                  <a:pt x="8806" y="14511"/>
                </a:moveTo>
                <a:cubicBezTo>
                  <a:pt x="8710" y="14495"/>
                  <a:pt x="8598" y="14488"/>
                  <a:pt x="8558" y="14610"/>
                </a:cubicBezTo>
                <a:cubicBezTo>
                  <a:pt x="8516" y="14737"/>
                  <a:pt x="8767" y="14755"/>
                  <a:pt x="8830" y="14808"/>
                </a:cubicBezTo>
                <a:cubicBezTo>
                  <a:pt x="8911" y="14877"/>
                  <a:pt x="8877" y="15047"/>
                  <a:pt x="8781" y="15081"/>
                </a:cubicBezTo>
                <a:cubicBezTo>
                  <a:pt x="8764" y="15081"/>
                  <a:pt x="8748" y="15081"/>
                  <a:pt x="8731" y="15081"/>
                </a:cubicBezTo>
                <a:cubicBezTo>
                  <a:pt x="8688" y="14939"/>
                  <a:pt x="8731" y="14883"/>
                  <a:pt x="8806" y="14759"/>
                </a:cubicBezTo>
                <a:cubicBezTo>
                  <a:pt x="8847" y="14691"/>
                  <a:pt x="9022" y="14508"/>
                  <a:pt x="8979" y="14412"/>
                </a:cubicBezTo>
                <a:cubicBezTo>
                  <a:pt x="8960" y="14370"/>
                  <a:pt x="8846" y="14389"/>
                  <a:pt x="8830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24080" y="5473800"/>
            <a:ext cx="1436760" cy="393480"/>
          </a:xfrm>
          <a:custGeom>
            <a:avLst/>
            <a:gdLst/>
            <a:ahLst/>
            <a:rect l="l" t="t" r="r" b="b"/>
            <a:pathLst>
              <a:path w="3995" h="1093">
                <a:moveTo>
                  <a:pt x="7020" y="15503"/>
                </a:moveTo>
                <a:cubicBezTo>
                  <a:pt x="7098" y="15490"/>
                  <a:pt x="7161" y="15478"/>
                  <a:pt x="7243" y="15478"/>
                </a:cubicBezTo>
                <a:cubicBezTo>
                  <a:pt x="7251" y="15478"/>
                  <a:pt x="7260" y="15478"/>
                  <a:pt x="7268" y="15478"/>
                </a:cubicBezTo>
              </a:path>
              <a:path w="3995" h="1093">
                <a:moveTo>
                  <a:pt x="6176" y="15478"/>
                </a:moveTo>
                <a:cubicBezTo>
                  <a:pt x="6213" y="15627"/>
                  <a:pt x="6226" y="15742"/>
                  <a:pt x="6226" y="15900"/>
                </a:cubicBezTo>
                <a:cubicBezTo>
                  <a:pt x="6226" y="15908"/>
                  <a:pt x="6226" y="15917"/>
                  <a:pt x="6226" y="15925"/>
                </a:cubicBezTo>
              </a:path>
              <a:path w="3995" h="1093">
                <a:moveTo>
                  <a:pt x="6573" y="15478"/>
                </a:moveTo>
                <a:cubicBezTo>
                  <a:pt x="6597" y="15609"/>
                  <a:pt x="6648" y="15739"/>
                  <a:pt x="6672" y="15875"/>
                </a:cubicBezTo>
                <a:cubicBezTo>
                  <a:pt x="6672" y="15883"/>
                  <a:pt x="6672" y="15892"/>
                  <a:pt x="6672" y="15900"/>
                </a:cubicBezTo>
              </a:path>
              <a:path w="3995" h="1093">
                <a:moveTo>
                  <a:pt x="7888" y="15354"/>
                </a:moveTo>
                <a:cubicBezTo>
                  <a:pt x="7770" y="15367"/>
                  <a:pt x="7679" y="15430"/>
                  <a:pt x="7640" y="15553"/>
                </a:cubicBezTo>
                <a:cubicBezTo>
                  <a:pt x="7640" y="15578"/>
                  <a:pt x="7640" y="15602"/>
                  <a:pt x="7640" y="15627"/>
                </a:cubicBezTo>
                <a:cubicBezTo>
                  <a:pt x="7757" y="15672"/>
                  <a:pt x="7913" y="15715"/>
                  <a:pt x="7838" y="15875"/>
                </a:cubicBezTo>
                <a:cubicBezTo>
                  <a:pt x="7822" y="15892"/>
                  <a:pt x="7805" y="15908"/>
                  <a:pt x="7789" y="15925"/>
                </a:cubicBezTo>
                <a:cubicBezTo>
                  <a:pt x="7653" y="15906"/>
                  <a:pt x="7717" y="15776"/>
                  <a:pt x="7764" y="15677"/>
                </a:cubicBezTo>
                <a:cubicBezTo>
                  <a:pt x="7811" y="15579"/>
                  <a:pt x="7847" y="15552"/>
                  <a:pt x="7863" y="15453"/>
                </a:cubicBezTo>
              </a:path>
              <a:path w="3995" h="1093">
                <a:moveTo>
                  <a:pt x="8409" y="15577"/>
                </a:moveTo>
                <a:cubicBezTo>
                  <a:pt x="8449" y="15559"/>
                  <a:pt x="8574" y="15496"/>
                  <a:pt x="8607" y="15503"/>
                </a:cubicBezTo>
                <a:cubicBezTo>
                  <a:pt x="8615" y="15511"/>
                  <a:pt x="8624" y="15520"/>
                  <a:pt x="8632" y="15528"/>
                </a:cubicBezTo>
              </a:path>
              <a:path w="3995" h="1093">
                <a:moveTo>
                  <a:pt x="8434" y="15751"/>
                </a:moveTo>
                <a:cubicBezTo>
                  <a:pt x="8499" y="15733"/>
                  <a:pt x="8567" y="15712"/>
                  <a:pt x="8632" y="15701"/>
                </a:cubicBezTo>
              </a:path>
              <a:path w="3995" h="1093">
                <a:moveTo>
                  <a:pt x="9302" y="15453"/>
                </a:moveTo>
                <a:cubicBezTo>
                  <a:pt x="9332" y="15378"/>
                  <a:pt x="9401" y="15336"/>
                  <a:pt x="9475" y="15304"/>
                </a:cubicBezTo>
                <a:cubicBezTo>
                  <a:pt x="9545" y="15386"/>
                  <a:pt x="9535" y="15448"/>
                  <a:pt x="9475" y="15553"/>
                </a:cubicBezTo>
                <a:cubicBezTo>
                  <a:pt x="9587" y="15553"/>
                  <a:pt x="9593" y="15620"/>
                  <a:pt x="9550" y="15726"/>
                </a:cubicBezTo>
                <a:cubicBezTo>
                  <a:pt x="9498" y="15855"/>
                  <a:pt x="9399" y="15875"/>
                  <a:pt x="9277" y="15875"/>
                </a:cubicBezTo>
              </a:path>
              <a:path w="3995" h="1093">
                <a:moveTo>
                  <a:pt x="8930" y="16073"/>
                </a:moveTo>
                <a:cubicBezTo>
                  <a:pt x="9080" y="16209"/>
                  <a:pt x="9239" y="16310"/>
                  <a:pt x="9451" y="16297"/>
                </a:cubicBezTo>
                <a:cubicBezTo>
                  <a:pt x="9644" y="16286"/>
                  <a:pt x="9765" y="16189"/>
                  <a:pt x="9922" y="16098"/>
                </a:cubicBezTo>
                <a:cubicBezTo>
                  <a:pt x="10032" y="16034"/>
                  <a:pt x="10148" y="15940"/>
                  <a:pt x="10170" y="15801"/>
                </a:cubicBezTo>
                <a:cubicBezTo>
                  <a:pt x="10192" y="15663"/>
                  <a:pt x="10106" y="15552"/>
                  <a:pt x="10021" y="15453"/>
                </a:cubicBezTo>
                <a:cubicBezTo>
                  <a:pt x="9912" y="15327"/>
                  <a:pt x="9792" y="15235"/>
                  <a:pt x="9624" y="15205"/>
                </a:cubicBezTo>
                <a:cubicBezTo>
                  <a:pt x="9478" y="15179"/>
                  <a:pt x="9254" y="15231"/>
                  <a:pt x="9128" y="15304"/>
                </a:cubicBezTo>
                <a:cubicBezTo>
                  <a:pt x="8950" y="15408"/>
                  <a:pt x="8890" y="15655"/>
                  <a:pt x="8905" y="15850"/>
                </a:cubicBezTo>
                <a:cubicBezTo>
                  <a:pt x="8914" y="15965"/>
                  <a:pt x="8970" y="16104"/>
                  <a:pt x="9079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66960" y="4875120"/>
            <a:ext cx="1062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5184" y="13692"/>
                </a:moveTo>
                <a:cubicBezTo>
                  <a:pt x="5283" y="13640"/>
                  <a:pt x="5380" y="13587"/>
                  <a:pt x="5482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24000" y="3241800"/>
            <a:ext cx="204840" cy="652320"/>
          </a:xfrm>
          <a:custGeom>
            <a:avLst/>
            <a:gdLst/>
            <a:ahLst/>
            <a:rect l="l" t="t" r="r" b="b"/>
            <a:pathLst>
              <a:path w="572" h="1812">
                <a:moveTo>
                  <a:pt x="3969" y="9004"/>
                </a:moveTo>
                <a:cubicBezTo>
                  <a:pt x="3866" y="9034"/>
                  <a:pt x="3755" y="9060"/>
                  <a:pt x="3646" y="9079"/>
                </a:cubicBezTo>
                <a:cubicBezTo>
                  <a:pt x="3551" y="9096"/>
                  <a:pt x="3410" y="9082"/>
                  <a:pt x="3398" y="9178"/>
                </a:cubicBezTo>
                <a:cubicBezTo>
                  <a:pt x="3381" y="9316"/>
                  <a:pt x="3402" y="9489"/>
                  <a:pt x="3423" y="9624"/>
                </a:cubicBezTo>
                <a:cubicBezTo>
                  <a:pt x="3447" y="9780"/>
                  <a:pt x="3473" y="9911"/>
                  <a:pt x="3473" y="10071"/>
                </a:cubicBezTo>
                <a:cubicBezTo>
                  <a:pt x="3473" y="10288"/>
                  <a:pt x="3483" y="10509"/>
                  <a:pt x="3448" y="10716"/>
                </a:cubicBezTo>
                <a:cubicBezTo>
                  <a:pt x="3439" y="10768"/>
                  <a:pt x="3457" y="10769"/>
                  <a:pt x="3473" y="10790"/>
                </a:cubicBezTo>
                <a:cubicBezTo>
                  <a:pt x="3504" y="10830"/>
                  <a:pt x="3598" y="10825"/>
                  <a:pt x="3671" y="10815"/>
                </a:cubicBezTo>
                <a:cubicBezTo>
                  <a:pt x="3750" y="10804"/>
                  <a:pt x="3822" y="10789"/>
                  <a:pt x="3894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68760" y="3286080"/>
            <a:ext cx="223560" cy="642960"/>
          </a:xfrm>
          <a:custGeom>
            <a:avLst/>
            <a:gdLst/>
            <a:ahLst/>
            <a:rect l="l" t="t" r="r" b="b"/>
            <a:pathLst>
              <a:path w="622" h="1787">
                <a:moveTo>
                  <a:pt x="7764" y="9178"/>
                </a:moveTo>
                <a:cubicBezTo>
                  <a:pt x="7929" y="9154"/>
                  <a:pt x="8094" y="9134"/>
                  <a:pt x="8260" y="9128"/>
                </a:cubicBezTo>
                <a:cubicBezTo>
                  <a:pt x="8285" y="9128"/>
                  <a:pt x="8293" y="9128"/>
                  <a:pt x="8310" y="9128"/>
                </a:cubicBezTo>
                <a:cubicBezTo>
                  <a:pt x="8275" y="9289"/>
                  <a:pt x="8260" y="9458"/>
                  <a:pt x="8235" y="9624"/>
                </a:cubicBezTo>
                <a:cubicBezTo>
                  <a:pt x="8208" y="9804"/>
                  <a:pt x="8191" y="9989"/>
                  <a:pt x="8186" y="10170"/>
                </a:cubicBezTo>
                <a:cubicBezTo>
                  <a:pt x="8183" y="10268"/>
                  <a:pt x="8197" y="10360"/>
                  <a:pt x="8210" y="10443"/>
                </a:cubicBezTo>
                <a:cubicBezTo>
                  <a:pt x="8215" y="10478"/>
                  <a:pt x="8237" y="10599"/>
                  <a:pt x="8235" y="10616"/>
                </a:cubicBezTo>
                <a:cubicBezTo>
                  <a:pt x="8226" y="10693"/>
                  <a:pt x="7964" y="10789"/>
                  <a:pt x="7913" y="10815"/>
                </a:cubicBezTo>
                <a:cubicBezTo>
                  <a:pt x="7831" y="10857"/>
                  <a:pt x="7765" y="10884"/>
                  <a:pt x="7689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4720" y="3938760"/>
            <a:ext cx="125280" cy="9360"/>
          </a:xfrm>
          <a:custGeom>
            <a:avLst/>
            <a:gdLst/>
            <a:ahLst/>
            <a:rect l="l" t="t" r="r" b="b"/>
            <a:pathLst>
              <a:path w="348" h="26">
                <a:moveTo>
                  <a:pt x="6152" y="10939"/>
                </a:moveTo>
                <a:cubicBezTo>
                  <a:pt x="6255" y="10960"/>
                  <a:pt x="6316" y="10950"/>
                  <a:pt x="6424" y="10939"/>
                </a:cubicBezTo>
                <a:cubicBezTo>
                  <a:pt x="6449" y="10939"/>
                  <a:pt x="6474" y="10939"/>
                  <a:pt x="6499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25760" y="3187800"/>
            <a:ext cx="17280" cy="152280"/>
          </a:xfrm>
          <a:custGeom>
            <a:avLst/>
            <a:gdLst/>
            <a:ahLst/>
            <a:rect l="l" t="t" r="r" b="b"/>
            <a:pathLst>
              <a:path w="51" h="423">
                <a:moveTo>
                  <a:pt x="4564" y="8855"/>
                </a:moveTo>
                <a:cubicBezTo>
                  <a:pt x="4564" y="8989"/>
                  <a:pt x="4533" y="9097"/>
                  <a:pt x="4514" y="9227"/>
                </a:cubicBezTo>
                <a:cubicBezTo>
                  <a:pt x="4514" y="9286"/>
                  <a:pt x="4517" y="9294"/>
                  <a:pt x="4539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31960" y="3152880"/>
            <a:ext cx="54000" cy="17784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4911" y="8756"/>
                </a:moveTo>
                <a:cubicBezTo>
                  <a:pt x="4875" y="8798"/>
                  <a:pt x="4846" y="8838"/>
                  <a:pt x="4812" y="8880"/>
                </a:cubicBezTo>
                <a:cubicBezTo>
                  <a:pt x="4877" y="8967"/>
                  <a:pt x="5004" y="9040"/>
                  <a:pt x="4961" y="9178"/>
                </a:cubicBezTo>
                <a:cubicBezTo>
                  <a:pt x="4915" y="9224"/>
                  <a:pt x="4902" y="9238"/>
                  <a:pt x="4862" y="9252"/>
                </a:cubicBezTo>
                <a:cubicBezTo>
                  <a:pt x="4862" y="9102"/>
                  <a:pt x="4869" y="9014"/>
                  <a:pt x="4936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2920" y="3205080"/>
            <a:ext cx="81000" cy="1447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6921" y="8905"/>
                </a:moveTo>
                <a:cubicBezTo>
                  <a:pt x="6921" y="9006"/>
                  <a:pt x="6901" y="9102"/>
                  <a:pt x="6896" y="9203"/>
                </a:cubicBezTo>
                <a:cubicBezTo>
                  <a:pt x="6890" y="9323"/>
                  <a:pt x="7101" y="9122"/>
                  <a:pt x="7119" y="9103"/>
                </a:cubicBezTo>
                <a:cubicBezTo>
                  <a:pt x="6976" y="9139"/>
                  <a:pt x="6991" y="9161"/>
                  <a:pt x="6921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76200" y="4411800"/>
            <a:ext cx="179640" cy="571320"/>
          </a:xfrm>
          <a:custGeom>
            <a:avLst/>
            <a:gdLst/>
            <a:ahLst/>
            <a:rect l="l" t="t" r="r" b="b"/>
            <a:pathLst>
              <a:path w="497" h="1588">
                <a:moveTo>
                  <a:pt x="4043" y="12254"/>
                </a:moveTo>
                <a:cubicBezTo>
                  <a:pt x="3963" y="12294"/>
                  <a:pt x="3607" y="12342"/>
                  <a:pt x="3572" y="12402"/>
                </a:cubicBezTo>
                <a:cubicBezTo>
                  <a:pt x="3494" y="12534"/>
                  <a:pt x="3565" y="12849"/>
                  <a:pt x="3572" y="13022"/>
                </a:cubicBezTo>
                <a:cubicBezTo>
                  <a:pt x="3578" y="13190"/>
                  <a:pt x="3593" y="13352"/>
                  <a:pt x="3597" y="13519"/>
                </a:cubicBezTo>
                <a:cubicBezTo>
                  <a:pt x="3600" y="13626"/>
                  <a:pt x="3597" y="13734"/>
                  <a:pt x="3597" y="13841"/>
                </a:cubicBezTo>
                <a:cubicBezTo>
                  <a:pt x="3733" y="13841"/>
                  <a:pt x="3821" y="13758"/>
                  <a:pt x="3944" y="13742"/>
                </a:cubicBezTo>
                <a:cubicBezTo>
                  <a:pt x="3952" y="13750"/>
                  <a:pt x="3961" y="13759"/>
                  <a:pt x="3969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81240" y="4483080"/>
            <a:ext cx="196920" cy="500040"/>
          </a:xfrm>
          <a:custGeom>
            <a:avLst/>
            <a:gdLst/>
            <a:ahLst/>
            <a:rect l="l" t="t" r="r" b="b"/>
            <a:pathLst>
              <a:path w="546" h="1390">
                <a:moveTo>
                  <a:pt x="8558" y="12477"/>
                </a:moveTo>
                <a:cubicBezTo>
                  <a:pt x="8667" y="12435"/>
                  <a:pt x="8786" y="12452"/>
                  <a:pt x="8905" y="12452"/>
                </a:cubicBezTo>
                <a:cubicBezTo>
                  <a:pt x="8995" y="12452"/>
                  <a:pt x="9097" y="12433"/>
                  <a:pt x="9103" y="12526"/>
                </a:cubicBezTo>
                <a:cubicBezTo>
                  <a:pt x="9120" y="12801"/>
                  <a:pt x="9026" y="13071"/>
                  <a:pt x="9004" y="13345"/>
                </a:cubicBezTo>
                <a:cubicBezTo>
                  <a:pt x="8996" y="13450"/>
                  <a:pt x="9015" y="13457"/>
                  <a:pt x="9029" y="13543"/>
                </a:cubicBezTo>
                <a:cubicBezTo>
                  <a:pt x="9029" y="13588"/>
                  <a:pt x="9026" y="13601"/>
                  <a:pt x="9054" y="13618"/>
                </a:cubicBezTo>
                <a:cubicBezTo>
                  <a:pt x="8940" y="13675"/>
                  <a:pt x="8796" y="13745"/>
                  <a:pt x="8682" y="13816"/>
                </a:cubicBezTo>
                <a:cubicBezTo>
                  <a:pt x="8674" y="13824"/>
                  <a:pt x="8665" y="13833"/>
                  <a:pt x="8657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43040" y="4295880"/>
            <a:ext cx="54000" cy="133200"/>
          </a:xfrm>
          <a:custGeom>
            <a:avLst/>
            <a:gdLst/>
            <a:ahLst/>
            <a:rect l="l" t="t" r="r" b="b"/>
            <a:pathLst>
              <a:path w="150" h="373">
                <a:moveTo>
                  <a:pt x="4614" y="11931"/>
                </a:moveTo>
                <a:cubicBezTo>
                  <a:pt x="4574" y="11944"/>
                  <a:pt x="4568" y="11978"/>
                  <a:pt x="4564" y="12030"/>
                </a:cubicBezTo>
                <a:cubicBezTo>
                  <a:pt x="4557" y="12108"/>
                  <a:pt x="4667" y="12074"/>
                  <a:pt x="4688" y="12105"/>
                </a:cubicBezTo>
                <a:cubicBezTo>
                  <a:pt x="4725" y="12159"/>
                  <a:pt x="4697" y="12345"/>
                  <a:pt x="4589" y="12303"/>
                </a:cubicBezTo>
                <a:cubicBezTo>
                  <a:pt x="4581" y="12287"/>
                  <a:pt x="4572" y="12270"/>
                  <a:pt x="4564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52760" y="4232160"/>
            <a:ext cx="88560" cy="4608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4589" y="11881"/>
                </a:moveTo>
                <a:cubicBezTo>
                  <a:pt x="4664" y="11844"/>
                  <a:pt x="4777" y="11752"/>
                  <a:pt x="4837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6920" y="4518000"/>
            <a:ext cx="7920" cy="376200"/>
          </a:xfrm>
          <a:custGeom>
            <a:avLst/>
            <a:gdLst/>
            <a:ahLst/>
            <a:rect l="l" t="t" r="r" b="b"/>
            <a:pathLst>
              <a:path w="26" h="1043">
                <a:moveTo>
                  <a:pt x="3795" y="12551"/>
                </a:moveTo>
                <a:cubicBezTo>
                  <a:pt x="3841" y="12825"/>
                  <a:pt x="3806" y="13092"/>
                  <a:pt x="3795" y="13370"/>
                </a:cubicBezTo>
                <a:cubicBezTo>
                  <a:pt x="3795" y="13504"/>
                  <a:pt x="3778" y="13527"/>
                  <a:pt x="3820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537080"/>
            <a:ext cx="17640" cy="338040"/>
          </a:xfrm>
          <a:custGeom>
            <a:avLst/>
            <a:gdLst/>
            <a:ahLst/>
            <a:rect l="l" t="t" r="r" b="b"/>
            <a:pathLst>
              <a:path w="50" h="943">
                <a:moveTo>
                  <a:pt x="5259" y="12601"/>
                </a:moveTo>
                <a:cubicBezTo>
                  <a:pt x="5187" y="12745"/>
                  <a:pt x="5257" y="13029"/>
                  <a:pt x="5259" y="13196"/>
                </a:cubicBezTo>
                <a:cubicBezTo>
                  <a:pt x="5259" y="13395"/>
                  <a:pt x="5248" y="13431"/>
                  <a:pt x="5283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527720"/>
            <a:ext cx="34920" cy="384120"/>
          </a:xfrm>
          <a:custGeom>
            <a:avLst/>
            <a:gdLst/>
            <a:ahLst/>
            <a:rect l="l" t="t" r="r" b="b"/>
            <a:pathLst>
              <a:path w="100" h="1068">
                <a:moveTo>
                  <a:pt x="6697" y="12626"/>
                </a:moveTo>
                <a:cubicBezTo>
                  <a:pt x="6697" y="12502"/>
                  <a:pt x="6712" y="12774"/>
                  <a:pt x="6722" y="12898"/>
                </a:cubicBezTo>
                <a:cubicBezTo>
                  <a:pt x="6742" y="13146"/>
                  <a:pt x="6545" y="13788"/>
                  <a:pt x="6747" y="13643"/>
                </a:cubicBezTo>
                <a:cubicBezTo>
                  <a:pt x="6763" y="13618"/>
                  <a:pt x="6780" y="13593"/>
                  <a:pt x="6796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60800" y="4527720"/>
            <a:ext cx="9360" cy="322200"/>
          </a:xfrm>
          <a:custGeom>
            <a:avLst/>
            <a:gdLst/>
            <a:ahLst/>
            <a:rect l="l" t="t" r="r" b="b"/>
            <a:pathLst>
              <a:path w="26" h="894">
                <a:moveTo>
                  <a:pt x="8806" y="12626"/>
                </a:moveTo>
                <a:cubicBezTo>
                  <a:pt x="8806" y="12468"/>
                  <a:pt x="8806" y="13121"/>
                  <a:pt x="8806" y="13122"/>
                </a:cubicBezTo>
                <a:cubicBezTo>
                  <a:pt x="8798" y="13263"/>
                  <a:pt x="8781" y="13536"/>
                  <a:pt x="8781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97120" y="4303800"/>
            <a:ext cx="98640" cy="9036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7516" y="11956"/>
                </a:moveTo>
                <a:cubicBezTo>
                  <a:pt x="7516" y="12035"/>
                  <a:pt x="7504" y="12103"/>
                  <a:pt x="7491" y="12179"/>
                </a:cubicBezTo>
                <a:cubicBezTo>
                  <a:pt x="7491" y="12187"/>
                  <a:pt x="7491" y="12196"/>
                  <a:pt x="7491" y="12204"/>
                </a:cubicBezTo>
                <a:cubicBezTo>
                  <a:pt x="7587" y="12188"/>
                  <a:pt x="7675" y="12145"/>
                  <a:pt x="7764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68760" y="4276800"/>
            <a:ext cx="936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7689" y="11881"/>
                </a:moveTo>
                <a:cubicBezTo>
                  <a:pt x="7689" y="12031"/>
                  <a:pt x="7710" y="12178"/>
                  <a:pt x="7714" y="12328"/>
                </a:cubicBezTo>
                <a:cubicBezTo>
                  <a:pt x="7714" y="12353"/>
                  <a:pt x="7714" y="12377"/>
                  <a:pt x="7714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52800" y="4983120"/>
            <a:ext cx="142560" cy="34920"/>
          </a:xfrm>
          <a:custGeom>
            <a:avLst/>
            <a:gdLst/>
            <a:ahLst/>
            <a:rect l="l" t="t" r="r" b="b"/>
            <a:pathLst>
              <a:path w="398" h="100">
                <a:moveTo>
                  <a:pt x="5978" y="13940"/>
                </a:moveTo>
                <a:cubicBezTo>
                  <a:pt x="6075" y="13916"/>
                  <a:pt x="6194" y="13861"/>
                  <a:pt x="6300" y="13841"/>
                </a:cubicBezTo>
                <a:cubicBezTo>
                  <a:pt x="6325" y="13841"/>
                  <a:pt x="6350" y="13841"/>
                  <a:pt x="6375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5960" y="4946760"/>
            <a:ext cx="9360" cy="161640"/>
          </a:xfrm>
          <a:custGeom>
            <a:avLst/>
            <a:gdLst/>
            <a:ahLst/>
            <a:rect l="l" t="t" r="r" b="b"/>
            <a:pathLst>
              <a:path w="26" h="447">
                <a:moveTo>
                  <a:pt x="4986" y="13742"/>
                </a:moveTo>
                <a:cubicBezTo>
                  <a:pt x="4986" y="13869"/>
                  <a:pt x="4965" y="13988"/>
                  <a:pt x="4961" y="14114"/>
                </a:cubicBezTo>
                <a:cubicBezTo>
                  <a:pt x="4961" y="14155"/>
                  <a:pt x="4961" y="14163"/>
                  <a:pt x="4961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66960" y="4911840"/>
            <a:ext cx="79200" cy="142920"/>
          </a:xfrm>
          <a:custGeom>
            <a:avLst/>
            <a:gdLst/>
            <a:ahLst/>
            <a:rect l="l" t="t" r="r" b="b"/>
            <a:pathLst>
              <a:path w="224" h="397">
                <a:moveTo>
                  <a:pt x="5184" y="13643"/>
                </a:moveTo>
                <a:cubicBezTo>
                  <a:pt x="5184" y="13684"/>
                  <a:pt x="5162" y="13771"/>
                  <a:pt x="5209" y="13791"/>
                </a:cubicBezTo>
                <a:cubicBezTo>
                  <a:pt x="5316" y="13838"/>
                  <a:pt x="5470" y="13816"/>
                  <a:pt x="5383" y="13990"/>
                </a:cubicBezTo>
                <a:cubicBezTo>
                  <a:pt x="5326" y="14046"/>
                  <a:pt x="5300" y="14062"/>
                  <a:pt x="5234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12 + (-18) + -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-23 + (-16) + 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11 + (-16) + (-46) + 7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85 + (-105) + 3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1652760"/>
            <a:ext cx="97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6697" y="4589"/>
                </a:moveTo>
                <a:cubicBezTo>
                  <a:pt x="6697" y="4727"/>
                  <a:pt x="6671" y="4892"/>
                  <a:pt x="6722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920" y="1643040"/>
            <a:ext cx="889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7069" y="4564"/>
                </a:moveTo>
                <a:cubicBezTo>
                  <a:pt x="7037" y="4598"/>
                  <a:pt x="7020" y="4614"/>
                  <a:pt x="6995" y="4638"/>
                </a:cubicBezTo>
                <a:cubicBezTo>
                  <a:pt x="7038" y="4688"/>
                  <a:pt x="7238" y="4841"/>
                  <a:pt x="7218" y="4911"/>
                </a:cubicBezTo>
                <a:cubicBezTo>
                  <a:pt x="7137" y="4993"/>
                  <a:pt x="7104" y="5021"/>
                  <a:pt x="7020" y="5035"/>
                </a:cubicBezTo>
                <a:cubicBezTo>
                  <a:pt x="7003" y="5019"/>
                  <a:pt x="6987" y="5002"/>
                  <a:pt x="6970" y="4986"/>
                </a:cubicBezTo>
                <a:cubicBezTo>
                  <a:pt x="7003" y="4924"/>
                  <a:pt x="7163" y="4782"/>
                  <a:pt x="7144" y="4713"/>
                </a:cubicBezTo>
                <a:cubicBezTo>
                  <a:pt x="7136" y="4705"/>
                  <a:pt x="7127" y="4696"/>
                  <a:pt x="7119" y="46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47920" y="2500200"/>
            <a:ext cx="858960" cy="108000"/>
          </a:xfrm>
          <a:custGeom>
            <a:avLst/>
            <a:gdLst/>
            <a:ahLst/>
            <a:rect l="l" t="t" r="r" b="b"/>
            <a:pathLst>
              <a:path w="2382" h="299">
                <a:moveTo>
                  <a:pt x="6524" y="7193"/>
                </a:moveTo>
                <a:cubicBezTo>
                  <a:pt x="6601" y="7187"/>
                  <a:pt x="6670" y="7175"/>
                  <a:pt x="6747" y="7169"/>
                </a:cubicBezTo>
              </a:path>
              <a:path w="2382" h="299">
                <a:moveTo>
                  <a:pt x="7640" y="7169"/>
                </a:moveTo>
                <a:cubicBezTo>
                  <a:pt x="7691" y="7146"/>
                  <a:pt x="7734" y="7128"/>
                  <a:pt x="7789" y="7119"/>
                </a:cubicBezTo>
              </a:path>
              <a:path w="2382" h="299">
                <a:moveTo>
                  <a:pt x="7689" y="7243"/>
                </a:moveTo>
                <a:cubicBezTo>
                  <a:pt x="7806" y="7243"/>
                  <a:pt x="7856" y="7240"/>
                  <a:pt x="7938" y="7218"/>
                </a:cubicBezTo>
              </a:path>
              <a:path w="2382" h="299">
                <a:moveTo>
                  <a:pt x="8558" y="6995"/>
                </a:moveTo>
                <a:cubicBezTo>
                  <a:pt x="8675" y="6980"/>
                  <a:pt x="8789" y="6967"/>
                  <a:pt x="8905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00120" y="2286000"/>
            <a:ext cx="972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4167" y="6350"/>
                </a:moveTo>
                <a:cubicBezTo>
                  <a:pt x="4167" y="6459"/>
                  <a:pt x="4185" y="6564"/>
                  <a:pt x="4192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25760" y="2251080"/>
            <a:ext cx="71280" cy="160200"/>
          </a:xfrm>
          <a:custGeom>
            <a:avLst/>
            <a:gdLst/>
            <a:ahLst/>
            <a:rect l="l" t="t" r="r" b="b"/>
            <a:pathLst>
              <a:path w="200" h="447">
                <a:moveTo>
                  <a:pt x="4638" y="6251"/>
                </a:moveTo>
                <a:cubicBezTo>
                  <a:pt x="4569" y="6301"/>
                  <a:pt x="4446" y="6369"/>
                  <a:pt x="4539" y="6474"/>
                </a:cubicBezTo>
                <a:cubicBezTo>
                  <a:pt x="4645" y="6594"/>
                  <a:pt x="4676" y="6543"/>
                  <a:pt x="4663" y="6697"/>
                </a:cubicBezTo>
                <a:cubicBezTo>
                  <a:pt x="4503" y="6697"/>
                  <a:pt x="4549" y="6580"/>
                  <a:pt x="4614" y="6449"/>
                </a:cubicBezTo>
                <a:cubicBezTo>
                  <a:pt x="4670" y="6374"/>
                  <a:pt x="4674" y="6361"/>
                  <a:pt x="4713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12960" y="2394000"/>
            <a:ext cx="223920" cy="285840"/>
          </a:xfrm>
          <a:custGeom>
            <a:avLst/>
            <a:gdLst/>
            <a:ahLst/>
            <a:rect l="l" t="t" r="r" b="b"/>
            <a:pathLst>
              <a:path w="621" h="794">
                <a:moveTo>
                  <a:pt x="5383" y="6648"/>
                </a:moveTo>
                <a:cubicBezTo>
                  <a:pt x="5474" y="6648"/>
                  <a:pt x="5564" y="6648"/>
                  <a:pt x="5655" y="6648"/>
                </a:cubicBezTo>
              </a:path>
              <a:path w="621" h="794">
                <a:moveTo>
                  <a:pt x="5407" y="7069"/>
                </a:moveTo>
                <a:cubicBezTo>
                  <a:pt x="5340" y="7103"/>
                  <a:pt x="5318" y="7237"/>
                  <a:pt x="5308" y="7317"/>
                </a:cubicBezTo>
                <a:cubicBezTo>
                  <a:pt x="5308" y="7385"/>
                  <a:pt x="5305" y="7404"/>
                  <a:pt x="5333" y="7441"/>
                </a:cubicBezTo>
                <a:cubicBezTo>
                  <a:pt x="5462" y="7441"/>
                  <a:pt x="5501" y="7434"/>
                  <a:pt x="5606" y="7367"/>
                </a:cubicBezTo>
                <a:cubicBezTo>
                  <a:pt x="5653" y="7343"/>
                  <a:pt x="5670" y="7337"/>
                  <a:pt x="5655" y="7293"/>
                </a:cubicBezTo>
                <a:cubicBezTo>
                  <a:pt x="5560" y="7272"/>
                  <a:pt x="5480" y="7288"/>
                  <a:pt x="5432" y="7392"/>
                </a:cubicBezTo>
                <a:cubicBezTo>
                  <a:pt x="5432" y="7400"/>
                  <a:pt x="5432" y="7409"/>
                  <a:pt x="5432" y="7417"/>
                </a:cubicBezTo>
              </a:path>
              <a:path w="621" h="794">
                <a:moveTo>
                  <a:pt x="5035" y="7193"/>
                </a:moveTo>
                <a:cubicBezTo>
                  <a:pt x="5107" y="7193"/>
                  <a:pt x="5165" y="7180"/>
                  <a:pt x="523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43080" y="2295360"/>
            <a:ext cx="250920" cy="357480"/>
          </a:xfrm>
          <a:custGeom>
            <a:avLst/>
            <a:gdLst/>
            <a:ahLst/>
            <a:rect l="l" t="t" r="r" b="b"/>
            <a:pathLst>
              <a:path w="696" h="993">
                <a:moveTo>
                  <a:pt x="6127" y="6375"/>
                </a:moveTo>
                <a:cubicBezTo>
                  <a:pt x="6144" y="6475"/>
                  <a:pt x="6152" y="6567"/>
                  <a:pt x="6152" y="6672"/>
                </a:cubicBezTo>
              </a:path>
              <a:path w="696" h="993">
                <a:moveTo>
                  <a:pt x="6375" y="6424"/>
                </a:moveTo>
                <a:cubicBezTo>
                  <a:pt x="6458" y="6383"/>
                  <a:pt x="6474" y="6359"/>
                  <a:pt x="6524" y="6400"/>
                </a:cubicBezTo>
                <a:cubicBezTo>
                  <a:pt x="6505" y="6552"/>
                  <a:pt x="6473" y="6587"/>
                  <a:pt x="6350" y="6672"/>
                </a:cubicBezTo>
                <a:cubicBezTo>
                  <a:pt x="6434" y="6696"/>
                  <a:pt x="6547" y="6659"/>
                  <a:pt x="6648" y="6648"/>
                </a:cubicBezTo>
              </a:path>
              <a:path w="696" h="993">
                <a:moveTo>
                  <a:pt x="6003" y="7193"/>
                </a:moveTo>
                <a:cubicBezTo>
                  <a:pt x="6003" y="7261"/>
                  <a:pt x="6013" y="7296"/>
                  <a:pt x="6028" y="7367"/>
                </a:cubicBezTo>
              </a:path>
              <a:path w="696" h="993">
                <a:moveTo>
                  <a:pt x="5953" y="7342"/>
                </a:moveTo>
                <a:cubicBezTo>
                  <a:pt x="6048" y="7310"/>
                  <a:pt x="6149" y="7313"/>
                  <a:pt x="625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36920" y="2544840"/>
            <a:ext cx="71280" cy="1080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7045" y="7094"/>
                </a:moveTo>
                <a:cubicBezTo>
                  <a:pt x="7113" y="7089"/>
                  <a:pt x="7176" y="7079"/>
                  <a:pt x="7243" y="7069"/>
                </a:cubicBezTo>
                <a:cubicBezTo>
                  <a:pt x="7236" y="7175"/>
                  <a:pt x="7206" y="7266"/>
                  <a:pt x="7193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90760" y="1643040"/>
            <a:ext cx="241200" cy="142920"/>
          </a:xfrm>
          <a:custGeom>
            <a:avLst/>
            <a:gdLst/>
            <a:ahLst/>
            <a:rect l="l" t="t" r="r" b="b"/>
            <a:pathLst>
              <a:path w="671" h="398">
                <a:moveTo>
                  <a:pt x="4167" y="4564"/>
                </a:moveTo>
                <a:cubicBezTo>
                  <a:pt x="4140" y="4696"/>
                  <a:pt x="4142" y="4824"/>
                  <a:pt x="4142" y="4961"/>
                </a:cubicBezTo>
              </a:path>
              <a:path w="671" h="398">
                <a:moveTo>
                  <a:pt x="4366" y="4614"/>
                </a:moveTo>
                <a:cubicBezTo>
                  <a:pt x="4426" y="4568"/>
                  <a:pt x="4500" y="4573"/>
                  <a:pt x="4564" y="4589"/>
                </a:cubicBezTo>
                <a:cubicBezTo>
                  <a:pt x="4545" y="4729"/>
                  <a:pt x="4479" y="4820"/>
                  <a:pt x="4440" y="4936"/>
                </a:cubicBezTo>
                <a:cubicBezTo>
                  <a:pt x="4566" y="4928"/>
                  <a:pt x="4687" y="4907"/>
                  <a:pt x="4812" y="48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3240" y="2303640"/>
            <a:ext cx="662040" cy="349200"/>
          </a:xfrm>
          <a:custGeom>
            <a:avLst/>
            <a:gdLst/>
            <a:ahLst/>
            <a:rect l="l" t="t" r="r" b="b"/>
            <a:pathLst>
              <a:path w="1837" h="968">
                <a:moveTo>
                  <a:pt x="8979" y="6796"/>
                </a:moveTo>
                <a:cubicBezTo>
                  <a:pt x="8985" y="6888"/>
                  <a:pt x="8990" y="7042"/>
                  <a:pt x="9029" y="7094"/>
                </a:cubicBezTo>
              </a:path>
              <a:path w="1837" h="968">
                <a:moveTo>
                  <a:pt x="9227" y="6772"/>
                </a:moveTo>
                <a:cubicBezTo>
                  <a:pt x="9240" y="6771"/>
                  <a:pt x="9495" y="6704"/>
                  <a:pt x="9500" y="6772"/>
                </a:cubicBezTo>
                <a:cubicBezTo>
                  <a:pt x="9504" y="6824"/>
                  <a:pt x="9433" y="6858"/>
                  <a:pt x="9401" y="6871"/>
                </a:cubicBezTo>
                <a:cubicBezTo>
                  <a:pt x="9546" y="6892"/>
                  <a:pt x="9567" y="6917"/>
                  <a:pt x="9599" y="7045"/>
                </a:cubicBezTo>
                <a:cubicBezTo>
                  <a:pt x="9470" y="7127"/>
                  <a:pt x="9435" y="7108"/>
                  <a:pt x="9277" y="7094"/>
                </a:cubicBezTo>
              </a:path>
              <a:path w="1837" h="968">
                <a:moveTo>
                  <a:pt x="8533" y="7243"/>
                </a:moveTo>
                <a:cubicBezTo>
                  <a:pt x="8723" y="7389"/>
                  <a:pt x="9023" y="7378"/>
                  <a:pt x="9277" y="7367"/>
                </a:cubicBezTo>
                <a:cubicBezTo>
                  <a:pt x="9532" y="7356"/>
                  <a:pt x="9862" y="7327"/>
                  <a:pt x="10021" y="7094"/>
                </a:cubicBezTo>
                <a:cubicBezTo>
                  <a:pt x="10204" y="6825"/>
                  <a:pt x="9943" y="6612"/>
                  <a:pt x="9699" y="6524"/>
                </a:cubicBezTo>
                <a:cubicBezTo>
                  <a:pt x="9328" y="6390"/>
                  <a:pt x="8749" y="6290"/>
                  <a:pt x="8409" y="6548"/>
                </a:cubicBezTo>
                <a:cubicBezTo>
                  <a:pt x="8103" y="6780"/>
                  <a:pt x="8304" y="6947"/>
                  <a:pt x="8458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5840" y="3463920"/>
            <a:ext cx="1704960" cy="90360"/>
          </a:xfrm>
          <a:custGeom>
            <a:avLst/>
            <a:gdLst/>
            <a:ahLst/>
            <a:rect l="l" t="t" r="r" b="b"/>
            <a:pathLst>
              <a:path w="4738" h="249">
                <a:moveTo>
                  <a:pt x="7293" y="9624"/>
                </a:moveTo>
                <a:cubicBezTo>
                  <a:pt x="7308" y="9705"/>
                  <a:pt x="7328" y="9755"/>
                  <a:pt x="7417" y="9773"/>
                </a:cubicBezTo>
                <a:cubicBezTo>
                  <a:pt x="7501" y="9773"/>
                  <a:pt x="7533" y="9766"/>
                  <a:pt x="7565" y="9699"/>
                </a:cubicBezTo>
              </a:path>
              <a:path w="4738" h="249">
                <a:moveTo>
                  <a:pt x="8086" y="9872"/>
                </a:moveTo>
                <a:cubicBezTo>
                  <a:pt x="8228" y="9864"/>
                  <a:pt x="8370" y="9852"/>
                  <a:pt x="8508" y="9823"/>
                </a:cubicBezTo>
              </a:path>
              <a:path w="4738" h="249">
                <a:moveTo>
                  <a:pt x="10393" y="9699"/>
                </a:moveTo>
                <a:cubicBezTo>
                  <a:pt x="10489" y="9692"/>
                  <a:pt x="10572" y="9673"/>
                  <a:pt x="10666" y="9649"/>
                </a:cubicBezTo>
              </a:path>
              <a:path w="4738" h="249">
                <a:moveTo>
                  <a:pt x="11559" y="9699"/>
                </a:moveTo>
                <a:cubicBezTo>
                  <a:pt x="11669" y="9669"/>
                  <a:pt x="11768" y="9655"/>
                  <a:pt x="11881" y="9649"/>
                </a:cubicBezTo>
              </a:path>
              <a:path w="4738" h="249">
                <a:moveTo>
                  <a:pt x="11683" y="9798"/>
                </a:moveTo>
                <a:cubicBezTo>
                  <a:pt x="11849" y="9798"/>
                  <a:pt x="11915" y="9796"/>
                  <a:pt x="12030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47880" y="3419640"/>
            <a:ext cx="1162080" cy="161640"/>
          </a:xfrm>
          <a:custGeom>
            <a:avLst/>
            <a:gdLst/>
            <a:ahLst/>
            <a:rect l="l" t="t" r="r" b="b"/>
            <a:pathLst>
              <a:path w="3225" h="448">
                <a:moveTo>
                  <a:pt x="5135" y="9699"/>
                </a:moveTo>
                <a:cubicBezTo>
                  <a:pt x="5242" y="9699"/>
                  <a:pt x="5350" y="9699"/>
                  <a:pt x="5457" y="9699"/>
                </a:cubicBezTo>
              </a:path>
              <a:path w="3225" h="448">
                <a:moveTo>
                  <a:pt x="5705" y="9550"/>
                </a:moveTo>
                <a:cubicBezTo>
                  <a:pt x="5769" y="9539"/>
                  <a:pt x="5889" y="9485"/>
                  <a:pt x="5879" y="9599"/>
                </a:cubicBezTo>
                <a:cubicBezTo>
                  <a:pt x="5872" y="9681"/>
                  <a:pt x="5832" y="9682"/>
                  <a:pt x="5779" y="9723"/>
                </a:cubicBezTo>
                <a:cubicBezTo>
                  <a:pt x="5862" y="9723"/>
                  <a:pt x="5981" y="9713"/>
                  <a:pt x="6003" y="9823"/>
                </a:cubicBezTo>
                <a:cubicBezTo>
                  <a:pt x="6029" y="9951"/>
                  <a:pt x="5798" y="9991"/>
                  <a:pt x="5730" y="9922"/>
                </a:cubicBezTo>
                <a:cubicBezTo>
                  <a:pt x="5738" y="9914"/>
                  <a:pt x="5747" y="9905"/>
                  <a:pt x="5755" y="9897"/>
                </a:cubicBezTo>
              </a:path>
              <a:path w="3225" h="448">
                <a:moveTo>
                  <a:pt x="6449" y="9525"/>
                </a:moveTo>
                <a:cubicBezTo>
                  <a:pt x="6286" y="9470"/>
                  <a:pt x="6251" y="9576"/>
                  <a:pt x="6152" y="9699"/>
                </a:cubicBezTo>
                <a:cubicBezTo>
                  <a:pt x="6292" y="9792"/>
                  <a:pt x="6331" y="9693"/>
                  <a:pt x="6449" y="9624"/>
                </a:cubicBezTo>
                <a:cubicBezTo>
                  <a:pt x="6457" y="9624"/>
                  <a:pt x="6466" y="9624"/>
                  <a:pt x="6474" y="9624"/>
                </a:cubicBezTo>
                <a:cubicBezTo>
                  <a:pt x="6474" y="9716"/>
                  <a:pt x="6496" y="9804"/>
                  <a:pt x="6499" y="9897"/>
                </a:cubicBezTo>
                <a:cubicBezTo>
                  <a:pt x="6499" y="9939"/>
                  <a:pt x="6491" y="9955"/>
                  <a:pt x="6524" y="9947"/>
                </a:cubicBezTo>
              </a:path>
              <a:path w="3225" h="448">
                <a:moveTo>
                  <a:pt x="6970" y="9649"/>
                </a:moveTo>
                <a:cubicBezTo>
                  <a:pt x="6970" y="9723"/>
                  <a:pt x="6970" y="9798"/>
                  <a:pt x="6970" y="9872"/>
                </a:cubicBezTo>
              </a:path>
              <a:path w="3225" h="448">
                <a:moveTo>
                  <a:pt x="6846" y="9872"/>
                </a:moveTo>
                <a:cubicBezTo>
                  <a:pt x="6964" y="9857"/>
                  <a:pt x="7079" y="9831"/>
                  <a:pt x="7193" y="9798"/>
                </a:cubicBezTo>
              </a:path>
              <a:path w="3225" h="448">
                <a:moveTo>
                  <a:pt x="7565" y="9525"/>
                </a:moveTo>
                <a:cubicBezTo>
                  <a:pt x="7512" y="9580"/>
                  <a:pt x="7541" y="9773"/>
                  <a:pt x="7541" y="9872"/>
                </a:cubicBezTo>
                <a:cubicBezTo>
                  <a:pt x="7541" y="9913"/>
                  <a:pt x="7532" y="9930"/>
                  <a:pt x="7565" y="9922"/>
                </a:cubicBezTo>
              </a:path>
              <a:path w="3225" h="448">
                <a:moveTo>
                  <a:pt x="8062" y="9748"/>
                </a:moveTo>
                <a:cubicBezTo>
                  <a:pt x="8164" y="9722"/>
                  <a:pt x="8254" y="9699"/>
                  <a:pt x="8359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95800" y="3429000"/>
            <a:ext cx="677880" cy="160200"/>
          </a:xfrm>
          <a:custGeom>
            <a:avLst/>
            <a:gdLst/>
            <a:ahLst/>
            <a:rect l="l" t="t" r="r" b="b"/>
            <a:pathLst>
              <a:path w="1886" h="447">
                <a:moveTo>
                  <a:pt x="9153" y="9624"/>
                </a:moveTo>
                <a:cubicBezTo>
                  <a:pt x="9197" y="9621"/>
                  <a:pt x="9481" y="9567"/>
                  <a:pt x="9451" y="9649"/>
                </a:cubicBezTo>
                <a:cubicBezTo>
                  <a:pt x="9401" y="9723"/>
                  <a:pt x="9384" y="9748"/>
                  <a:pt x="9327" y="9773"/>
                </a:cubicBezTo>
                <a:cubicBezTo>
                  <a:pt x="9453" y="9756"/>
                  <a:pt x="9509" y="9769"/>
                  <a:pt x="9624" y="9823"/>
                </a:cubicBezTo>
                <a:cubicBezTo>
                  <a:pt x="9581" y="9883"/>
                  <a:pt x="9369" y="10119"/>
                  <a:pt x="9277" y="9947"/>
                </a:cubicBezTo>
                <a:cubicBezTo>
                  <a:pt x="9285" y="9930"/>
                  <a:pt x="9294" y="9914"/>
                  <a:pt x="9302" y="9897"/>
                </a:cubicBezTo>
              </a:path>
              <a:path w="1886" h="447">
                <a:moveTo>
                  <a:pt x="9947" y="9575"/>
                </a:moveTo>
                <a:cubicBezTo>
                  <a:pt x="9805" y="9543"/>
                  <a:pt x="9777" y="9598"/>
                  <a:pt x="9723" y="9723"/>
                </a:cubicBezTo>
                <a:cubicBezTo>
                  <a:pt x="9827" y="9749"/>
                  <a:pt x="9902" y="9716"/>
                  <a:pt x="9996" y="9649"/>
                </a:cubicBezTo>
                <a:cubicBezTo>
                  <a:pt x="10051" y="9731"/>
                  <a:pt x="10035" y="9846"/>
                  <a:pt x="10096" y="9922"/>
                </a:cubicBezTo>
                <a:cubicBezTo>
                  <a:pt x="10104" y="9922"/>
                  <a:pt x="10112" y="9922"/>
                  <a:pt x="10120" y="9922"/>
                </a:cubicBezTo>
              </a:path>
              <a:path w="1886" h="447">
                <a:moveTo>
                  <a:pt x="10691" y="9550"/>
                </a:moveTo>
                <a:cubicBezTo>
                  <a:pt x="10691" y="9639"/>
                  <a:pt x="10685" y="9714"/>
                  <a:pt x="10790" y="9748"/>
                </a:cubicBezTo>
                <a:cubicBezTo>
                  <a:pt x="10881" y="9748"/>
                  <a:pt x="10916" y="9735"/>
                  <a:pt x="10939" y="9649"/>
                </a:cubicBezTo>
              </a:path>
              <a:path w="1886" h="447">
                <a:moveTo>
                  <a:pt x="10914" y="9525"/>
                </a:moveTo>
                <a:cubicBezTo>
                  <a:pt x="10915" y="9557"/>
                  <a:pt x="10919" y="9919"/>
                  <a:pt x="10964" y="9922"/>
                </a:cubicBezTo>
                <a:cubicBezTo>
                  <a:pt x="10989" y="9914"/>
                  <a:pt x="11013" y="9905"/>
                  <a:pt x="11038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95880" y="3205080"/>
            <a:ext cx="884160" cy="447840"/>
          </a:xfrm>
          <a:custGeom>
            <a:avLst/>
            <a:gdLst/>
            <a:ahLst/>
            <a:rect l="l" t="t" r="r" b="b"/>
            <a:pathLst>
              <a:path w="2457" h="1241">
                <a:moveTo>
                  <a:pt x="12725" y="9451"/>
                </a:moveTo>
                <a:cubicBezTo>
                  <a:pt x="12760" y="9449"/>
                  <a:pt x="13115" y="9396"/>
                  <a:pt x="13097" y="9475"/>
                </a:cubicBezTo>
                <a:cubicBezTo>
                  <a:pt x="13093" y="9495"/>
                  <a:pt x="12972" y="9555"/>
                  <a:pt x="12948" y="9575"/>
                </a:cubicBezTo>
                <a:cubicBezTo>
                  <a:pt x="13078" y="9585"/>
                  <a:pt x="13165" y="9598"/>
                  <a:pt x="13271" y="9674"/>
                </a:cubicBezTo>
                <a:cubicBezTo>
                  <a:pt x="13125" y="9771"/>
                  <a:pt x="13003" y="9834"/>
                  <a:pt x="12923" y="9674"/>
                </a:cubicBezTo>
              </a:path>
              <a:path w="2457" h="1241">
                <a:moveTo>
                  <a:pt x="13543" y="9401"/>
                </a:moveTo>
                <a:cubicBezTo>
                  <a:pt x="13543" y="9549"/>
                  <a:pt x="13646" y="9511"/>
                  <a:pt x="13767" y="9550"/>
                </a:cubicBezTo>
                <a:cubicBezTo>
                  <a:pt x="13808" y="9566"/>
                  <a:pt x="13850" y="9583"/>
                  <a:pt x="13891" y="9599"/>
                </a:cubicBezTo>
                <a:cubicBezTo>
                  <a:pt x="13840" y="9753"/>
                  <a:pt x="13765" y="9717"/>
                  <a:pt x="13643" y="9674"/>
                </a:cubicBezTo>
              </a:path>
              <a:path w="2457" h="1241">
                <a:moveTo>
                  <a:pt x="13767" y="9351"/>
                </a:moveTo>
                <a:cubicBezTo>
                  <a:pt x="13858" y="9337"/>
                  <a:pt x="14032" y="9327"/>
                  <a:pt x="13940" y="9327"/>
                </a:cubicBezTo>
              </a:path>
              <a:path w="2457" h="1241">
                <a:moveTo>
                  <a:pt x="12278" y="9475"/>
                </a:moveTo>
                <a:cubicBezTo>
                  <a:pt x="12363" y="9475"/>
                  <a:pt x="12422" y="9483"/>
                  <a:pt x="12502" y="9500"/>
                </a:cubicBezTo>
              </a:path>
              <a:path w="2457" h="1241">
                <a:moveTo>
                  <a:pt x="12328" y="9971"/>
                </a:moveTo>
                <a:cubicBezTo>
                  <a:pt x="12688" y="10073"/>
                  <a:pt x="13017" y="10156"/>
                  <a:pt x="13395" y="10145"/>
                </a:cubicBezTo>
                <a:cubicBezTo>
                  <a:pt x="13698" y="10136"/>
                  <a:pt x="14173" y="10137"/>
                  <a:pt x="14337" y="9823"/>
                </a:cubicBezTo>
                <a:cubicBezTo>
                  <a:pt x="14540" y="9434"/>
                  <a:pt x="14084" y="9171"/>
                  <a:pt x="13791" y="9054"/>
                </a:cubicBezTo>
                <a:cubicBezTo>
                  <a:pt x="13226" y="8827"/>
                  <a:pt x="12623" y="8832"/>
                  <a:pt x="12129" y="9203"/>
                </a:cubicBezTo>
                <a:cubicBezTo>
                  <a:pt x="11538" y="9647"/>
                  <a:pt x="12298" y="9881"/>
                  <a:pt x="12626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89040" y="4527720"/>
            <a:ext cx="233280" cy="115560"/>
          </a:xfrm>
          <a:custGeom>
            <a:avLst/>
            <a:gdLst/>
            <a:ahLst/>
            <a:rect l="l" t="t" r="r" b="b"/>
            <a:pathLst>
              <a:path w="646" h="323">
                <a:moveTo>
                  <a:pt x="4415" y="12576"/>
                </a:moveTo>
                <a:cubicBezTo>
                  <a:pt x="4435" y="12676"/>
                  <a:pt x="4421" y="12766"/>
                  <a:pt x="4415" y="12874"/>
                </a:cubicBezTo>
              </a:path>
              <a:path w="646" h="323">
                <a:moveTo>
                  <a:pt x="4713" y="12601"/>
                </a:moveTo>
                <a:cubicBezTo>
                  <a:pt x="4701" y="12684"/>
                  <a:pt x="4652" y="12823"/>
                  <a:pt x="4762" y="12874"/>
                </a:cubicBezTo>
                <a:cubicBezTo>
                  <a:pt x="4948" y="12960"/>
                  <a:pt x="5135" y="12713"/>
                  <a:pt x="4961" y="12774"/>
                </a:cubicBezTo>
                <a:cubicBezTo>
                  <a:pt x="4934" y="12783"/>
                  <a:pt x="4785" y="12893"/>
                  <a:pt x="5011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84240" y="4518000"/>
            <a:ext cx="3483000" cy="135000"/>
          </a:xfrm>
          <a:custGeom>
            <a:avLst/>
            <a:gdLst/>
            <a:ahLst/>
            <a:rect l="l" t="t" r="r" b="b"/>
            <a:pathLst>
              <a:path w="9675" h="373">
                <a:moveTo>
                  <a:pt x="5234" y="12675"/>
                </a:moveTo>
                <a:cubicBezTo>
                  <a:pt x="5349" y="12652"/>
                  <a:pt x="5381" y="12643"/>
                  <a:pt x="5457" y="12650"/>
                </a:cubicBezTo>
              </a:path>
              <a:path w="9675" h="373">
                <a:moveTo>
                  <a:pt x="6176" y="12700"/>
                </a:moveTo>
                <a:cubicBezTo>
                  <a:pt x="6243" y="12693"/>
                  <a:pt x="6308" y="12682"/>
                  <a:pt x="6375" y="12675"/>
                </a:cubicBezTo>
              </a:path>
              <a:path w="9675" h="373">
                <a:moveTo>
                  <a:pt x="6300" y="12849"/>
                </a:moveTo>
                <a:cubicBezTo>
                  <a:pt x="6341" y="12841"/>
                  <a:pt x="6383" y="12832"/>
                  <a:pt x="6424" y="12824"/>
                </a:cubicBezTo>
              </a:path>
              <a:path w="9675" h="373">
                <a:moveTo>
                  <a:pt x="6424" y="12824"/>
                </a:moveTo>
                <a:lnTo>
                  <a:pt x="6424" y="12824"/>
                </a:lnTo>
              </a:path>
              <a:path w="9675" h="373">
                <a:moveTo>
                  <a:pt x="7218" y="12626"/>
                </a:moveTo>
                <a:cubicBezTo>
                  <a:pt x="7296" y="12596"/>
                  <a:pt x="7361" y="12565"/>
                  <a:pt x="7441" y="12551"/>
                </a:cubicBezTo>
              </a:path>
              <a:path w="9675" h="373">
                <a:moveTo>
                  <a:pt x="6623" y="12601"/>
                </a:moveTo>
                <a:cubicBezTo>
                  <a:pt x="6671" y="12625"/>
                  <a:pt x="6685" y="12634"/>
                  <a:pt x="6722" y="12626"/>
                </a:cubicBezTo>
              </a:path>
              <a:path w="9675" h="373">
                <a:moveTo>
                  <a:pt x="7764" y="12725"/>
                </a:moveTo>
                <a:cubicBezTo>
                  <a:pt x="7774" y="12793"/>
                  <a:pt x="7793" y="12857"/>
                  <a:pt x="7813" y="12923"/>
                </a:cubicBezTo>
              </a:path>
              <a:path w="9675" h="373">
                <a:moveTo>
                  <a:pt x="10244" y="12849"/>
                </a:moveTo>
                <a:cubicBezTo>
                  <a:pt x="10320" y="12841"/>
                  <a:pt x="10392" y="12830"/>
                  <a:pt x="10468" y="12824"/>
                </a:cubicBezTo>
              </a:path>
              <a:path w="9675" h="373">
                <a:moveTo>
                  <a:pt x="13717" y="12750"/>
                </a:moveTo>
                <a:cubicBezTo>
                  <a:pt x="13727" y="12832"/>
                  <a:pt x="13762" y="12901"/>
                  <a:pt x="13866" y="12898"/>
                </a:cubicBezTo>
                <a:cubicBezTo>
                  <a:pt x="13907" y="12890"/>
                  <a:pt x="13949" y="12882"/>
                  <a:pt x="13990" y="12874"/>
                </a:cubicBezTo>
              </a:path>
              <a:path w="9675" h="373">
                <a:moveTo>
                  <a:pt x="14660" y="12750"/>
                </a:moveTo>
                <a:cubicBezTo>
                  <a:pt x="14743" y="12775"/>
                  <a:pt x="14825" y="12799"/>
                  <a:pt x="14908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9880" y="4518000"/>
            <a:ext cx="9828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5606" y="12551"/>
                </a:moveTo>
                <a:cubicBezTo>
                  <a:pt x="5598" y="12652"/>
                  <a:pt x="5581" y="12747"/>
                  <a:pt x="5581" y="12849"/>
                </a:cubicBezTo>
              </a:path>
              <a:path w="274" h="348">
                <a:moveTo>
                  <a:pt x="5829" y="12576"/>
                </a:moveTo>
                <a:cubicBezTo>
                  <a:pt x="5829" y="12689"/>
                  <a:pt x="5830" y="12789"/>
                  <a:pt x="5854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36920" y="4554360"/>
            <a:ext cx="320760" cy="98640"/>
          </a:xfrm>
          <a:custGeom>
            <a:avLst/>
            <a:gdLst/>
            <a:ahLst/>
            <a:rect l="l" t="t" r="r" b="b"/>
            <a:pathLst>
              <a:path w="894" h="274">
                <a:moveTo>
                  <a:pt x="7069" y="12650"/>
                </a:moveTo>
                <a:cubicBezTo>
                  <a:pt x="7037" y="12783"/>
                  <a:pt x="7162" y="12722"/>
                  <a:pt x="7268" y="12774"/>
                </a:cubicBezTo>
                <a:cubicBezTo>
                  <a:pt x="7349" y="12814"/>
                  <a:pt x="7404" y="12853"/>
                  <a:pt x="7392" y="12898"/>
                </a:cubicBezTo>
                <a:cubicBezTo>
                  <a:pt x="7273" y="12922"/>
                  <a:pt x="7278" y="12908"/>
                  <a:pt x="7193" y="12824"/>
                </a:cubicBezTo>
              </a:path>
              <a:path w="894" h="274">
                <a:moveTo>
                  <a:pt x="7689" y="12874"/>
                </a:moveTo>
                <a:cubicBezTo>
                  <a:pt x="7776" y="12839"/>
                  <a:pt x="7845" y="12824"/>
                  <a:pt x="7938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4240" y="4537080"/>
            <a:ext cx="411120" cy="123840"/>
          </a:xfrm>
          <a:custGeom>
            <a:avLst/>
            <a:gdLst/>
            <a:ahLst/>
            <a:rect l="l" t="t" r="r" b="b"/>
            <a:pathLst>
              <a:path w="1142" h="348">
                <a:moveTo>
                  <a:pt x="8483" y="12750"/>
                </a:moveTo>
                <a:cubicBezTo>
                  <a:pt x="8556" y="12750"/>
                  <a:pt x="8611" y="12743"/>
                  <a:pt x="8682" y="12725"/>
                </a:cubicBezTo>
              </a:path>
              <a:path w="1142" h="348">
                <a:moveTo>
                  <a:pt x="8855" y="12650"/>
                </a:moveTo>
                <a:cubicBezTo>
                  <a:pt x="8836" y="12706"/>
                  <a:pt x="8830" y="12738"/>
                  <a:pt x="8830" y="12799"/>
                </a:cubicBezTo>
                <a:cubicBezTo>
                  <a:pt x="8931" y="12799"/>
                  <a:pt x="8965" y="12799"/>
                  <a:pt x="9029" y="12774"/>
                </a:cubicBezTo>
              </a:path>
              <a:path w="1142" h="348">
                <a:moveTo>
                  <a:pt x="9054" y="12626"/>
                </a:moveTo>
                <a:cubicBezTo>
                  <a:pt x="9009" y="12738"/>
                  <a:pt x="9004" y="12827"/>
                  <a:pt x="9004" y="12948"/>
                </a:cubicBezTo>
              </a:path>
              <a:path w="1142" h="348">
                <a:moveTo>
                  <a:pt x="9302" y="12601"/>
                </a:moveTo>
                <a:cubicBezTo>
                  <a:pt x="9283" y="12681"/>
                  <a:pt x="9235" y="12901"/>
                  <a:pt x="9351" y="12948"/>
                </a:cubicBezTo>
                <a:cubicBezTo>
                  <a:pt x="9435" y="12982"/>
                  <a:pt x="9605" y="12946"/>
                  <a:pt x="9624" y="12849"/>
                </a:cubicBezTo>
                <a:cubicBezTo>
                  <a:pt x="9624" y="12841"/>
                  <a:pt x="9624" y="12832"/>
                  <a:pt x="9624" y="12824"/>
                </a:cubicBezTo>
                <a:cubicBezTo>
                  <a:pt x="9565" y="12869"/>
                  <a:pt x="9463" y="12929"/>
                  <a:pt x="9575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97200" y="4581360"/>
            <a:ext cx="81000" cy="1800"/>
          </a:xfrm>
          <a:custGeom>
            <a:avLst/>
            <a:gdLst/>
            <a:ahLst/>
            <a:rect l="l" t="t" r="r" b="b"/>
            <a:pathLst>
              <a:path w="224" h="1">
                <a:moveTo>
                  <a:pt x="10269" y="12725"/>
                </a:moveTo>
                <a:cubicBezTo>
                  <a:pt x="10343" y="12725"/>
                  <a:pt x="10418" y="12725"/>
                  <a:pt x="10492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4960" y="4545000"/>
            <a:ext cx="1000080" cy="152280"/>
          </a:xfrm>
          <a:custGeom>
            <a:avLst/>
            <a:gdLst/>
            <a:ahLst/>
            <a:rect l="l" t="t" r="r" b="b"/>
            <a:pathLst>
              <a:path w="2779" h="422">
                <a:moveTo>
                  <a:pt x="11237" y="12799"/>
                </a:moveTo>
                <a:cubicBezTo>
                  <a:pt x="11311" y="12799"/>
                  <a:pt x="11386" y="12799"/>
                  <a:pt x="11460" y="12799"/>
                </a:cubicBezTo>
              </a:path>
              <a:path w="2779" h="422">
                <a:moveTo>
                  <a:pt x="11559" y="12700"/>
                </a:moveTo>
                <a:cubicBezTo>
                  <a:pt x="11559" y="12784"/>
                  <a:pt x="11608" y="12755"/>
                  <a:pt x="11708" y="12799"/>
                </a:cubicBezTo>
                <a:cubicBezTo>
                  <a:pt x="11789" y="12840"/>
                  <a:pt x="11822" y="12836"/>
                  <a:pt x="11807" y="12898"/>
                </a:cubicBezTo>
                <a:cubicBezTo>
                  <a:pt x="11790" y="12945"/>
                  <a:pt x="11646" y="13092"/>
                  <a:pt x="11584" y="12973"/>
                </a:cubicBezTo>
                <a:cubicBezTo>
                  <a:pt x="11584" y="12940"/>
                  <a:pt x="11584" y="12907"/>
                  <a:pt x="11584" y="12874"/>
                </a:cubicBezTo>
              </a:path>
              <a:path w="2779" h="422">
                <a:moveTo>
                  <a:pt x="11609" y="12725"/>
                </a:moveTo>
                <a:cubicBezTo>
                  <a:pt x="11713" y="12686"/>
                  <a:pt x="11805" y="12652"/>
                  <a:pt x="11906" y="12675"/>
                </a:cubicBezTo>
              </a:path>
              <a:path w="2779" h="422">
                <a:moveTo>
                  <a:pt x="12105" y="12626"/>
                </a:moveTo>
                <a:cubicBezTo>
                  <a:pt x="12139" y="12718"/>
                  <a:pt x="12121" y="12849"/>
                  <a:pt x="12154" y="12948"/>
                </a:cubicBezTo>
                <a:cubicBezTo>
                  <a:pt x="12162" y="12956"/>
                  <a:pt x="12171" y="12965"/>
                  <a:pt x="12179" y="12973"/>
                </a:cubicBezTo>
              </a:path>
              <a:path w="2779" h="422">
                <a:moveTo>
                  <a:pt x="12675" y="12750"/>
                </a:moveTo>
                <a:cubicBezTo>
                  <a:pt x="12683" y="12805"/>
                  <a:pt x="12691" y="12969"/>
                  <a:pt x="12750" y="12998"/>
                </a:cubicBezTo>
                <a:cubicBezTo>
                  <a:pt x="12750" y="12990"/>
                  <a:pt x="12750" y="12981"/>
                  <a:pt x="12750" y="12973"/>
                </a:cubicBezTo>
              </a:path>
              <a:path w="2779" h="422">
                <a:moveTo>
                  <a:pt x="12551" y="12874"/>
                </a:moveTo>
                <a:cubicBezTo>
                  <a:pt x="12688" y="12874"/>
                  <a:pt x="12812" y="12866"/>
                  <a:pt x="12948" y="12849"/>
                </a:cubicBezTo>
              </a:path>
              <a:path w="2779" h="422">
                <a:moveTo>
                  <a:pt x="13221" y="12725"/>
                </a:moveTo>
                <a:cubicBezTo>
                  <a:pt x="13312" y="12725"/>
                  <a:pt x="13403" y="12725"/>
                  <a:pt x="13494" y="12725"/>
                </a:cubicBezTo>
                <a:cubicBezTo>
                  <a:pt x="13494" y="12780"/>
                  <a:pt x="13459" y="12993"/>
                  <a:pt x="13469" y="13022"/>
                </a:cubicBezTo>
                <a:cubicBezTo>
                  <a:pt x="13477" y="13022"/>
                  <a:pt x="13486" y="13022"/>
                  <a:pt x="13494" y="13022"/>
                </a:cubicBezTo>
              </a:path>
              <a:path w="2779" h="422">
                <a:moveTo>
                  <a:pt x="14015" y="12650"/>
                </a:moveTo>
                <a:cubicBezTo>
                  <a:pt x="13989" y="12771"/>
                  <a:pt x="13973" y="12897"/>
                  <a:pt x="13965" y="13022"/>
                </a:cubicBezTo>
                <a:cubicBezTo>
                  <a:pt x="13965" y="13057"/>
                  <a:pt x="13974" y="13061"/>
                  <a:pt x="14015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0880" y="4554360"/>
            <a:ext cx="822240" cy="384480"/>
          </a:xfrm>
          <a:custGeom>
            <a:avLst/>
            <a:gdLst/>
            <a:ahLst/>
            <a:rect l="l" t="t" r="r" b="b"/>
            <a:pathLst>
              <a:path w="2283" h="1068">
                <a:moveTo>
                  <a:pt x="14808" y="12898"/>
                </a:moveTo>
                <a:cubicBezTo>
                  <a:pt x="14949" y="12898"/>
                  <a:pt x="15007" y="12898"/>
                  <a:pt x="15106" y="12898"/>
                </a:cubicBezTo>
              </a:path>
              <a:path w="2283" h="1068">
                <a:moveTo>
                  <a:pt x="15627" y="12849"/>
                </a:moveTo>
                <a:cubicBezTo>
                  <a:pt x="15713" y="12878"/>
                  <a:pt x="15976" y="12959"/>
                  <a:pt x="15825" y="13097"/>
                </a:cubicBezTo>
                <a:cubicBezTo>
                  <a:pt x="15714" y="13152"/>
                  <a:pt x="15669" y="13168"/>
                  <a:pt x="15577" y="13146"/>
                </a:cubicBezTo>
                <a:cubicBezTo>
                  <a:pt x="15569" y="13146"/>
                  <a:pt x="15561" y="13146"/>
                  <a:pt x="15553" y="13146"/>
                </a:cubicBezTo>
                <a:cubicBezTo>
                  <a:pt x="15665" y="13105"/>
                  <a:pt x="15867" y="13102"/>
                  <a:pt x="15999" y="13171"/>
                </a:cubicBezTo>
                <a:cubicBezTo>
                  <a:pt x="16024" y="13196"/>
                  <a:pt x="16032" y="13204"/>
                  <a:pt x="16049" y="13171"/>
                </a:cubicBezTo>
              </a:path>
              <a:path w="2283" h="1068">
                <a:moveTo>
                  <a:pt x="16321" y="12874"/>
                </a:moveTo>
                <a:cubicBezTo>
                  <a:pt x="16336" y="12874"/>
                  <a:pt x="16616" y="12857"/>
                  <a:pt x="16570" y="12923"/>
                </a:cubicBezTo>
                <a:cubicBezTo>
                  <a:pt x="16507" y="13015"/>
                  <a:pt x="16488" y="12969"/>
                  <a:pt x="16470" y="13022"/>
                </a:cubicBezTo>
                <a:cubicBezTo>
                  <a:pt x="16589" y="13037"/>
                  <a:pt x="16624" y="13046"/>
                  <a:pt x="16718" y="13122"/>
                </a:cubicBezTo>
                <a:cubicBezTo>
                  <a:pt x="16614" y="13241"/>
                  <a:pt x="16557" y="13235"/>
                  <a:pt x="16421" y="13171"/>
                </a:cubicBezTo>
              </a:path>
              <a:path w="2283" h="1068">
                <a:moveTo>
                  <a:pt x="15304" y="13419"/>
                </a:moveTo>
                <a:cubicBezTo>
                  <a:pt x="15603" y="13557"/>
                  <a:pt x="15892" y="13649"/>
                  <a:pt x="16222" y="13692"/>
                </a:cubicBezTo>
                <a:cubicBezTo>
                  <a:pt x="16461" y="13723"/>
                  <a:pt x="16980" y="13824"/>
                  <a:pt x="17090" y="13494"/>
                </a:cubicBezTo>
                <a:cubicBezTo>
                  <a:pt x="17218" y="13111"/>
                  <a:pt x="16698" y="12818"/>
                  <a:pt x="16421" y="12725"/>
                </a:cubicBezTo>
                <a:cubicBezTo>
                  <a:pt x="16111" y="12621"/>
                  <a:pt x="15216" y="12607"/>
                  <a:pt x="15329" y="13171"/>
                </a:cubicBezTo>
                <a:cubicBezTo>
                  <a:pt x="15387" y="13254"/>
                  <a:pt x="15445" y="13336"/>
                  <a:pt x="15503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5800" y="3946680"/>
            <a:ext cx="554040" cy="777600"/>
          </a:xfrm>
          <a:custGeom>
            <a:avLst/>
            <a:gdLst/>
            <a:ahLst/>
            <a:rect l="l" t="t" r="r" b="b"/>
            <a:pathLst>
              <a:path w="1539" h="2159">
                <a:moveTo>
                  <a:pt x="18579" y="11038"/>
                </a:moveTo>
                <a:cubicBezTo>
                  <a:pt x="18711" y="11011"/>
                  <a:pt x="18839" y="11013"/>
                  <a:pt x="18976" y="11013"/>
                </a:cubicBezTo>
                <a:cubicBezTo>
                  <a:pt x="18948" y="11112"/>
                  <a:pt x="18895" y="11214"/>
                  <a:pt x="18852" y="11311"/>
                </a:cubicBezTo>
              </a:path>
              <a:path w="1539" h="2159">
                <a:moveTo>
                  <a:pt x="19248" y="10964"/>
                </a:moveTo>
                <a:cubicBezTo>
                  <a:pt x="19234" y="11020"/>
                  <a:pt x="19214" y="11098"/>
                  <a:pt x="19323" y="11112"/>
                </a:cubicBezTo>
                <a:cubicBezTo>
                  <a:pt x="19348" y="11104"/>
                  <a:pt x="19372" y="11096"/>
                  <a:pt x="19397" y="11088"/>
                </a:cubicBezTo>
              </a:path>
              <a:path w="1539" h="2159">
                <a:moveTo>
                  <a:pt x="18157" y="11633"/>
                </a:moveTo>
                <a:cubicBezTo>
                  <a:pt x="18273" y="11633"/>
                  <a:pt x="18388" y="11633"/>
                  <a:pt x="18504" y="11633"/>
                </a:cubicBezTo>
              </a:path>
              <a:path w="1539" h="2159">
                <a:moveTo>
                  <a:pt x="19000" y="11633"/>
                </a:moveTo>
                <a:cubicBezTo>
                  <a:pt x="18949" y="11646"/>
                  <a:pt x="18878" y="11639"/>
                  <a:pt x="18827" y="11658"/>
                </a:cubicBezTo>
                <a:cubicBezTo>
                  <a:pt x="18770" y="11679"/>
                  <a:pt x="18766" y="11710"/>
                  <a:pt x="18752" y="11757"/>
                </a:cubicBezTo>
                <a:cubicBezTo>
                  <a:pt x="18781" y="11801"/>
                  <a:pt x="18909" y="11805"/>
                  <a:pt x="18976" y="11832"/>
                </a:cubicBezTo>
                <a:cubicBezTo>
                  <a:pt x="19009" y="11848"/>
                  <a:pt x="19042" y="11865"/>
                  <a:pt x="19075" y="11881"/>
                </a:cubicBezTo>
                <a:cubicBezTo>
                  <a:pt x="19038" y="11991"/>
                  <a:pt x="18973" y="12024"/>
                  <a:pt x="18852" y="12005"/>
                </a:cubicBezTo>
                <a:cubicBezTo>
                  <a:pt x="18835" y="11997"/>
                  <a:pt x="18819" y="11989"/>
                  <a:pt x="18802" y="11981"/>
                </a:cubicBezTo>
              </a:path>
              <a:path w="1539" h="2159">
                <a:moveTo>
                  <a:pt x="19348" y="11807"/>
                </a:moveTo>
                <a:cubicBezTo>
                  <a:pt x="19348" y="11959"/>
                  <a:pt x="19345" y="12086"/>
                  <a:pt x="19397" y="12229"/>
                </a:cubicBezTo>
              </a:path>
              <a:path w="1539" h="2159">
                <a:moveTo>
                  <a:pt x="18703" y="12303"/>
                </a:moveTo>
                <a:cubicBezTo>
                  <a:pt x="18960" y="12312"/>
                  <a:pt x="19196" y="12350"/>
                  <a:pt x="19447" y="12402"/>
                </a:cubicBezTo>
              </a:path>
              <a:path w="1539" h="2159">
                <a:moveTo>
                  <a:pt x="19348" y="12799"/>
                </a:moveTo>
                <a:cubicBezTo>
                  <a:pt x="19395" y="12804"/>
                  <a:pt x="19646" y="12897"/>
                  <a:pt x="19645" y="12898"/>
                </a:cubicBezTo>
                <a:cubicBezTo>
                  <a:pt x="19547" y="12937"/>
                  <a:pt x="19534" y="12954"/>
                  <a:pt x="19472" y="12948"/>
                </a:cubicBezTo>
                <a:cubicBezTo>
                  <a:pt x="19547" y="12970"/>
                  <a:pt x="19623" y="13011"/>
                  <a:pt x="19695" y="13047"/>
                </a:cubicBezTo>
                <a:cubicBezTo>
                  <a:pt x="19590" y="13180"/>
                  <a:pt x="19450" y="13107"/>
                  <a:pt x="19298" y="13072"/>
                </a:cubicBezTo>
              </a:path>
              <a:path w="1539" h="2159">
                <a:moveTo>
                  <a:pt x="18926" y="12799"/>
                </a:moveTo>
                <a:cubicBezTo>
                  <a:pt x="19069" y="12799"/>
                  <a:pt x="19084" y="12805"/>
                  <a:pt x="19149" y="12923"/>
                </a:cubicBezTo>
                <a:cubicBezTo>
                  <a:pt x="19136" y="12933"/>
                  <a:pt x="18784" y="13131"/>
                  <a:pt x="18827" y="12998"/>
                </a:cubicBezTo>
                <a:cubicBezTo>
                  <a:pt x="18862" y="12888"/>
                  <a:pt x="19065" y="13000"/>
                  <a:pt x="19124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66000" y="3902040"/>
            <a:ext cx="34920" cy="206280"/>
          </a:xfrm>
          <a:custGeom>
            <a:avLst/>
            <a:gdLst/>
            <a:ahLst/>
            <a:rect l="l" t="t" r="r" b="b"/>
            <a:pathLst>
              <a:path w="100" h="571">
                <a:moveTo>
                  <a:pt x="19447" y="10840"/>
                </a:moveTo>
                <a:cubicBezTo>
                  <a:pt x="19410" y="11031"/>
                  <a:pt x="19384" y="11223"/>
                  <a:pt x="19348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38200" y="5732640"/>
            <a:ext cx="1677960" cy="403200"/>
          </a:xfrm>
          <a:custGeom>
            <a:avLst/>
            <a:gdLst/>
            <a:ahLst/>
            <a:rect l="l" t="t" r="r" b="b"/>
            <a:pathLst>
              <a:path w="4664" h="1117">
                <a:moveTo>
                  <a:pt x="4018" y="16024"/>
                </a:moveTo>
                <a:cubicBezTo>
                  <a:pt x="3994" y="16122"/>
                  <a:pt x="3986" y="16154"/>
                  <a:pt x="3994" y="16222"/>
                </a:cubicBezTo>
                <a:cubicBezTo>
                  <a:pt x="4104" y="16265"/>
                  <a:pt x="4361" y="16266"/>
                  <a:pt x="4316" y="16049"/>
                </a:cubicBezTo>
                <a:cubicBezTo>
                  <a:pt x="4288" y="15912"/>
                  <a:pt x="4120" y="15982"/>
                  <a:pt x="4043" y="15999"/>
                </a:cubicBezTo>
              </a:path>
              <a:path w="4664" h="1117">
                <a:moveTo>
                  <a:pt x="4341" y="15949"/>
                </a:moveTo>
                <a:cubicBezTo>
                  <a:pt x="4483" y="15942"/>
                  <a:pt x="4620" y="15931"/>
                  <a:pt x="4762" y="15925"/>
                </a:cubicBezTo>
              </a:path>
              <a:path w="4664" h="1117">
                <a:moveTo>
                  <a:pt x="5060" y="16049"/>
                </a:moveTo>
                <a:cubicBezTo>
                  <a:pt x="5133" y="16025"/>
                  <a:pt x="5157" y="16016"/>
                  <a:pt x="5209" y="16024"/>
                </a:cubicBezTo>
              </a:path>
              <a:path w="4664" h="1117">
                <a:moveTo>
                  <a:pt x="6424" y="17041"/>
                </a:moveTo>
                <a:cubicBezTo>
                  <a:pt x="6492" y="17031"/>
                  <a:pt x="6554" y="17021"/>
                  <a:pt x="6623" y="17016"/>
                </a:cubicBezTo>
              </a:path>
              <a:path w="4664" h="1117">
                <a:moveTo>
                  <a:pt x="8334" y="17016"/>
                </a:moveTo>
                <a:cubicBezTo>
                  <a:pt x="8459" y="16980"/>
                  <a:pt x="8525" y="16948"/>
                  <a:pt x="8657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9920" y="5732640"/>
            <a:ext cx="27000" cy="134640"/>
          </a:xfrm>
          <a:custGeom>
            <a:avLst/>
            <a:gdLst/>
            <a:ahLst/>
            <a:rect l="l" t="t" r="r" b="b"/>
            <a:pathLst>
              <a:path w="75" h="373">
                <a:moveTo>
                  <a:pt x="3721" y="15925"/>
                </a:moveTo>
                <a:cubicBezTo>
                  <a:pt x="3737" y="16034"/>
                  <a:pt x="3740" y="16196"/>
                  <a:pt x="3770" y="16297"/>
                </a:cubicBezTo>
                <a:cubicBezTo>
                  <a:pt x="3778" y="16297"/>
                  <a:pt x="3787" y="16297"/>
                  <a:pt x="3795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17760" y="5776920"/>
            <a:ext cx="169920" cy="376200"/>
          </a:xfrm>
          <a:custGeom>
            <a:avLst/>
            <a:gdLst/>
            <a:ahLst/>
            <a:rect l="l" t="t" r="r" b="b"/>
            <a:pathLst>
              <a:path w="472" h="1042">
                <a:moveTo>
                  <a:pt x="4291" y="16049"/>
                </a:moveTo>
                <a:cubicBezTo>
                  <a:pt x="4435" y="16066"/>
                  <a:pt x="4560" y="16091"/>
                  <a:pt x="4688" y="16148"/>
                </a:cubicBezTo>
                <a:cubicBezTo>
                  <a:pt x="4644" y="16311"/>
                  <a:pt x="4649" y="16259"/>
                  <a:pt x="4490" y="16197"/>
                </a:cubicBezTo>
              </a:path>
              <a:path w="472" h="1042">
                <a:moveTo>
                  <a:pt x="4217" y="17090"/>
                </a:moveTo>
                <a:cubicBezTo>
                  <a:pt x="4336" y="17090"/>
                  <a:pt x="4446" y="17071"/>
                  <a:pt x="4564" y="17066"/>
                </a:cubicBezTo>
                <a:cubicBezTo>
                  <a:pt x="4572" y="17066"/>
                  <a:pt x="4581" y="17066"/>
                  <a:pt x="4589" y="170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12960" y="5670720"/>
            <a:ext cx="401760" cy="598320"/>
          </a:xfrm>
          <a:custGeom>
            <a:avLst/>
            <a:gdLst/>
            <a:ahLst/>
            <a:rect l="l" t="t" r="r" b="b"/>
            <a:pathLst>
              <a:path w="1118" h="1663">
                <a:moveTo>
                  <a:pt x="5655" y="15801"/>
                </a:moveTo>
                <a:cubicBezTo>
                  <a:pt x="5562" y="15845"/>
                  <a:pt x="5273" y="15951"/>
                  <a:pt x="5531" y="16049"/>
                </a:cubicBezTo>
                <a:cubicBezTo>
                  <a:pt x="5581" y="16057"/>
                  <a:pt x="5630" y="16065"/>
                  <a:pt x="5680" y="16073"/>
                </a:cubicBezTo>
                <a:cubicBezTo>
                  <a:pt x="5708" y="16101"/>
                  <a:pt x="5717" y="16115"/>
                  <a:pt x="5705" y="16148"/>
                </a:cubicBezTo>
                <a:cubicBezTo>
                  <a:pt x="5596" y="16137"/>
                  <a:pt x="5550" y="16061"/>
                  <a:pt x="5631" y="15949"/>
                </a:cubicBezTo>
                <a:cubicBezTo>
                  <a:pt x="5654" y="15918"/>
                  <a:pt x="5698" y="15925"/>
                  <a:pt x="5730" y="15925"/>
                </a:cubicBezTo>
              </a:path>
              <a:path w="1118" h="1663">
                <a:moveTo>
                  <a:pt x="5904" y="15801"/>
                </a:moveTo>
                <a:cubicBezTo>
                  <a:pt x="5871" y="15949"/>
                  <a:pt x="5956" y="15952"/>
                  <a:pt x="6077" y="16024"/>
                </a:cubicBezTo>
                <a:cubicBezTo>
                  <a:pt x="6252" y="16128"/>
                  <a:pt x="6000" y="16094"/>
                  <a:pt x="5928" y="16073"/>
                </a:cubicBezTo>
              </a:path>
              <a:path w="1118" h="1663">
                <a:moveTo>
                  <a:pt x="5879" y="15850"/>
                </a:moveTo>
                <a:cubicBezTo>
                  <a:pt x="5970" y="15805"/>
                  <a:pt x="6053" y="15780"/>
                  <a:pt x="6152" y="15751"/>
                </a:cubicBezTo>
              </a:path>
              <a:path w="1118" h="1663">
                <a:moveTo>
                  <a:pt x="5060" y="17041"/>
                </a:moveTo>
                <a:cubicBezTo>
                  <a:pt x="5225" y="17078"/>
                  <a:pt x="5373" y="17187"/>
                  <a:pt x="5184" y="17363"/>
                </a:cubicBezTo>
                <a:cubicBezTo>
                  <a:pt x="5101" y="17405"/>
                  <a:pt x="5085" y="17430"/>
                  <a:pt x="5035" y="17388"/>
                </a:cubicBezTo>
                <a:cubicBezTo>
                  <a:pt x="5053" y="17243"/>
                  <a:pt x="5169" y="17249"/>
                  <a:pt x="5308" y="17264"/>
                </a:cubicBezTo>
                <a:cubicBezTo>
                  <a:pt x="5452" y="17280"/>
                  <a:pt x="5365" y="17329"/>
                  <a:pt x="5507" y="17264"/>
                </a:cubicBezTo>
              </a:path>
              <a:path w="1118" h="1663">
                <a:moveTo>
                  <a:pt x="5631" y="16942"/>
                </a:moveTo>
                <a:cubicBezTo>
                  <a:pt x="5545" y="17082"/>
                  <a:pt x="5523" y="17128"/>
                  <a:pt x="5531" y="17289"/>
                </a:cubicBezTo>
                <a:cubicBezTo>
                  <a:pt x="5674" y="17297"/>
                  <a:pt x="6002" y="17241"/>
                  <a:pt x="5879" y="16991"/>
                </a:cubicBezTo>
                <a:cubicBezTo>
                  <a:pt x="5827" y="16884"/>
                  <a:pt x="5673" y="16967"/>
                  <a:pt x="5606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13000" y="6027840"/>
            <a:ext cx="544680" cy="196920"/>
          </a:xfrm>
          <a:custGeom>
            <a:avLst/>
            <a:gdLst/>
            <a:ahLst/>
            <a:rect l="l" t="t" r="r" b="b"/>
            <a:pathLst>
              <a:path w="1515" h="547">
                <a:moveTo>
                  <a:pt x="6449" y="17165"/>
                </a:moveTo>
                <a:cubicBezTo>
                  <a:pt x="6574" y="17135"/>
                  <a:pt x="6697" y="17100"/>
                  <a:pt x="6821" y="17066"/>
                </a:cubicBezTo>
              </a:path>
              <a:path w="1515" h="547">
                <a:moveTo>
                  <a:pt x="7119" y="16842"/>
                </a:moveTo>
                <a:cubicBezTo>
                  <a:pt x="7168" y="16826"/>
                  <a:pt x="7436" y="16730"/>
                  <a:pt x="7392" y="16867"/>
                </a:cubicBezTo>
                <a:cubicBezTo>
                  <a:pt x="7339" y="16946"/>
                  <a:pt x="7319" y="16974"/>
                  <a:pt x="7268" y="17016"/>
                </a:cubicBezTo>
                <a:cubicBezTo>
                  <a:pt x="7336" y="17002"/>
                  <a:pt x="7556" y="16932"/>
                  <a:pt x="7590" y="17041"/>
                </a:cubicBezTo>
                <a:cubicBezTo>
                  <a:pt x="7666" y="17285"/>
                  <a:pt x="7262" y="17223"/>
                  <a:pt x="7193" y="17165"/>
                </a:cubicBezTo>
              </a:path>
              <a:path w="1515" h="547">
                <a:moveTo>
                  <a:pt x="7714" y="16743"/>
                </a:moveTo>
                <a:cubicBezTo>
                  <a:pt x="7617" y="16867"/>
                  <a:pt x="7606" y="16888"/>
                  <a:pt x="7615" y="17041"/>
                </a:cubicBezTo>
                <a:cubicBezTo>
                  <a:pt x="7820" y="17101"/>
                  <a:pt x="7885" y="17077"/>
                  <a:pt x="7938" y="16867"/>
                </a:cubicBezTo>
                <a:cubicBezTo>
                  <a:pt x="7834" y="16783"/>
                  <a:pt x="7642" y="16834"/>
                  <a:pt x="7764" y="16793"/>
                </a:cubicBezTo>
              </a:path>
              <a:path w="1515" h="547">
                <a:moveTo>
                  <a:pt x="6548" y="16966"/>
                </a:moveTo>
                <a:cubicBezTo>
                  <a:pt x="6548" y="16933"/>
                  <a:pt x="6548" y="16900"/>
                  <a:pt x="6548" y="16867"/>
                </a:cubicBezTo>
                <a:cubicBezTo>
                  <a:pt x="6578" y="17007"/>
                  <a:pt x="6605" y="17148"/>
                  <a:pt x="6623" y="17289"/>
                </a:cubicBezTo>
              </a:path>
              <a:path w="1515" h="547">
                <a:moveTo>
                  <a:pt x="6424" y="17190"/>
                </a:moveTo>
                <a:cubicBezTo>
                  <a:pt x="6545" y="17158"/>
                  <a:pt x="6671" y="17125"/>
                  <a:pt x="6796" y="17115"/>
                </a:cubicBezTo>
                <a:cubicBezTo>
                  <a:pt x="6804" y="17115"/>
                  <a:pt x="6813" y="17115"/>
                  <a:pt x="6821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4880" y="6153120"/>
            <a:ext cx="98280" cy="17640"/>
          </a:xfrm>
          <a:custGeom>
            <a:avLst/>
            <a:gdLst/>
            <a:ahLst/>
            <a:rect l="l" t="t" r="r" b="b"/>
            <a:pathLst>
              <a:path w="274" h="51">
                <a:moveTo>
                  <a:pt x="8458" y="17140"/>
                </a:moveTo>
                <a:cubicBezTo>
                  <a:pt x="8558" y="17113"/>
                  <a:pt x="8629" y="17097"/>
                  <a:pt x="8731" y="170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62080" y="6419880"/>
            <a:ext cx="876240" cy="179280"/>
          </a:xfrm>
          <a:custGeom>
            <a:avLst/>
            <a:gdLst/>
            <a:ahLst/>
            <a:rect l="l" t="t" r="r" b="b"/>
            <a:pathLst>
              <a:path w="2432" h="497">
                <a:moveTo>
                  <a:pt x="5730" y="17909"/>
                </a:moveTo>
                <a:cubicBezTo>
                  <a:pt x="5864" y="17909"/>
                  <a:pt x="5906" y="17886"/>
                  <a:pt x="5879" y="18033"/>
                </a:cubicBezTo>
                <a:cubicBezTo>
                  <a:pt x="5871" y="18058"/>
                  <a:pt x="5862" y="18082"/>
                  <a:pt x="5854" y="18107"/>
                </a:cubicBezTo>
                <a:cubicBezTo>
                  <a:pt x="5846" y="18107"/>
                  <a:pt x="5837" y="18107"/>
                  <a:pt x="5829" y="18107"/>
                </a:cubicBezTo>
                <a:cubicBezTo>
                  <a:pt x="5927" y="18088"/>
                  <a:pt x="5896" y="18092"/>
                  <a:pt x="6028" y="18107"/>
                </a:cubicBezTo>
                <a:cubicBezTo>
                  <a:pt x="6010" y="18215"/>
                  <a:pt x="5953" y="18278"/>
                  <a:pt x="5854" y="18331"/>
                </a:cubicBezTo>
                <a:cubicBezTo>
                  <a:pt x="5811" y="18331"/>
                  <a:pt x="5808" y="18314"/>
                  <a:pt x="5854" y="18256"/>
                </a:cubicBezTo>
              </a:path>
              <a:path w="2432" h="497">
                <a:moveTo>
                  <a:pt x="6251" y="17909"/>
                </a:moveTo>
                <a:cubicBezTo>
                  <a:pt x="6187" y="18036"/>
                  <a:pt x="6142" y="18088"/>
                  <a:pt x="6201" y="18207"/>
                </a:cubicBezTo>
                <a:cubicBezTo>
                  <a:pt x="6416" y="18218"/>
                  <a:pt x="6484" y="18197"/>
                  <a:pt x="6524" y="17983"/>
                </a:cubicBezTo>
                <a:cubicBezTo>
                  <a:pt x="6406" y="17947"/>
                  <a:pt x="6375" y="17949"/>
                  <a:pt x="6251" y="17959"/>
                </a:cubicBezTo>
              </a:path>
              <a:path w="2432" h="497">
                <a:moveTo>
                  <a:pt x="6796" y="18008"/>
                </a:moveTo>
                <a:cubicBezTo>
                  <a:pt x="6902" y="18008"/>
                  <a:pt x="6972" y="17976"/>
                  <a:pt x="7069" y="17934"/>
                </a:cubicBezTo>
              </a:path>
              <a:path w="2432" h="497">
                <a:moveTo>
                  <a:pt x="7392" y="17859"/>
                </a:moveTo>
                <a:cubicBezTo>
                  <a:pt x="7476" y="17853"/>
                  <a:pt x="7556" y="17841"/>
                  <a:pt x="7640" y="17835"/>
                </a:cubicBezTo>
                <a:cubicBezTo>
                  <a:pt x="7614" y="17976"/>
                  <a:pt x="7546" y="18125"/>
                  <a:pt x="7441" y="18231"/>
                </a:cubicBezTo>
                <a:cubicBezTo>
                  <a:pt x="7382" y="18290"/>
                  <a:pt x="7706" y="18130"/>
                  <a:pt x="7739" y="18107"/>
                </a:cubicBezTo>
              </a:path>
              <a:path w="2432" h="497">
                <a:moveTo>
                  <a:pt x="7938" y="17859"/>
                </a:moveTo>
                <a:cubicBezTo>
                  <a:pt x="7837" y="17999"/>
                  <a:pt x="7809" y="18059"/>
                  <a:pt x="7913" y="18207"/>
                </a:cubicBezTo>
                <a:cubicBezTo>
                  <a:pt x="7938" y="18191"/>
                  <a:pt x="8283" y="17956"/>
                  <a:pt x="8136" y="17909"/>
                </a:cubicBezTo>
                <a:cubicBezTo>
                  <a:pt x="8018" y="17909"/>
                  <a:pt x="7997" y="17923"/>
                  <a:pt x="7938" y="178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5080" y="6249960"/>
            <a:ext cx="590760" cy="314280"/>
          </a:xfrm>
          <a:custGeom>
            <a:avLst/>
            <a:gdLst/>
            <a:ahLst/>
            <a:rect l="l" t="t" r="r" b="b"/>
            <a:pathLst>
              <a:path w="1638" h="869">
                <a:moveTo>
                  <a:pt x="9351" y="17711"/>
                </a:moveTo>
                <a:cubicBezTo>
                  <a:pt x="9391" y="17829"/>
                  <a:pt x="9439" y="17925"/>
                  <a:pt x="9451" y="18058"/>
                </a:cubicBezTo>
                <a:cubicBezTo>
                  <a:pt x="9451" y="18066"/>
                  <a:pt x="9451" y="18075"/>
                  <a:pt x="9451" y="18083"/>
                </a:cubicBezTo>
              </a:path>
              <a:path w="1638" h="869">
                <a:moveTo>
                  <a:pt x="9847" y="17636"/>
                </a:moveTo>
                <a:cubicBezTo>
                  <a:pt x="9736" y="17738"/>
                  <a:pt x="9723" y="17782"/>
                  <a:pt x="9723" y="17934"/>
                </a:cubicBezTo>
                <a:cubicBezTo>
                  <a:pt x="9811" y="17967"/>
                  <a:pt x="9984" y="18008"/>
                  <a:pt x="10021" y="17859"/>
                </a:cubicBezTo>
                <a:cubicBezTo>
                  <a:pt x="10079" y="17629"/>
                  <a:pt x="9810" y="17682"/>
                  <a:pt x="9699" y="17711"/>
                </a:cubicBezTo>
              </a:path>
              <a:path w="1638" h="869">
                <a:moveTo>
                  <a:pt x="9079" y="18083"/>
                </a:moveTo>
                <a:cubicBezTo>
                  <a:pt x="9149" y="18099"/>
                  <a:pt x="9130" y="18101"/>
                  <a:pt x="9203" y="18132"/>
                </a:cubicBezTo>
                <a:cubicBezTo>
                  <a:pt x="9424" y="18225"/>
                  <a:pt x="9659" y="18251"/>
                  <a:pt x="9897" y="18231"/>
                </a:cubicBezTo>
                <a:cubicBezTo>
                  <a:pt x="10096" y="18214"/>
                  <a:pt x="10337" y="18087"/>
                  <a:pt x="10468" y="17934"/>
                </a:cubicBezTo>
                <a:cubicBezTo>
                  <a:pt x="10598" y="17783"/>
                  <a:pt x="10526" y="17662"/>
                  <a:pt x="10393" y="17562"/>
                </a:cubicBezTo>
                <a:cubicBezTo>
                  <a:pt x="10179" y="17401"/>
                  <a:pt x="9863" y="17359"/>
                  <a:pt x="9599" y="17363"/>
                </a:cubicBezTo>
                <a:cubicBezTo>
                  <a:pt x="9358" y="17366"/>
                  <a:pt x="9151" y="17450"/>
                  <a:pt x="9004" y="17636"/>
                </a:cubicBezTo>
                <a:cubicBezTo>
                  <a:pt x="8821" y="17868"/>
                  <a:pt x="8904" y="18094"/>
                  <a:pt x="9203" y="18157"/>
                </a:cubicBezTo>
                <a:cubicBezTo>
                  <a:pt x="9387" y="18157"/>
                  <a:pt x="9440" y="18161"/>
                  <a:pt x="9550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demcgra</cp:lastModifiedBy>
  <dcterms:modified xsi:type="dcterms:W3CDTF">2012-04-30T14:34:55Z</dcterms:modified>
  <cp:revision>5</cp:revision>
  <dc:subject/>
  <dc:title>Unit 12: Integers </dc:title>
</cp:coreProperties>
</file>